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D6A9B-33F4-480F-B799-4E11D6BB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D9229-EA61-4130-8BA2-0CBC772A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822CC-0306-4125-A15E-6D4C284B1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7ECA1-1972-4436-8A69-AB748A610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3535C-F2D1-46A5-8C36-EAEE5E4D3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65BD-F1F8-4F96-B3A8-0001AAB90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9129C-C4DA-4EA9-8984-035657BC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33D14-15ED-475B-8DDC-22C1F5612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757E7-CE5A-4BFF-A282-401AEFF13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82282-FE5D-4EA2-96F9-279E165C0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D0F78-3925-4D89-8D6F-DCE4F5F04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4132-862A-458C-9D76-3092C86F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9248-0E09-4913-8162-C7B727CED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8DFC9-6F36-4E88-BAE0-3D87AF9AB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76251-F4B1-4BF3-9420-EB8E1B007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46BCC-51B5-4E03-B37E-5C4F9DFFB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F12D1-A535-4684-9057-39231E8DE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2D199-092E-46A6-8E86-F28E9CEA5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406D3-D4C6-4086-B4B7-4E4E28D13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9AE00-84C1-4101-9CEC-ADED73DC4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89F06-145E-407A-95F4-57A370832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B097B-B1C4-47B1-85F4-3B6B38AEF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A7C3F-11A6-4867-8A86-94ECA83BB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33DDE-CB91-40AA-B885-3BC3D2E90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0B35F-056E-4400-971F-D41A4D719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8F99C-9378-4053-8338-DA3C383E4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30E87-6478-4484-BA2D-8A5DD3469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592A8-DD36-444C-9A42-A23C7436E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C9450-6E73-4247-85D0-5E4664690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B1408C-F7C9-41E6-B5AC-AD4E45675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46994-C5BA-43DB-8497-CA9A19067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4165B-A148-4E03-9648-2C435843D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CF84D-0545-4EE8-A737-03F19FEE1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DDA6-6CBD-4C28-BF6D-1F86F5DD5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E9B943-5C57-48AF-9D37-DDAFBD131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2351D-4FF1-4409-B8AE-F4DAA8298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56227-1BDC-4CA6-A49D-6B31AE75A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20AE6-3AD7-412B-B3E5-739CDE358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EB717-645B-4822-8C80-A7C66C8C2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31D8A-AC0B-4245-B610-585AAF9BD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216E3-CC14-485E-872A-0F311DCFF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FB040-ED84-4138-95DA-75E03F73BF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CD932-CF50-47CB-AEBA-6A8CDA90D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5F49-A970-4E87-A72B-F33EBB22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6B6A2-07FF-4955-B953-311076433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FF66-5873-4514-926C-BF055495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8BDB-B58F-4DBA-84C5-6D606CE5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2FA68-AB01-4C17-935D-7D8AE0971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52B2-4BA0-427D-A4C4-EDB152096E4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1F9E-28AB-4D4C-BC72-41F3F517E8A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1ABC-1F5B-4CAE-BEBC-4CCCF4F9B5E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ADBF-D624-43D0-959E-2A7C6CDDCCD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9320" y="847800"/>
            <a:ext cx="8813520" cy="2408040"/>
          </a:xfrm>
          <a:prstGeom prst="rect">
            <a:avLst/>
          </a:prstGeom>
          <a:ln w="0">
            <a:noFill/>
          </a:ln>
        </p:spPr>
      </p:pic>
      <p:sp>
        <p:nvSpPr>
          <p:cNvPr id="196" name="PlaceHolder 1"/>
          <p:cNvSpPr>
            <a:spLocks noGrp="1"/>
          </p:cNvSpPr>
          <p:nvPr>
            <p:ph type="subTitle"/>
          </p:nvPr>
        </p:nvSpPr>
        <p:spPr>
          <a:xfrm>
            <a:off x="456840" y="3580920"/>
            <a:ext cx="8077320" cy="304812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nstantia"/>
              </a:rPr>
              <a:t>URI/GSO</a:t>
            </a:r>
            <a:r>
              <a:rPr b="0" lang="en-US" sz="2600" spc="-1" strike="noStrike">
                <a:solidFill>
                  <a:srgbClr val="ffffff"/>
                </a:solidFill>
                <a:latin typeface="Constantia"/>
              </a:rPr>
              <a:t>: Isaac Ginis, Richard Yablonsky, Biju Thomas</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nstantia"/>
              </a:rPr>
              <a:t>AOML/HRD</a:t>
            </a:r>
            <a:r>
              <a:rPr b="0" lang="en-US" sz="2600" spc="-1" strike="noStrike">
                <a:solidFill>
                  <a:srgbClr val="ffffff"/>
                </a:solidFill>
                <a:latin typeface="Constantia"/>
              </a:rPr>
              <a:t>: Frank Marks, Joseph Cione, Eric Uhlhor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ff"/>
                </a:solidFill>
                <a:latin typeface="Constantia"/>
              </a:rPr>
              <a:t>  </a:t>
            </a:r>
            <a:r>
              <a:rPr b="0" lang="en-US" sz="2600" spc="-1" strike="noStrike">
                <a:solidFill>
                  <a:srgbClr val="ffffff"/>
                </a:solidFill>
                <a:latin typeface="Constantia"/>
              </a:rPr>
              <a:t>Sundaramaman Gopalakrishna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nstantia"/>
              </a:rPr>
              <a:t>UCAR</a:t>
            </a:r>
            <a:r>
              <a:rPr b="0" lang="en-US" sz="2600" spc="-1" strike="noStrike">
                <a:solidFill>
                  <a:srgbClr val="ffffff"/>
                </a:solidFill>
                <a:latin typeface="Constantia"/>
              </a:rPr>
              <a:t>: Robert Gall</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RD Modeling Group Meeting: Thursday, 16 July 2009</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AA uses coupled hurricane-ocean models operationally to forecast hurricane track and intensity</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part of the HFIP effort to improve hurricane forecasts, it is imperative to validate not only the atmospheric component of these models but also the ocean component so that future coordinated improvements can be made to the coupled system</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ean model validation requires coordinated effort between modelers and observationalists</a:t>
            </a:r>
            <a:endParaRPr b="0" lang="en-US" sz="2600" spc="-1" strike="noStrike">
              <a:solidFill>
                <a:srgbClr val="000000"/>
              </a:solidFill>
              <a:latin typeface="Constantia"/>
            </a:endParaRPr>
          </a:p>
        </p:txBody>
      </p:sp>
      <p:sp>
        <p:nvSpPr>
          <p:cNvPr id="198"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tivatio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verview of the Projec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I/GSO will create and/or obtain ocean model outp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I/GSO will provide ocean model output and analysis tools to AOML/HRD</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OML/HRD will continue to collect </a:t>
            </a:r>
            <a:r>
              <a:rPr b="0" i="1" lang="en-US" sz="2600" spc="-1" strike="noStrike">
                <a:solidFill>
                  <a:srgbClr val="000000"/>
                </a:solidFill>
                <a:latin typeface="Constantia"/>
              </a:rPr>
              <a:t>in situ</a:t>
            </a:r>
            <a:r>
              <a:rPr b="0" lang="en-US" sz="2600" spc="-1" strike="noStrike">
                <a:solidFill>
                  <a:srgbClr val="000000"/>
                </a:solidFill>
                <a:latin typeface="Constantia"/>
              </a:rPr>
              <a:t> ocean dat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OML/HRD will provide archived and new </a:t>
            </a:r>
            <a:r>
              <a:rPr b="0" i="1" lang="en-US" sz="2600" spc="-1" strike="noStrike">
                <a:solidFill>
                  <a:srgbClr val="000000"/>
                </a:solidFill>
                <a:latin typeface="Constantia"/>
              </a:rPr>
              <a:t>in situ</a:t>
            </a:r>
            <a:r>
              <a:rPr b="0" lang="en-US" sz="2600" spc="-1" strike="noStrike">
                <a:solidFill>
                  <a:srgbClr val="000000"/>
                </a:solidFill>
                <a:latin typeface="Constantia"/>
              </a:rPr>
              <a:t> data and analysis tools to URI/GSO</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I/GSO and AOML/HRD will work together to analyze and validate the ocean model results using the </a:t>
            </a:r>
            <a:r>
              <a:rPr b="0" i="1" lang="en-US" sz="2600" spc="-1" strike="noStrike">
                <a:solidFill>
                  <a:srgbClr val="000000"/>
                </a:solidFill>
                <a:latin typeface="Constantia"/>
              </a:rPr>
              <a:t>in situ </a:t>
            </a:r>
            <a:r>
              <a:rPr b="0" lang="en-US" sz="2600" spc="-1" strike="noStrike">
                <a:solidFill>
                  <a:srgbClr val="000000"/>
                </a:solidFill>
                <a:latin typeface="Constantia"/>
              </a:rPr>
              <a:t>da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cean Models: POM &amp; HYCOM</a:t>
            </a:r>
            <a:endParaRPr b="0" lang="en-US" sz="5000" spc="-1" strike="noStrike">
              <a:solidFill>
                <a:srgbClr val="04617b"/>
              </a:solidFill>
              <a:latin typeface="Calibri"/>
            </a:endParaRPr>
          </a:p>
        </p:txBody>
      </p:sp>
      <p:sp>
        <p:nvSpPr>
          <p:cNvPr id="202" name=""/>
          <p:cNvSpPr txBox="1"/>
          <p:nvPr/>
        </p:nvSpPr>
        <p:spPr>
          <a:xfrm>
            <a:off x="304920" y="1934640"/>
            <a:ext cx="853416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M: 1/6 vs. 1/12 degree horizontal resolution</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M: 1D vs. 3D dynamics (3D: upwelling &amp; advection)</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M: Coupled vs. uncoupled w/ prescribed wind stres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SU/CIRA’s tropical cyclone extended best track dataset</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OML/HRD’s H*Wind analysis</a:t>
            </a: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M: Operational vs. alternative surface drag coefficien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YCOM: Coupled vs. uncoupled w/ prescribed stres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h help from C. Lozano &amp; H.-S. Kim at NCEP/EMC</a:t>
            </a: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YCOM: EMC’s data assimilation vs. alternative data assimilation (with help from E. Chassignet at FSU)</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chived Cases and Data</a:t>
            </a:r>
            <a:endParaRPr b="0" lang="en-US" sz="5000" spc="-1" strike="noStrike">
              <a:solidFill>
                <a:srgbClr val="04617b"/>
              </a:solidFill>
              <a:latin typeface="Calibri"/>
            </a:endParaRPr>
          </a:p>
        </p:txBody>
      </p:sp>
      <p:graphicFrame>
        <p:nvGraphicFramePr>
          <p:cNvPr id="204" name=""/>
          <p:cNvGraphicFramePr/>
          <p:nvPr/>
        </p:nvGraphicFramePr>
        <p:xfrm>
          <a:off x="457200" y="1935000"/>
          <a:ext cx="8229600" cy="4449960"/>
        </p:xfrm>
        <a:graphic>
          <a:graphicData uri="http://schemas.openxmlformats.org/drawingml/2006/table">
            <a:tbl>
              <a:tblPr/>
              <a:tblGrid>
                <a:gridCol w="685800"/>
                <a:gridCol w="1295280"/>
                <a:gridCol w="1981440"/>
                <a:gridCol w="1143000"/>
                <a:gridCol w="106668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Hurric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Data Source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urce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urce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Location (1 &amp;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usta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N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N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 Car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li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 Car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atr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a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 At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v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CPs/CT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o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 Carib/S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sid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XBTs/CPs/CT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 Carib/S Gu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rics for Validation</a:t>
            </a:r>
            <a:endParaRPr b="0" lang="en-US" sz="5000" spc="-1" strike="noStrike">
              <a:solidFill>
                <a:srgbClr val="04617b"/>
              </a:solidFill>
              <a:latin typeface="Calibri"/>
            </a:endParaRPr>
          </a:p>
        </p:txBody>
      </p:sp>
      <p:sp>
        <p:nvSpPr>
          <p:cNvPr id="206" name=""/>
          <p:cNvSpPr txBox="1"/>
          <p:nvPr/>
        </p:nvSpPr>
        <p:spPr>
          <a:xfrm>
            <a:off x="380880" y="1752120"/>
            <a:ext cx="8382240" cy="4389480"/>
          </a:xfrm>
          <a:prstGeom prst="rect">
            <a:avLst/>
          </a:prstGeom>
          <a:noFill/>
          <a:ln w="0">
            <a:noFill/>
          </a:ln>
        </p:spPr>
        <p:txBody>
          <a:bodyPr anchor="t">
            <a:normAutofit fontScale="88000"/>
          </a:bodyPr>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storm SST (critical)</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ST cooling at locations within storm core (critical)</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rricane wind forcing</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storm, upper-ocean temperature, especially mixed layer depth &amp; upper-thermocline stratification</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storm, upper-ocean salinity &amp; currents, especially in regions of large mesoscale variability</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mp; post-storm, upper-ocean temperature, especially change in mixed layer temperature &amp; depth</a:t>
            </a:r>
            <a:endParaRPr b="0" lang="en-US" sz="2400" spc="-1" strike="noStrike">
              <a:solidFill>
                <a:srgbClr val="000000"/>
              </a:solidFill>
              <a:latin typeface="Constantia"/>
            </a:endParaRPr>
          </a:p>
          <a:p>
            <a:pPr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mp; post-st0rm, upper-ocean salinity &amp; currents, especially current magnitude &amp; pattern of current vector rotation in space &amp; tim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Richard</dc:creator>
  <dc:description/>
  <dc:language>en-US</dc:language>
  <cp:lastModifiedBy>Richard M. Yablonsky</cp:lastModifiedBy>
  <dcterms:modified xsi:type="dcterms:W3CDTF">2009-07-14T16:32:07Z</dcterms:modified>
  <cp:revision>11</cp:revision>
  <dc:subject/>
  <dc:title>Slide 1</dc:title>
</cp:coreProperties>
</file>