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1B94-151D-43DD-8B36-14516CEA3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4FC4-DCA5-4BD6-98E2-2091798D5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A78-ECF0-425B-BD42-6753EE9B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3FA2-D776-4BF7-A561-B63056DE2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69F-99F9-4F6E-9FB7-6EA086BE8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DB49-775C-4830-AFE6-554539341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3C0-E545-4E88-9AAC-6C21BEF46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8D68-18E2-42D5-84D2-3841AF5CC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F07-0B5E-4F75-8784-E84AB46A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1C8-7D11-4287-A64F-47296B58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41B-CE25-4C80-93D7-99B9F172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6C1-EB72-4C2C-8FAB-824BB18F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B6B-C207-4D4E-87FE-F2F8FE6D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B7C-AF8B-4D7C-B926-E813F2E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B38-A8DE-4AA4-8151-A0CF7B02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268-A930-4150-ABB5-BCE95DFB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152-6EC2-4EED-9389-0A32C73B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779-E157-4F4A-BC2C-E2FC352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DFB-8F59-4B30-8D5A-2FDCD86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3FE-F41E-4B70-BB5D-7DD6F4A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747-D1B7-4FAA-8517-A401EC6C2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09760" y="1138320"/>
          <a:ext cx="812448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138320"/>
                    <a:ext cx="812448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Box 4"/>
          <p:cNvSpPr/>
          <p:nvPr/>
        </p:nvSpPr>
        <p:spPr>
          <a:xfrm>
            <a:off x="2834280" y="38088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ar legs used in compo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4819" r="0" b="0"/>
          <a:stretch/>
        </p:blipFill>
        <p:spPr>
          <a:xfrm>
            <a:off x="304920" y="534960"/>
            <a:ext cx="4267080" cy="304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0" t="5153" r="0" b="0"/>
          <a:stretch/>
        </p:blipFill>
        <p:spPr>
          <a:xfrm>
            <a:off x="4572000" y="546120"/>
            <a:ext cx="4267080" cy="303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rcRect l="0" t="5096" r="0" b="0"/>
          <a:stretch/>
        </p:blipFill>
        <p:spPr>
          <a:xfrm>
            <a:off x="304920" y="3668760"/>
            <a:ext cx="4267080" cy="303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rcRect l="0" t="5096" r="0" b="0"/>
          <a:stretch/>
        </p:blipFill>
        <p:spPr>
          <a:xfrm>
            <a:off x="4572000" y="3668760"/>
            <a:ext cx="42670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833400" y="544680"/>
            <a:ext cx="37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5037120" y="5446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840240" y="3681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108400" y="368136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B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2097360" y="76320"/>
            <a:ext cx="47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*-z plots from Doppler swath data (r* = r/RM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5430" r="0" b="0"/>
          <a:stretch/>
        </p:blipFill>
        <p:spPr>
          <a:xfrm>
            <a:off x="293760" y="544680"/>
            <a:ext cx="4267080" cy="302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rcRect l="0" t="5424" r="0" b="0"/>
          <a:stretch/>
        </p:blipFill>
        <p:spPr>
          <a:xfrm>
            <a:off x="4584600" y="554040"/>
            <a:ext cx="4267440" cy="302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rcRect l="0" t="5039" r="0" b="0"/>
          <a:stretch/>
        </p:blipFill>
        <p:spPr>
          <a:xfrm>
            <a:off x="293760" y="366876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rcRect l="0" t="5373" r="0" b="0"/>
          <a:stretch/>
        </p:blipFill>
        <p:spPr>
          <a:xfrm>
            <a:off x="4584600" y="3689280"/>
            <a:ext cx="4267440" cy="3029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829800" y="5317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105160" y="531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844920" y="36399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ert mass fl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101560" y="36464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bs angul m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2097360" y="76320"/>
            <a:ext cx="47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*-z plots from Doppler swath data (r* = r/RM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0" t="4724" r="0" b="0"/>
          <a:stretch/>
        </p:blipFill>
        <p:spPr>
          <a:xfrm>
            <a:off x="0" y="72864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0" t="4300" r="0" b="0"/>
          <a:stretch/>
        </p:blipFill>
        <p:spPr>
          <a:xfrm>
            <a:off x="2938320" y="717480"/>
            <a:ext cx="3353040" cy="240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rcRect l="0" t="4724" r="2598" b="0"/>
          <a:stretch/>
        </p:blipFill>
        <p:spPr>
          <a:xfrm>
            <a:off x="5878440" y="728640"/>
            <a:ext cx="3265560" cy="239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rcRect l="0" t="4863" r="0" b="0"/>
          <a:stretch/>
        </p:blipFill>
        <p:spPr>
          <a:xfrm>
            <a:off x="0" y="3551400"/>
            <a:ext cx="3352680" cy="239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5"/>
          <a:srcRect l="0" t="4863" r="0" b="0"/>
          <a:stretch/>
        </p:blipFill>
        <p:spPr>
          <a:xfrm>
            <a:off x="2928960" y="3551400"/>
            <a:ext cx="3352680" cy="239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6"/>
          <a:srcRect l="0" t="4863" r="2598" b="0"/>
          <a:stretch/>
        </p:blipFill>
        <p:spPr>
          <a:xfrm>
            <a:off x="5878440" y="3551400"/>
            <a:ext cx="3265560" cy="2392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072080" y="5335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 &lt; 0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687120" y="53352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5*RMW ≤ r &lt; 0.7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05000" y="53352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75*RMW ≤ r &lt; 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912240" y="33591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MW ≤ r &lt; 1.2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3744360" y="334800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25*RMW ≤ r &lt; 1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6972120" y="33480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5*RMW ≤ 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1915560" y="76320"/>
            <a:ext cx="57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tical motion CFADs stratified by location relative to R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4300" r="0" b="0"/>
          <a:stretch/>
        </p:blipFill>
        <p:spPr>
          <a:xfrm>
            <a:off x="0" y="706320"/>
            <a:ext cx="3352680" cy="240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0" t="4724" r="0" b="0"/>
          <a:stretch/>
        </p:blipFill>
        <p:spPr>
          <a:xfrm>
            <a:off x="2927520" y="72864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rcRect l="0" t="4724" r="2220" b="0"/>
          <a:stretch/>
        </p:blipFill>
        <p:spPr>
          <a:xfrm>
            <a:off x="5865840" y="728640"/>
            <a:ext cx="3278160" cy="23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rcRect l="0" t="4863" r="0" b="0"/>
          <a:stretch/>
        </p:blipFill>
        <p:spPr>
          <a:xfrm>
            <a:off x="0" y="3551400"/>
            <a:ext cx="3352680" cy="23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5"/>
          <a:srcRect l="0" t="4439" r="0" b="0"/>
          <a:stretch/>
        </p:blipFill>
        <p:spPr>
          <a:xfrm>
            <a:off x="2940120" y="3540240"/>
            <a:ext cx="3352680" cy="240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6"/>
          <a:srcRect l="0" t="4510" r="3225" b="0"/>
          <a:stretch/>
        </p:blipFill>
        <p:spPr>
          <a:xfrm>
            <a:off x="5867280" y="3540240"/>
            <a:ext cx="3245040" cy="2401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1072080" y="5014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 &lt; 0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687120" y="50148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5*RMW ≤ r &lt; 0.7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6705000" y="50148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75*RMW ≤ r &lt; 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912240" y="33591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MW ≤ r &lt; 1.2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744360" y="334800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25*RMW ≤ r &lt; 1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972120" y="33480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5*RMW ≤ 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1917000" y="7632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lectivity CFADs stratified by location relative to R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0" t="4724" r="0" b="0"/>
          <a:stretch/>
        </p:blipFill>
        <p:spPr>
          <a:xfrm>
            <a:off x="0" y="72864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rcRect l="0" t="4300" r="0" b="0"/>
          <a:stretch/>
        </p:blipFill>
        <p:spPr>
          <a:xfrm>
            <a:off x="2927520" y="717480"/>
            <a:ext cx="3352680" cy="240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rcRect l="0" t="4792" r="951" b="0"/>
          <a:stretch/>
        </p:blipFill>
        <p:spPr>
          <a:xfrm>
            <a:off x="5834160" y="717480"/>
            <a:ext cx="3321000" cy="23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rcRect l="0" t="4863" r="0" b="0"/>
          <a:stretch/>
        </p:blipFill>
        <p:spPr>
          <a:xfrm>
            <a:off x="0" y="3551400"/>
            <a:ext cx="3352680" cy="239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rcRect l="0" t="4863" r="0" b="0"/>
          <a:stretch/>
        </p:blipFill>
        <p:spPr>
          <a:xfrm>
            <a:off x="2940120" y="3551400"/>
            <a:ext cx="3352680" cy="239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rcRect l="0" t="4863" r="0" b="0"/>
          <a:stretch/>
        </p:blipFill>
        <p:spPr>
          <a:xfrm>
            <a:off x="5834160" y="3562200"/>
            <a:ext cx="3352680" cy="2392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072080" y="5335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 &lt; 0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687120" y="53352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5*RMW ≤ r &lt; 0.7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6705000" y="53352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75*RMW ≤ r &lt; 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912240" y="33591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MW ≤ r &lt; 1.2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744360" y="334800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25*RMW ≤ r &lt; 1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6972120" y="33480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5*RMW ≤ 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2008440" y="76320"/>
            <a:ext cx="51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rticity CFADs stratified by location relative to R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0" t="4086" r="0" b="0"/>
          <a:stretch/>
        </p:blipFill>
        <p:spPr>
          <a:xfrm>
            <a:off x="0" y="712800"/>
            <a:ext cx="3352680" cy="24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rcRect l="0" t="4086" r="0" b="0"/>
          <a:stretch/>
        </p:blipFill>
        <p:spPr>
          <a:xfrm>
            <a:off x="2895480" y="712800"/>
            <a:ext cx="3353040" cy="24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rcRect l="0" t="4510" r="3225" b="0"/>
          <a:stretch/>
        </p:blipFill>
        <p:spPr>
          <a:xfrm>
            <a:off x="5867280" y="722160"/>
            <a:ext cx="3245040" cy="240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rcRect l="0" t="4863" r="0" b="0"/>
          <a:stretch/>
        </p:blipFill>
        <p:spPr>
          <a:xfrm>
            <a:off x="0" y="3551400"/>
            <a:ext cx="3352680" cy="2392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rcRect l="0" t="4439" r="0" b="0"/>
          <a:stretch/>
        </p:blipFill>
        <p:spPr>
          <a:xfrm>
            <a:off x="2895480" y="3540240"/>
            <a:ext cx="3353040" cy="240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6"/>
          <a:srcRect l="0" t="4439" r="2907" b="0"/>
          <a:stretch/>
        </p:blipFill>
        <p:spPr>
          <a:xfrm>
            <a:off x="5867280" y="3540240"/>
            <a:ext cx="3256200" cy="2403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1072080" y="53352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 &lt; 0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687120" y="53352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5*RMW ≤ r &lt; 0.7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6705000" y="53352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.75*RMW ≤ r &lt; 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912240" y="335916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MW ≤ r &lt; 1.2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3744360" y="334800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25*RMW ≤ r &lt; 1.5*R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6972120" y="33480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5*RMW ≤ 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010600" y="7632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ergence CFADs stratified by location relative to RM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7:29:37Z</dcterms:created>
  <dc:creator> R. Rogers</dc:creator>
  <dc:description/>
  <dc:language>en-US</dc:language>
  <cp:lastModifiedBy> R. Rogers</cp:lastModifiedBy>
  <dcterms:modified xsi:type="dcterms:W3CDTF">2009-07-03T20:09:30Z</dcterms:modified>
  <cp:revision>19</cp:revision>
  <dc:subject/>
  <dc:title>Slide 1</dc:title>
</cp:coreProperties>
</file>