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FDFF-BB89-46A1-8BA5-3F7C334C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367A-BFBF-40BC-9A0A-4F2FF013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7F14-55B4-4C86-9065-4B30B70B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65E5-3DC6-43C6-9025-A882F4BE3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FF9A-9E72-49A1-BB38-98A6788F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F224-4798-477E-9A70-2D0B03E0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D350-81F7-4D21-B6A0-6F4C5085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F880-7A41-4E7E-B1AE-7C9F583C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1178-B6D4-4EEC-88EA-FEE54941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6BD0-5E5E-47ED-A72C-89D6AA9C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5EBA-5165-4BB2-AB0E-25AC20B4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A137-6870-4E7B-B930-22C680AF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C36F-E01D-484D-A6FD-B6B3D8CD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BC8B-7A56-46E0-B87C-0BFA2292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A125-198C-4278-9AE3-75CD731B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6AE4-153B-4F6F-819E-96DF1798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7018-40C7-4016-9645-404486A4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B74B-1781-4CC2-AA16-5B1373A0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1C0F-EF07-4AF2-82CE-C3BC3719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0014-A710-44A7-A05A-670608E8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9315-996C-4732-9C34-1430BA5C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3EFE-8308-4971-BE9F-0C481F74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8836-B41F-4966-AD49-937CC758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CD25-E700-4E62-B109-D7D01ABB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5DC2-7094-4522-A4BF-CF336466E00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4308-76FE-4FD3-B0C2-5D567BF2965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251460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Potential Impact of Non-Hydrostatic Processes on HWRF Model Runs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523880" y="54860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atherine S. Mac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orado State Univers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artment of Atmospheric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Back of the envelop…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496880" y="2259000"/>
                <a:ext cx="9414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523880" y="5105520"/>
                <a:ext cx="13845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≃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ρ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410080" y="5181480"/>
                <a:ext cx="18115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5" name=""/>
          <p:cNvGrpSpPr/>
          <p:nvPr/>
        </p:nvGrpSpPr>
        <p:grpSpPr>
          <a:xfrm>
            <a:off x="1371600" y="3429000"/>
            <a:ext cx="4470480" cy="1753920"/>
            <a:chOff x="1371600" y="3429000"/>
            <a:chExt cx="4470480" cy="1753920"/>
          </a:xfrm>
        </p:grpSpPr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1371600" y="3429000"/>
                  <a:ext cx="447048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p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⋅</m:t>
                      </m:r>
                      <m:r>
                        <m:t xml:space="preserve">∇</m:t>
                      </m:r>
                      <m:r>
                        <m:t xml:space="preserve">p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t xml:space="preserve">w</m:t>
                      </m:r>
                      <m:r>
                        <m:t xml:space="preserve">≃</m:t>
                      </m:r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rPr>
                          <m:lit/>
                          <m:nor/>
                        </m:rPr>
                        <m:t xml:space="preserve">gw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7" name=""/>
            <p:cNvSpPr/>
            <p:nvPr/>
          </p:nvSpPr>
          <p:spPr>
            <a:xfrm>
              <a:off x="4343400" y="4267080"/>
              <a:ext cx="152280" cy="609480"/>
            </a:xfrm>
            <a:prstGeom prst="upArrow">
              <a:avLst>
                <a:gd name="adj1" fmla="val 50000"/>
                <a:gd name="adj2" fmla="val 100059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68400" y="4814640"/>
              <a:ext cx="183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ominant te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836720" y="3429000"/>
            <a:ext cx="64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ximum omega anywhere in the forecast = 18.2 hPa/s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um omega anywhere in the forecast = -42.3 hPa/s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Wilma 10-18-00z run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438280" y="2357280"/>
                <a:ext cx="12258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≃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ρ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952880" y="2362320"/>
                <a:ext cx="181152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454040" y="4876920"/>
                <a:ext cx="28368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hr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600</m:t>
                    </m:r>
                    <m:r>
                      <m:rPr>
                        <m:lit/>
                        <m:nor/>
                      </m:rPr>
                      <m:t xml:space="preserve">se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447920" y="5210280"/>
                <a:ext cx="18763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6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471680" y="5608800"/>
                <a:ext cx="14796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700520" y="5257800"/>
                <a:ext cx="372924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216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71680" y="5956200"/>
                <a:ext cx="17524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gm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omments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47920" y="22856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pite the fact that the model can produce vertical velocities that would be of interest, the contribution that these velocities have on the model energetics budget remains negligibly smal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fore, the energy budget calculations can be done using the hydrostatic approximate model equ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answer” will be, for all practical purposes, the sam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03:38:06Z</dcterms:created>
  <dc:creator>Me</dc:creator>
  <dc:description/>
  <dc:language>en-US</dc:language>
  <cp:lastModifiedBy>KatMac</cp:lastModifiedBy>
  <dcterms:modified xsi:type="dcterms:W3CDTF">2009-07-15T15:00:21Z</dcterms:modified>
  <cp:revision>161</cp:revision>
  <dc:subject/>
  <dc:title>A Preliminary Study of Hurricane Wind Structure Evolution Using HWRF</dc:title>
</cp:coreProperties>
</file>