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A109-53BE-475E-9A18-1D28D9BD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8C93-3A7F-4965-8504-36C26A9B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A7E1-3BD7-4F78-AC00-0706CC57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5FCC-CEE9-4F83-B873-CACE2A30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9863-3A77-4229-B2B4-F2AE2304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024-1178-48B7-9009-148BB3F8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416D-2ADC-4884-9C33-23FA5B12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238A-772E-495C-9DE8-13CF50E7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47A4-A1FD-4711-B97C-02179B79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A19-F9B8-4D26-8101-154479D7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40AB-F6CF-4E7E-B3F6-B29204CD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01F-9507-43D2-AE60-87A0610F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C26F-171F-452E-BF04-95B239796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Queue and HWRFx Auto-Ru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229600" cy="3973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72200" y="731880"/>
            <a:ext cx="2819520" cy="193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5791320" y="18288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Queue and HWRFx Auto-Ru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62280" y="838080"/>
            <a:ext cx="5419440" cy="3000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4114800"/>
            <a:ext cx="5029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multiple cycles of inte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rt storms by priori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n storm 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basins of 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intensity (named or INVEST stor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 number of storms simulated per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multiple storms in parall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4114800"/>
            <a:ext cx="4343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HWRFx op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WRF/GFDL/GFS initial 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 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rly post-processing (for Map Discuss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s-storage archi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notif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h logs and tr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62280" y="838080"/>
            <a:ext cx="5419440" cy="3000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862280" y="838080"/>
            <a:ext cx="54194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03:09:55Z</dcterms:created>
  <dc:creator>Grilo</dc:creator>
  <dc:description/>
  <dc:language>en-US</dc:language>
  <cp:lastModifiedBy>Grilo</cp:lastModifiedBy>
  <dcterms:modified xsi:type="dcterms:W3CDTF">2009-07-16T03:56:09Z</dcterms:modified>
  <cp:revision>2</cp:revision>
  <dc:subject/>
  <dc:title>HQueue and HWRFx Auto-Runner</dc:title>
</cp:coreProperties>
</file>