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04F-8C9B-4763-A499-0CFB16B9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264-31BC-45FC-9693-70D72980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9B3-B7CC-44DF-92A1-D4A1E50E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6E4-B4F6-440D-A512-13F19B68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76B-598B-44A9-8CDE-01CCF9D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31D-53AC-4BE7-9933-CBA1CCC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9B4-B726-477E-A2D5-845C38FD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C0A-E75A-4E5E-9CD9-B1F0E3CF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F75-7FD0-4275-9983-EE5B0619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5C1-2648-46D4-A21D-AE851C35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69E-33BB-43B3-A668-236591C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A93-B7D6-4530-ACBE-64518837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C0009-D189-4F9E-BB4A-FB183DB89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9765F-6CAD-4643-B435-BA02E7EA8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73560" y="56052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gh-resolution numerical simulation of tropical cycl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nsity changes with assimilation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tellite, radar and in-situ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---- An overview of current research activit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682000" y="3352680"/>
            <a:ext cx="36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haoxia 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Meteor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Ut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683440" y="579132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OML/HRD modeling group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pril 19,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143000" y="658800"/>
            <a:ext cx="72388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Overall Research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nderstand the dynamic, thermodynamic and physical processes that control the tropical cyclone intensity changes, especially the rapid inten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vestigate to what extent can data assimilation improve the forecast of TC intensity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066680" y="457200"/>
            <a:ext cx="723924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Research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igh-resolution numerical simulations  with WRF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ata Assimi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ircraft dropso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adar (reflectivity and win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QuickS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IRS/Aqua temperature and moisture pro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3804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M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28600" y="380880"/>
            <a:ext cx="83059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st recent results and public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, Z. 2009: Assimilation of satellite data in improving numerical simulations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pical cyclones: progress, challenge and development. Book Chapter in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ssimilation for Atmospheric, Oceanic, and Hydrologic Applications”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. by S.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k and L. Xu,  The Springer-Verlag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, Z., L. Zhang, 2009: Impact of AIRS data on the numerical simulation of tropical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clones, To be submitted to QJR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, Z., X. Li and J. Sun, 2009: Impact of airborne Doppler radar data assimilation 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umerical simulation of intensity changes of Hurricane Dennis near a landf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itted to J. Atmos. S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, Z., X. Li and E. Zipser, 2009: Diagnosis of the initial and forecast errors in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erical simulation of the rapid intensification of Hurricane Emily (2005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ecast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 (conditionally accept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, X. and  Z. Pu, 2009: Sensitivity of numerical simulations of the early rap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of Hurricane Emily (2005) to cumulus parameterization schemes i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 model grid resolution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. Meteorol. Soc. Japan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Accept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, X. and Z. Pu, 2008:  Sensitivity of numerical simulation of early rap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of Hurricane Emily (2005) to cloud microphysical and plan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 layer parameterization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. Wea. Rev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6, 4819-48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, Z., X. Li, C. Velden,S. Aberson, W. T. Liu, 2008: Impact of aircraft dropso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atellite wind data on the numerical simulation of two landfalling trop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ms during TCSP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a. Forecas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, 62-7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832680" y="685800"/>
            <a:ext cx="76849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going activities and future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of moisture convection to tropical cyclone formation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ty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 on the radar and satellite radiance data assimilation for hurric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ing system simulation experi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sess the potential impact of future space-based measu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hurricane track and intensity forecas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34:13Z</dcterms:created>
  <dc:creator>Zhaoxia Pu</dc:creator>
  <dc:description/>
  <dc:language>en-US</dc:language>
  <cp:lastModifiedBy>gopal</cp:lastModifiedBy>
  <dcterms:modified xsi:type="dcterms:W3CDTF">2009-03-18T18:14:30Z</dcterms:modified>
  <cp:revision>17</cp:revision>
  <dc:subject/>
  <dc:title>Slide 1</dc:title>
</cp:coreProperties>
</file>