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AA94-F975-49E6-99FD-2AD09615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B3264-CA9A-4355-816F-62CD3D5D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26F21-FEB9-43D9-9FF5-EAD8ED06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25A17-BD8A-4916-8681-4C0AFFEA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138B-ED60-4A73-A97A-73736ED9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0634-F229-4445-BE21-113266DF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596F-9CAF-4DE9-B0F3-DCC652D7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7EA9-AC1C-4BBA-9AD7-55137A52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8144-71DB-45A4-936F-9A89804B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BE61-026E-4375-9BB4-2A30EF97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6B06-B3E4-475B-8FD5-A9DF1E82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69BB0-3E05-484E-882A-25413978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FA80-BB33-491F-90B2-E1CCB4BE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DC70-5F19-4315-BB96-185AB8E3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7B4D-B739-4F18-AADA-0C6BE173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D7D8-89D9-420A-A977-2054A68C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9242-3C2A-414E-9B97-674567DE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0B81-3842-430B-B4A1-E3CD3CED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B3A70-096B-4166-9AFF-52BA010B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A6BE1-F84E-498F-BA62-F089A2E7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DE524-6970-48ED-AD65-AD534023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C160E-6F98-475D-A30B-1BA9F137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12E44-624E-4793-A4F3-C3D28709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6748C-A663-4D8A-8FE2-9C78A8BD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CE77-CF2B-4B48-B663-0636383EE1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EAFF-960A-4686-A5CA-AEB2EC9164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93600" y="1752480"/>
            <a:ext cx="6108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AA HFIP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gh-Resolution Hurricane Tes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-update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140000" y="4406400"/>
            <a:ext cx="4622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gia Bernard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rch 19, 200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2760" y="27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RH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25760"/>
            <a:ext cx="834408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6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effect of increasing horizontal resolu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thin a given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hurricane intensity 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cc"/>
              </a:buClr>
              <a:buSzPct val="6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data set to explore the potential value of a multi-model ensemble for improving hurricane fore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odeling groups (URI: GFDL, UWM: UW Non-hydro Modeling System, AOML:  WRF-NMM, NRL:  COAMPS,  MMM:  WRF-ARW, PSU: WRF-AR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F Developmental Testbed Center (D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Hurricane Center (NH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2760" y="1652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-Test preparations at D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9800" y="1201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d prioritized list of cases (10 storms – 69 c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archive of input and verification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d method for transferring files to/from modeling groups and D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d computer resources for some model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Output Module (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ed / ported / adapted / developed / automated verification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FDL Tracker – many changes for high-res moving nests (collaboration with Tim Marchok of GFD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HC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Intensification / Weakening (RI/RW)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s (NCAR Command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31640" y="1531800"/>
            <a:ext cx="822960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casts delivered to DTC September 2008 – Januar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 and Final Report – March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9720" y="5940360"/>
            <a:ext cx="7404120" cy="14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Report (HFIP - Fred Toepfer) – Jun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9720" y="4843440"/>
            <a:ext cx="740412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 – 7-8 Ma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9720" y="4295880"/>
            <a:ext cx="8293320" cy="199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of all  runs to be analyzed for Workshop – April 08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9720" y="5392800"/>
            <a:ext cx="8293320" cy="174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of all runs to be analyzed for Report – Ma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9720" y="3746520"/>
            <a:ext cx="8293320" cy="14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931760" indent="9711360">
              <a:spcBef>
                <a:spcPts val="125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tests of I/O implementation – March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419040" y="3030480"/>
            <a:ext cx="8229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d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9040" y="253800"/>
            <a:ext cx="82296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– March 18,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72960" y="1176480"/>
          <a:ext cx="8016840" cy="5165640"/>
        </p:xfrm>
        <a:graphic>
          <a:graphicData uri="http://schemas.openxmlformats.org/drawingml/2006/table">
            <a:tbl>
              <a:tblPr/>
              <a:tblGrid>
                <a:gridCol w="1603440"/>
                <a:gridCol w="1603440"/>
                <a:gridCol w="1603440"/>
                <a:gridCol w="1603440"/>
                <a:gridCol w="160308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ing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 DTC test I/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ated with DTC on I/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d test I/O for at least one resolution and one lea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 DTC a set (126-h forecast, 30 min, at least 2 resolut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a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a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US" sz="1800" spc="-1" strike="noStrike">
                          <a:solidFill>
                            <a:srgbClr val="009a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a00"/>
                          </a:solidFill>
                          <a:latin typeface="Arial"/>
                        </a:rPr>
                        <a:t>(excp need preci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a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a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a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n 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a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a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a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a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a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a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a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9040" y="253800"/>
            <a:ext cx="82296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Work at the DT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165240" y="1379520"/>
            <a:ext cx="8978760" cy="45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new test files every week and assisting model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 navigation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s with unrealistic min/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representation of missing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stamp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 with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s that start as tropical depression are difficult to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izing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ping for production cases delivered by April 08 deadline to have critical mass of results to hold workshop in M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20:34:34Z</dcterms:created>
  <dc:creator>jwolff</dc:creator>
  <dc:description/>
  <dc:language>en-US</dc:language>
  <cp:lastModifiedBy>gopal</cp:lastModifiedBy>
  <cp:lastPrinted>2009-02-13T18:06:16Z</cp:lastPrinted>
  <dcterms:modified xsi:type="dcterms:W3CDTF">2009-03-18T16:53:14Z</dcterms:modified>
  <cp:revision>278</cp:revision>
  <dc:subject/>
  <dc:title>Users Support: Status and Plans</dc:title>
</cp:coreProperties>
</file>