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713-738F-458D-934A-B7886D8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2CF-C5DF-4964-B410-EBC2E21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395-8862-4A65-9A55-4014A62D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597-4E65-4ECC-8927-859562C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C8D-1E71-4870-9409-CC0C7D8E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5A3-6E6D-4E68-AB43-BB47FE84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9FD-E888-4602-A806-51E998A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7FF-4A36-4BDF-933E-3C4CA0B8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2C2-C851-4945-AE58-E3A7A23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A89-55DB-42D1-9AD0-8E8EB3C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07C-C15B-45E5-990B-8507D75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9B9-6D87-41D9-AAE1-64AD01D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377-7B99-40D7-9844-4C82918D7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152280"/>
            <a:ext cx="4800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lly 2008-07-22 00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visualization of observ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obs selec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-to-obs inter-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a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-T with obs (dropsonde and airplane radar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ng GUI to ES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e HFIP runs in W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-N-Play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FIP 09:03 Km test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9:07Z</dcterms:created>
  <dc:creator>Grilo</dc:creator>
  <dc:description/>
  <dc:language>en-US</dc:language>
  <cp:lastModifiedBy> gopal</cp:lastModifiedBy>
  <dcterms:modified xsi:type="dcterms:W3CDTF">2009-02-19T13:43:03Z</dcterms:modified>
  <cp:revision>3</cp:revision>
  <dc:subject/>
  <dc:title>Slide 1</dc:title>
</cp:coreProperties>
</file>