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6934-EEAF-4EE3-BC8B-328C7482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759F-960B-44D4-8668-D3299A81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0086-6C4F-488C-BDE5-4B2D707A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9A0-35CF-4F5F-B46B-0A02550B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C79-8080-44A4-9169-E7CB3B22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8D5-A4F4-439D-BF6E-B061A483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185-F70B-47A1-9DD8-3F4F24A2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32C-C43F-4D85-BB2B-0B826904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285-9691-481B-B3B1-B4CA42EB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B08-D722-440C-B94D-5DDD501F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D5B-C5C0-4158-8317-F3CE99EF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9CDA-1184-4755-B967-2F4571CF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EF1D-3F21-4286-85AE-38E1D1901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163440"/>
            <a:ext cx="8839440" cy="371520"/>
            <a:chOff x="152280" y="163440"/>
            <a:chExt cx="8839440" cy="371520"/>
          </a:xfrm>
        </p:grpSpPr>
        <p:sp>
          <p:nvSpPr>
            <p:cNvPr id="42" name=""/>
            <p:cNvSpPr/>
            <p:nvPr/>
          </p:nvSpPr>
          <p:spPr>
            <a:xfrm>
              <a:off x="152280" y="16668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H.R. Winterbott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638680" y="163440"/>
              <a:ext cx="33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WRF-ARW/HYCOM Mode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-838080" y="838080"/>
            <a:ext cx="4927320" cy="53960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4267080" y="485640"/>
            <a:ext cx="4059000" cy="6112080"/>
            <a:chOff x="4267080" y="485640"/>
            <a:chExt cx="4059000" cy="6112080"/>
          </a:xfrm>
        </p:grpSpPr>
        <p:pic>
          <p:nvPicPr>
            <p:cNvPr id="46" name="" descr=""/>
            <p:cNvPicPr/>
            <p:nvPr/>
          </p:nvPicPr>
          <p:blipFill>
            <a:blip r:embed="rId2">
              <a:lum contrast="-30000"/>
            </a:blip>
            <a:stretch/>
          </p:blipFill>
          <p:spPr>
            <a:xfrm>
              <a:off x="4267080" y="485640"/>
              <a:ext cx="4059000" cy="324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4267080" y="3352680"/>
              <a:ext cx="4059000" cy="324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>
            <a:off x="228600" y="6324480"/>
            <a:ext cx="83808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6629400"/>
            <a:ext cx="8380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61722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Coupled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64771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Un-coupled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6307200"/>
            <a:ext cx="5791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crosoft Sans Serif"/>
              </a:rPr>
              <a:t>Forecast Dates: 00Z 09 July 2008 – 00Z 12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639720"/>
            <a:ext cx="2286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Minimum Sea-Level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3535200"/>
            <a:ext cx="228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Integrated Kinetic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1096920"/>
            <a:ext cx="228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icrosoft Sans Serif"/>
              </a:rPr>
              <a:t>Forecast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52280" y="163440"/>
            <a:ext cx="8839440" cy="371520"/>
            <a:chOff x="152280" y="163440"/>
            <a:chExt cx="8839440" cy="371520"/>
          </a:xfrm>
        </p:grpSpPr>
        <p:sp>
          <p:nvSpPr>
            <p:cNvPr id="57" name=""/>
            <p:cNvSpPr/>
            <p:nvPr/>
          </p:nvSpPr>
          <p:spPr>
            <a:xfrm>
              <a:off x="152280" y="16668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H.R. Winterbott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8680" y="163440"/>
              <a:ext cx="33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WRF-ARW/HYCOM Mode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623880"/>
            <a:ext cx="8099280" cy="6310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19320" y="5335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oundary-Layer Latent Heat Flux (W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icrosoft Sans Serif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4100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TC Bertha 2008 12 July 0000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752480" y="4648320"/>
            <a:ext cx="5791320" cy="368280"/>
            <a:chOff x="1752480" y="4648320"/>
            <a:chExt cx="5791320" cy="368280"/>
          </a:xfrm>
        </p:grpSpPr>
        <p:sp>
          <p:nvSpPr>
            <p:cNvPr id="63" name=""/>
            <p:cNvSpPr/>
            <p:nvPr/>
          </p:nvSpPr>
          <p:spPr>
            <a:xfrm>
              <a:off x="1752480" y="4648320"/>
              <a:ext cx="1981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Sans Serif"/>
                </a:rPr>
                <a:t>Uncoup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62720" y="4648320"/>
              <a:ext cx="1981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Sans Serif"/>
                </a:rPr>
                <a:t>Coup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152280" y="163440"/>
            <a:ext cx="8839440" cy="371520"/>
            <a:chOff x="152280" y="163440"/>
            <a:chExt cx="8839440" cy="371520"/>
          </a:xfrm>
        </p:grpSpPr>
        <p:sp>
          <p:nvSpPr>
            <p:cNvPr id="66" name=""/>
            <p:cNvSpPr/>
            <p:nvPr/>
          </p:nvSpPr>
          <p:spPr>
            <a:xfrm>
              <a:off x="152280" y="16668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H.R. Winterbott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38680" y="163440"/>
              <a:ext cx="33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WRF-ARW/HYCOM Mode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28480" y="620640"/>
            <a:ext cx="8099640" cy="6310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19320" y="5335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Boundary-Layer (Surface) Moisture Flux (kg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icrosoft Sans Serif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icrosoft Sans Serif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54100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TC Bertha 2008 12 July 0000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752480" y="4648320"/>
            <a:ext cx="5791320" cy="368280"/>
            <a:chOff x="1752480" y="4648320"/>
            <a:chExt cx="5791320" cy="368280"/>
          </a:xfrm>
        </p:grpSpPr>
        <p:sp>
          <p:nvSpPr>
            <p:cNvPr id="72" name=""/>
            <p:cNvSpPr/>
            <p:nvPr/>
          </p:nvSpPr>
          <p:spPr>
            <a:xfrm>
              <a:off x="1752480" y="4648320"/>
              <a:ext cx="1981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Sans Serif"/>
                </a:rPr>
                <a:t>Uncoup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648320"/>
              <a:ext cx="1981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Sans Serif"/>
                </a:rPr>
                <a:t>Coup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01:07:16Z</dcterms:created>
  <dc:creator>Henry R. Winterbottom</dc:creator>
  <dc:description/>
  <dc:language>en-US</dc:language>
  <cp:lastModifiedBy> gopal</cp:lastModifiedBy>
  <dcterms:modified xsi:type="dcterms:W3CDTF">2009-02-19T03:35:19Z</dcterms:modified>
  <cp:revision>21</cp:revision>
  <dc:subject/>
  <dc:title>Slide 1</dc:title>
</cp:coreProperties>
</file>