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30DB-BA53-4CA9-A653-F711B5B85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B66-06B2-494A-A205-288A006E18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CF6-E514-4F1B-AC02-14B2BA4426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6AB-196E-46B8-BCDF-43BD02C3D2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DAC7-4CFD-4AB8-B870-69D071AD1C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DA99-8F95-46A7-9274-40FAF37D6C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599-5ACD-495D-AC62-8E09AC89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911-2289-4E44-A552-B9AA2B6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9B3-7AFF-4F49-A8D8-6BBD2BCA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A74-18B6-412E-A6B7-A03A4EC4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B18-EAF1-4CB1-AF39-88520E8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EF9-9298-49DD-836F-5788C9B6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7D7-3FE3-4E0F-B5D8-597A628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501-BC6C-41C8-9BF7-904D9851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C13-7D0F-44F1-BEDC-6A6BCFA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20-3A0F-46F2-89CD-EFE5B72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C60-2779-4DF8-B265-32DF61D2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C7A-0D5E-44CF-A862-638C338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8DCF-1529-4C63-8BC0-ABF26BADF2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495680" y="1963800"/>
            <a:ext cx="4648320" cy="390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5500800" y="3267000"/>
            <a:ext cx="304560" cy="7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46760" y="2243160"/>
            <a:ext cx="263520" cy="7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310520" y="2781360"/>
            <a:ext cx="260280" cy="77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68680" y="30481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e-RI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594480" y="200988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ost-RI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ftp://ftp.aoml.noaa.gov/hrd/pub/rogers/katrina/figs/katrina_track.gif"/>
          <p:cNvPicPr/>
          <p:nvPr/>
        </p:nvPicPr>
        <p:blipFill>
          <a:blip r:embed="rId2"/>
          <a:srcRect l="9375" t="4166" r="10936" b="2083"/>
          <a:stretch/>
        </p:blipFill>
        <p:spPr>
          <a:xfrm>
            <a:off x="25560" y="1967040"/>
            <a:ext cx="4419360" cy="3900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785240" y="8380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RS model performance: standard metr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952880" y="5262480"/>
            <a:ext cx="304920" cy="71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315040" y="5178600"/>
            <a:ext cx="129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radar sampling times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Group 27"/>
          <p:cNvGrpSpPr/>
          <p:nvPr/>
        </p:nvGrpSpPr>
        <p:grpSpPr>
          <a:xfrm>
            <a:off x="1379160" y="2619360"/>
            <a:ext cx="1909080" cy="2345040"/>
            <a:chOff x="1379160" y="2619360"/>
            <a:chExt cx="1909080" cy="2345040"/>
          </a:xfrm>
        </p:grpSpPr>
        <p:sp>
          <p:nvSpPr>
            <p:cNvPr id="59" name="Text Box 13"/>
            <p:cNvSpPr/>
            <p:nvPr/>
          </p:nvSpPr>
          <p:spPr>
            <a:xfrm>
              <a:off x="2979360" y="461808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27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2207520" y="471816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28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1702800" y="397512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29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1636200" y="261936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1388520" y="272412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alibri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1379160" y="397188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alibri"/>
                </a:rPr>
                <a:t>29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2188800" y="429588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alibri"/>
                </a:rPr>
                <a:t>28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609480" y="4964040"/>
            <a:ext cx="1165680" cy="638280"/>
            <a:chOff x="609480" y="4964040"/>
            <a:chExt cx="1165680" cy="638280"/>
          </a:xfrm>
        </p:grpSpPr>
        <p:sp>
          <p:nvSpPr>
            <p:cNvPr id="67" name="Line 20"/>
            <p:cNvSpPr/>
            <p:nvPr/>
          </p:nvSpPr>
          <p:spPr>
            <a:xfrm>
              <a:off x="609480" y="510552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09480" y="529596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609480" y="547704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Text Box 23"/>
            <p:cNvSpPr/>
            <p:nvPr/>
          </p:nvSpPr>
          <p:spPr>
            <a:xfrm>
              <a:off x="918360" y="4964040"/>
              <a:ext cx="70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best track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934560" y="5165640"/>
              <a:ext cx="84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alibri"/>
                </a:rPr>
                <a:t>27:9 km HR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931680" y="535608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Calibri"/>
                </a:rPr>
                <a:t>9:3 km HRS</a:t>
              </a:r>
              <a:endParaRPr b="0" lang="en-US" sz="1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3" name="Text Box 29"/>
          <p:cNvSpPr/>
          <p:nvPr/>
        </p:nvSpPr>
        <p:spPr>
          <a:xfrm>
            <a:off x="7236000" y="37940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fall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Line 30"/>
          <p:cNvSpPr/>
          <p:nvPr/>
        </p:nvSpPr>
        <p:spPr>
          <a:xfrm flipV="1">
            <a:off x="7620120" y="228564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1830240" y="1560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ra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5952240" y="16081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eak 10-m win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4880" y="22860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lution impacts on HRS simulations of Hurricane Katr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628640" y="990720"/>
            <a:ext cx="7543440" cy="5714640"/>
            <a:chOff x="1628640" y="990720"/>
            <a:chExt cx="7543440" cy="5714640"/>
          </a:xfrm>
        </p:grpSpPr>
        <p:pic>
          <p:nvPicPr>
            <p:cNvPr id="79" name="Picture 1" descr="postRI_Dop_wind.tif"/>
            <p:cNvPicPr/>
            <p:nvPr/>
          </p:nvPicPr>
          <p:blipFill>
            <a:blip r:embed="rId1"/>
            <a:srcRect l="13297" t="0" r="13097" b="0"/>
            <a:stretch/>
          </p:blipFill>
          <p:spPr>
            <a:xfrm>
              <a:off x="1628640" y="990720"/>
              <a:ext cx="279396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postRI_3km_wind.tif"/>
            <p:cNvPicPr/>
            <p:nvPr/>
          </p:nvPicPr>
          <p:blipFill>
            <a:blip r:embed="rId2"/>
            <a:srcRect l="17201" t="0" r="11044" b="0"/>
            <a:stretch/>
          </p:blipFill>
          <p:spPr>
            <a:xfrm>
              <a:off x="6447960" y="990720"/>
              <a:ext cx="272412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" descr="postRI_9km_wind.tif"/>
            <p:cNvPicPr/>
            <p:nvPr/>
          </p:nvPicPr>
          <p:blipFill>
            <a:blip r:embed="rId3"/>
            <a:srcRect l="14723" t="0" r="20880" b="0"/>
            <a:stretch/>
          </p:blipFill>
          <p:spPr>
            <a:xfrm>
              <a:off x="4073040" y="990720"/>
              <a:ext cx="244476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4" descr="postRI_Dop_vor.tif"/>
            <p:cNvPicPr/>
            <p:nvPr/>
          </p:nvPicPr>
          <p:blipFill>
            <a:blip r:embed="rId4"/>
            <a:srcRect l="8511" t="0" r="0" b="0"/>
            <a:stretch/>
          </p:blipFill>
          <p:spPr>
            <a:xfrm>
              <a:off x="1628640" y="3778200"/>
              <a:ext cx="300348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postRI_3km_vor.tif"/>
            <p:cNvPicPr/>
            <p:nvPr/>
          </p:nvPicPr>
          <p:blipFill>
            <a:blip r:embed="rId5"/>
            <a:srcRect l="15358" t="0" r="22080" b="0"/>
            <a:stretch/>
          </p:blipFill>
          <p:spPr>
            <a:xfrm>
              <a:off x="6378120" y="3778200"/>
              <a:ext cx="237492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postRI_9km_vor.tif"/>
            <p:cNvPicPr/>
            <p:nvPr/>
          </p:nvPicPr>
          <p:blipFill>
            <a:blip r:embed="rId6"/>
            <a:srcRect l="14723" t="0" r="22715" b="0"/>
            <a:stretch/>
          </p:blipFill>
          <p:spPr>
            <a:xfrm>
              <a:off x="4073040" y="3778200"/>
              <a:ext cx="2374920" cy="29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postRI_Dop_vor.tif"/>
            <p:cNvPicPr/>
            <p:nvPr/>
          </p:nvPicPr>
          <p:blipFill>
            <a:blip r:embed="rId7"/>
            <a:srcRect l="82807" t="0" r="3679" b="0"/>
            <a:stretch/>
          </p:blipFill>
          <p:spPr>
            <a:xfrm>
              <a:off x="8658360" y="3778200"/>
              <a:ext cx="513720" cy="29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-33480" y="214956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 speed (m/s) at 2-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-109440" y="489276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rticity (x 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and w (m/s) at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-km altitu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295000" y="1159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rtex-scale fields at post-RI ti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627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51200" y="638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-9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6979680" y="623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3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600200" y="988920"/>
            <a:ext cx="7543440" cy="2362320"/>
            <a:chOff x="1600200" y="988920"/>
            <a:chExt cx="7543440" cy="2362320"/>
          </a:xfrm>
        </p:grpSpPr>
        <p:pic>
          <p:nvPicPr>
            <p:cNvPr id="93" name="Picture 1" descr="postRI_3km_rz_ut.tif"/>
            <p:cNvPicPr/>
            <p:nvPr/>
          </p:nvPicPr>
          <p:blipFill>
            <a:blip r:embed="rId1"/>
            <a:srcRect l="6440" t="0" r="0" b="0"/>
            <a:stretch/>
          </p:blipFill>
          <p:spPr>
            <a:xfrm>
              <a:off x="6299280" y="988920"/>
              <a:ext cx="28443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postRI_9km_rz_ut.tif"/>
            <p:cNvPicPr/>
            <p:nvPr/>
          </p:nvPicPr>
          <p:blipFill>
            <a:blip r:embed="rId2"/>
            <a:srcRect l="0" t="0" r="15030" b="0"/>
            <a:stretch/>
          </p:blipFill>
          <p:spPr>
            <a:xfrm>
              <a:off x="3715920" y="988920"/>
              <a:ext cx="25833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" descr="postRI_Dop_rz_ut.tif"/>
            <p:cNvPicPr/>
            <p:nvPr/>
          </p:nvPicPr>
          <p:blipFill>
            <a:blip r:embed="rId3"/>
            <a:srcRect l="6440" t="0" r="16278" b="0"/>
            <a:stretch/>
          </p:blipFill>
          <p:spPr>
            <a:xfrm>
              <a:off x="1600200" y="988920"/>
              <a:ext cx="234936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1600200" y="3808440"/>
            <a:ext cx="7543440" cy="2515680"/>
            <a:chOff x="1600200" y="3808440"/>
            <a:chExt cx="7543440" cy="2515680"/>
          </a:xfrm>
        </p:grpSpPr>
        <p:pic>
          <p:nvPicPr>
            <p:cNvPr id="97" name="Picture 4" descr="postRI_3km_rz_vor.tif"/>
            <p:cNvPicPr/>
            <p:nvPr/>
          </p:nvPicPr>
          <p:blipFill>
            <a:blip r:embed="rId4"/>
            <a:srcRect l="6684" t="0" r="16034" b="0"/>
            <a:stretch/>
          </p:blipFill>
          <p:spPr>
            <a:xfrm>
              <a:off x="6293880" y="3808440"/>
              <a:ext cx="235440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postRI_9km_rz_vor.tif"/>
            <p:cNvPicPr/>
            <p:nvPr/>
          </p:nvPicPr>
          <p:blipFill>
            <a:blip r:embed="rId5"/>
            <a:srcRect l="7414" t="0" r="15304" b="0"/>
            <a:stretch/>
          </p:blipFill>
          <p:spPr>
            <a:xfrm>
              <a:off x="3953520" y="3809520"/>
              <a:ext cx="235296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postRI_Dop_rz_vor.tif"/>
            <p:cNvPicPr/>
            <p:nvPr/>
          </p:nvPicPr>
          <p:blipFill>
            <a:blip r:embed="rId6"/>
            <a:srcRect l="6440" t="0" r="16278" b="0"/>
            <a:stretch/>
          </p:blipFill>
          <p:spPr>
            <a:xfrm>
              <a:off x="1600200" y="3808440"/>
              <a:ext cx="23533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postRI_Dop_rz_vor.tif"/>
            <p:cNvPicPr/>
            <p:nvPr/>
          </p:nvPicPr>
          <p:blipFill>
            <a:blip r:embed="rId7"/>
            <a:srcRect l="83732" t="0" r="0" b="0"/>
            <a:stretch/>
          </p:blipFill>
          <p:spPr>
            <a:xfrm>
              <a:off x="8648640" y="3808440"/>
              <a:ext cx="49500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-61920" y="2147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ngential and radial winds (m/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-109440" y="4890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rticity (x 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 and w (m/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81680" y="11592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rtex-scale azimuthally-averaged fields at post-RI ti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287440" y="627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498560" y="638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-9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6860520" y="623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3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838080" y="1066680"/>
            <a:ext cx="8253000" cy="2667240"/>
            <a:chOff x="838080" y="1066680"/>
            <a:chExt cx="8253000" cy="2667240"/>
          </a:xfrm>
        </p:grpSpPr>
        <p:pic>
          <p:nvPicPr>
            <p:cNvPr id="108" name="Picture 1" descr="postRI_3km_wcfad.tif"/>
            <p:cNvPicPr/>
            <p:nvPr/>
          </p:nvPicPr>
          <p:blipFill>
            <a:blip r:embed="rId1"/>
            <a:srcRect l="11004" t="0" r="4513" b="0"/>
            <a:stretch/>
          </p:blipFill>
          <p:spPr>
            <a:xfrm>
              <a:off x="6177600" y="1066680"/>
              <a:ext cx="29134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postRI_9km_wcfad.tif"/>
            <p:cNvPicPr/>
            <p:nvPr/>
          </p:nvPicPr>
          <p:blipFill>
            <a:blip r:embed="rId2"/>
            <a:srcRect l="10335" t="0" r="15122" b="0"/>
            <a:stretch/>
          </p:blipFill>
          <p:spPr>
            <a:xfrm>
              <a:off x="3607200" y="1066680"/>
              <a:ext cx="25714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postRI_Dop_wcfad.tif"/>
            <p:cNvPicPr/>
            <p:nvPr/>
          </p:nvPicPr>
          <p:blipFill>
            <a:blip r:embed="rId3"/>
            <a:srcRect l="4959" t="0" r="14716" b="0"/>
            <a:stretch/>
          </p:blipFill>
          <p:spPr>
            <a:xfrm>
              <a:off x="838080" y="1066680"/>
              <a:ext cx="2770560" cy="266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838080" y="3962520"/>
            <a:ext cx="8253000" cy="2666880"/>
            <a:chOff x="838080" y="3962520"/>
            <a:chExt cx="8253000" cy="2666880"/>
          </a:xfrm>
        </p:grpSpPr>
        <p:pic>
          <p:nvPicPr>
            <p:cNvPr id="112" name="Picture 4" descr="postRI_3km_vorcfad.tif"/>
            <p:cNvPicPr/>
            <p:nvPr/>
          </p:nvPicPr>
          <p:blipFill>
            <a:blip r:embed="rId4"/>
            <a:srcRect l="10598" t="0" r="4473" b="0"/>
            <a:stretch/>
          </p:blipFill>
          <p:spPr>
            <a:xfrm>
              <a:off x="6163200" y="3962520"/>
              <a:ext cx="2927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5" descr="postRI_9km_vorcfad.tif"/>
            <p:cNvPicPr/>
            <p:nvPr/>
          </p:nvPicPr>
          <p:blipFill>
            <a:blip r:embed="rId5"/>
            <a:srcRect l="8996" t="0" r="15436" b="0"/>
            <a:stretch/>
          </p:blipFill>
          <p:spPr>
            <a:xfrm>
              <a:off x="3549960" y="3962520"/>
              <a:ext cx="260532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postRI_Dop_vorcfad.tif"/>
            <p:cNvPicPr/>
            <p:nvPr/>
          </p:nvPicPr>
          <p:blipFill>
            <a:blip r:embed="rId6"/>
            <a:srcRect l="4473" t="0" r="15568" b="0"/>
            <a:stretch/>
          </p:blipFill>
          <p:spPr>
            <a:xfrm>
              <a:off x="838080" y="3962520"/>
              <a:ext cx="275688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930240" y="115920"/>
            <a:ext cx="77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ctive-scale statistics (CFADs) at post-RI ti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1849320" y="627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117680" y="638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-9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708240" y="623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3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30040" y="1981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-89640" y="5154480"/>
            <a:ext cx="1020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orticity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447920" y="3828960"/>
            <a:ext cx="7657560" cy="2519280"/>
            <a:chOff x="1447920" y="3828960"/>
            <a:chExt cx="7657560" cy="2519280"/>
          </a:xfrm>
        </p:grpSpPr>
        <p:pic>
          <p:nvPicPr>
            <p:cNvPr id="122" name="Picture 1" descr="postRI_3km_mfluxprof.tif"/>
            <p:cNvPicPr/>
            <p:nvPr/>
          </p:nvPicPr>
          <p:blipFill>
            <a:blip r:embed="rId1"/>
            <a:srcRect l="5724" t="0" r="12253" b="5250"/>
            <a:stretch/>
          </p:blipFill>
          <p:spPr>
            <a:xfrm>
              <a:off x="6510240" y="3838680"/>
              <a:ext cx="2595240" cy="25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postRI_9km_mfluxprof.tif"/>
            <p:cNvPicPr/>
            <p:nvPr/>
          </p:nvPicPr>
          <p:blipFill>
            <a:blip r:embed="rId2"/>
            <a:srcRect l="0" t="0" r="12253" b="5268"/>
            <a:stretch/>
          </p:blipFill>
          <p:spPr>
            <a:xfrm>
              <a:off x="3825000" y="3838680"/>
              <a:ext cx="2776320" cy="25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postRI_Dop_mfluxprof.tif"/>
            <p:cNvPicPr/>
            <p:nvPr/>
          </p:nvPicPr>
          <p:blipFill>
            <a:blip r:embed="rId3"/>
            <a:srcRect l="6128" t="0" r="11048" b="5268"/>
            <a:stretch/>
          </p:blipFill>
          <p:spPr>
            <a:xfrm>
              <a:off x="1447920" y="3828960"/>
              <a:ext cx="2620080" cy="250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447920" y="1014480"/>
            <a:ext cx="7705080" cy="2285640"/>
            <a:chOff x="1447920" y="1014480"/>
            <a:chExt cx="7705080" cy="2285640"/>
          </a:xfrm>
        </p:grpSpPr>
        <p:pic>
          <p:nvPicPr>
            <p:cNvPr id="126" name="Picture 4" descr="postRI_3km_wprof.tif"/>
            <p:cNvPicPr/>
            <p:nvPr/>
          </p:nvPicPr>
          <p:blipFill>
            <a:blip r:embed="rId4"/>
            <a:srcRect l="6440" t="0" r="11985" b="5555"/>
            <a:stretch/>
          </p:blipFill>
          <p:spPr>
            <a:xfrm>
              <a:off x="6569640" y="1015560"/>
              <a:ext cx="258336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postRI_9km_wprof.tif"/>
            <p:cNvPicPr/>
            <p:nvPr/>
          </p:nvPicPr>
          <p:blipFill>
            <a:blip r:embed="rId5"/>
            <a:srcRect l="4293" t="0" r="11985" b="5847"/>
            <a:stretch/>
          </p:blipFill>
          <p:spPr>
            <a:xfrm>
              <a:off x="3977640" y="1015560"/>
              <a:ext cx="2651400" cy="22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postRI_Dop_wprof.tif"/>
            <p:cNvPicPr/>
            <p:nvPr/>
          </p:nvPicPr>
          <p:blipFill>
            <a:blip r:embed="rId6"/>
            <a:srcRect l="5724" t="634" r="11985" b="5324"/>
            <a:stretch/>
          </p:blipFill>
          <p:spPr>
            <a:xfrm>
              <a:off x="1447920" y="1014480"/>
              <a:ext cx="2606040" cy="22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249120" y="1919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 (m/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90960"/>
            <a:ext cx="1523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tical mass flux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x 10</a:t>
            </a:r>
            <a:r>
              <a:rPr b="1" lang="en-US" sz="17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kg/s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27520" y="115920"/>
            <a:ext cx="87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ctive-scale statistics (mean profiles) at post-RI ti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300040" y="627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4568400" y="638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-9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623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3 km H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3:41:38Z</dcterms:created>
  <dc:creator> </dc:creator>
  <dc:description/>
  <dc:language>en-US</dc:language>
  <cp:lastModifiedBy> gopal</cp:lastModifiedBy>
  <dcterms:modified xsi:type="dcterms:W3CDTF">2009-02-19T03:38:42Z</dcterms:modified>
  <cp:revision>3</cp:revision>
  <dc:subject/>
  <dc:title>Slide 1</dc:title>
</cp:coreProperties>
</file>