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AB7D-B386-4B54-A58D-4A66A204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4EEA-3BD9-4199-B728-A6F8CCDB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A189-8CBE-4919-A98D-806FF096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4C24-1AB9-4EB6-9E90-1313C6AF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3C10-8E38-4033-B38D-C2231268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F981-6DE2-4282-BBA5-A45695B0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74B9-B86D-448B-952E-8F49E955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D92E-47AC-4A40-9D3C-D8CF94BC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C146-17B6-4B84-8E4D-C0E8BCCC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7A51-F882-43CC-A57F-9047935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48F5-0D9F-4A58-ABDF-7EE2E7C0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655F-0125-4F26-BCCA-39E240E4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0758-D365-4B6D-B1CB-13AA47D2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C8DF-76DC-4A9D-9101-5A04B5FA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B364-C2C4-47FD-B9AA-3FC51B15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87F1-D297-4EA6-ABDE-D79E30BA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A3CF-DBBE-4099-BCCA-23EE1CD2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76F1-F848-4934-8F18-ECE65D15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F1AA-878A-4D79-8339-2B831CD1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11A2-F9EB-45E1-9ECA-90EFB57C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E216-40E9-4FE2-BE29-EC155F03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DFC2-7DBF-477F-9DCC-A2F889C8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7E44-890A-47B1-A584-E737D5C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7FBE-A850-45F1-985F-8F3FEB4B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1A7F-66BD-4298-A342-0D6E11117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445F-51EF-468D-9A9C-DDD4EAE60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93600" y="1752480"/>
            <a:ext cx="6108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AA HFIP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-Resolution Hurricane 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update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140000" y="4406400"/>
            <a:ext cx="462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ia Bernard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eb 19,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2760" y="27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RH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25760"/>
            <a:ext cx="83440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effect of increasing horizontal resolu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in a given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hurricane intensity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data set to explore the potential value of a multi-model ensemble for improving hurricane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odeling groups (URI: GFDL, UWM: UW Non-hydro Modeling System, AOML:  WRF-NMM, NRL:  COAMPS,  MMM:  WRF-ARW, PSU: WRF-AR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F Developmental Testbed Center (D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Hurricane Center (NH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2760" y="165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-Test preparations at D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9800" y="1201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d prioritized list of cases (10 storms – 69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rchive of input and verification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method for transferring files to/from modeling groups and D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computer resources for some model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Output Module (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ed / ported / adapted / developed / automated verific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FDL Tracker – many changes for high-res moving nests (collaboration with Tim Marchok of GF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C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Intensification / Weakening (RI/RW)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 (NCAR Command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31640" y="1531800"/>
            <a:ext cx="822960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s delivered to DTC September 2008 – 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and Final Report – March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9720" y="5940360"/>
            <a:ext cx="7404120" cy="14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port (HFIP - Fred Toepfer) – Jun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9720" y="4843440"/>
            <a:ext cx="74041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– 7-8 Ma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9720" y="4295880"/>
            <a:ext cx="8293320" cy="18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of all  runs to be analyzed for Workshop – April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9720" y="5392800"/>
            <a:ext cx="8293320" cy="174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of all runs to be analyzed for Report – Ma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720" y="3746520"/>
            <a:ext cx="8293320" cy="14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tests of I/O implementation – March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19040" y="3030480"/>
            <a:ext cx="8229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– February 18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6680" y="1943280"/>
          <a:ext cx="8016840" cy="4698720"/>
        </p:xfrm>
        <a:graphic>
          <a:graphicData uri="http://schemas.openxmlformats.org/drawingml/2006/table">
            <a:tbl>
              <a:tblPr/>
              <a:tblGrid>
                <a:gridCol w="1603080"/>
                <a:gridCol w="1603440"/>
                <a:gridCol w="1603440"/>
                <a:gridCol w="1603440"/>
                <a:gridCol w="1603440"/>
              </a:tblGrid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ing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 DTC test I/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ed with DTC on I/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zed test I/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 DTC a forecast for 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n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20:34:34Z</dcterms:created>
  <dc:creator>jwolff</dc:creator>
  <dc:description/>
  <dc:language>en-US</dc:language>
  <cp:lastModifiedBy> gopal</cp:lastModifiedBy>
  <cp:lastPrinted>2009-02-13T18:06:16Z</cp:lastPrinted>
  <dcterms:modified xsi:type="dcterms:W3CDTF">2009-02-19T03:31:02Z</dcterms:modified>
  <cp:revision>272</cp:revision>
  <dc:subject/>
  <dc:title>Users Support: Status and Plans</dc:title>
</cp:coreProperties>
</file>