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3FC-4E6E-4AC5-A57E-253057D8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89E-0DA4-498F-83B3-16234BE7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3D7-5234-4550-B150-91933EFA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D8A-C0C7-4A35-BF2A-4CB425AE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DDA-B34B-48C8-B140-2DF04E7C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ED8-DC5F-4258-B2EE-7E21CA25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A61-91A8-4BBF-94E5-73385E97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674-0B70-47A5-8D8E-73B63BCA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60F-AD93-443A-9316-DB486143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B91-0E63-4B85-BECA-D1950FD5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C05-6880-4597-9632-F03DBDAD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512-7007-4CDD-862A-6FD7C459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FC69-729A-47D9-9C4B-0EC3F5E23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im.noaa.gov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0640" y="2717640"/>
            <a:ext cx="6439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0003"/>
                </a:solidFill>
                <a:latin typeface="Arial"/>
              </a:rPr>
              <a:t>But here is our quick upd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0003"/>
                </a:solidFill>
                <a:latin typeface="Arial"/>
              </a:rPr>
              <a:t>- ESRL is starting a rerun of FIM-15km for the 2008 hurricane season u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0003"/>
                </a:solidFill>
                <a:latin typeface="Arial"/>
              </a:rPr>
              <a:t>a new version of code.   We will report on this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0003"/>
                </a:solidFill>
                <a:latin typeface="Arial"/>
              </a:rPr>
              <a:t>- Despite having identified many code fixes since August (see fim.noaa.gov main web page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0003"/>
                </a:solidFill>
                <a:latin typeface="Arial"/>
              </a:rPr>
              <a:t>a problem with drying in the tropics remains, likely related to physics-FIM 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000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50003"/>
                </a:solidFill>
                <a:latin typeface="Arial"/>
              </a:rPr>
              <a:t>ESRL is working actively to identify this probl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0003"/>
                </a:solidFill>
                <a:latin typeface="Arial"/>
              </a:rPr>
              <a:t>- FIM is now running with ptop=0.5 hPa and 64 levels starting in Nov 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0003"/>
                </a:solidFill>
                <a:latin typeface="Arial"/>
              </a:rPr>
              <a:t>(previously 10 hPa, 50 leve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low-following Finite-Volume Icosahedral (global) Model (F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d out about FIM, 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im.noa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ur report for 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Many code fixes since August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A problem with drying in the tropics rem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kely related to physics-FIM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SRL is working actively to identify thi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FIM running with ptop=0.5 hPa and 64 levels starting Nov 2008 (previously 10 hPa, 50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ESRL will rerun FIM-15km for the 2008 hurricane season using a new version of code.   We will report on this in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6640560"/>
            <a:ext cx="30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 Benjamin, John Brown, NOAA-ESRL/GSD, Th 19 Feb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\\Smichelson\fim\figures\pw.102h.png"/>
          <p:cNvPicPr/>
          <p:nvPr/>
        </p:nvPicPr>
        <p:blipFill>
          <a:blip r:embed="rId2"/>
          <a:srcRect l="9806" t="22707" r="20558" b="24256"/>
          <a:stretch/>
        </p:blipFill>
        <p:spPr>
          <a:xfrm>
            <a:off x="7086600" y="1143000"/>
            <a:ext cx="1828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2:01:41Z</dcterms:created>
  <dc:creator>john brown</dc:creator>
  <dc:description/>
  <dc:language>en-US</dc:language>
  <cp:lastModifiedBy> gopal</cp:lastModifiedBy>
  <dcterms:modified xsi:type="dcterms:W3CDTF">2009-02-19T03:30:19Z</dcterms:modified>
  <cp:revision>1</cp:revision>
  <dc:subject/>
  <dc:title>PowerPoint Presentation</dc:title>
</cp:coreProperties>
</file>