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D6D951-3AD0-4676-888D-9F832BA18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7FF11B-4669-49AC-875B-EBC77A580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031CEA-D96D-4B9F-ABF5-24F6B10F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A5C8A7-B33D-40D3-A403-D8B51E71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8080" y="930240"/>
            <a:ext cx="4240080" cy="31798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75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927F24-0CE7-4D60-BB53-AAD21494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8080" y="930240"/>
            <a:ext cx="4240080" cy="3179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75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C58-1A7A-4F2C-BBF5-053A11E9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F80-DB33-40D2-8474-493E2D73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14B2-8416-402F-99B6-8A746F6BFE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291A-AA4D-420C-B0D6-5CB21227D0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24DD-A8A6-4BFB-8122-E7D0500D96F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2171-FE03-423B-A90A-568BB07486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4167-CC31-464C-82E8-C4D86D950C6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D2C4-F700-4904-9A8B-31E4786A6C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7B0E-17CC-40C6-A614-572EBC5E41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FA22D-917C-484D-9962-1F7AC31EFF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71D2-6B3E-4322-8731-14045DB5FB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4A7A9-DC06-4FC7-A2CE-EA4FDB21E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04E-21EE-4BED-A31A-9A7E8B00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C463F-E761-4786-A09B-FE599DB3EA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DA26A-80F1-4400-92FA-580A4AA7D8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C227E-99EC-4C77-99A9-AA928D1881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B4323-3994-4327-B96C-F5F34397B8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2EBBC-3B41-4186-BF2D-56751DDF78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061BE3-2F94-49F2-AFA6-477029603D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061A0-8CD1-4074-B144-254E20B1DF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EB708-6B4F-4D25-BAC5-50A19C471FA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D3DE3-2113-40E6-A0CC-CE8BF72A92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C049BD-4E27-4CE1-8043-7F53513BC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36B-B134-43D5-927B-01C9DF60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4680C-5E77-498F-8126-CF94389A2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68E1-92B8-4A62-8499-D3EFAC87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DCC1-8644-4CD1-9559-213C74E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408-2BEB-486D-95E3-BE4B33AF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D91-4ED6-4B14-9D80-BCC9DDF0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60ED-76B8-4E79-AF12-3625F5F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6164-498A-4005-BFD6-59E048BE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4B84-6424-43EA-8CFB-239A91B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234-8F91-4EE2-A770-350EF17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5B1-8625-4520-BDCA-69C391B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2BE-51EE-432A-99F4-32108BF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EFE-ECAA-4A89-B9FD-654F1345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A377-9710-49AF-B0F4-E002A3B3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65F-278B-46FF-888B-E12555CC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9CA4-4E10-4B38-8976-BEB4EE07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4219-654B-4498-ACA5-29890BB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FDE5-825C-49A5-9585-7DBEEA6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4173-CBDE-43CF-89D2-2A8D706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1816-5E02-4433-9617-9B6FAFC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A23-9C93-4D18-9F0C-EEBD4EC7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5C48-3FD2-4BF8-9B32-0E50E6E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6C03-23C3-48DC-A3C5-0CED8A2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58A8-135C-46D4-8AAB-285096C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B595-1D82-4406-BA90-382666B8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E0F6-D832-4F12-A35C-8C4ED420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8C3A-BF2E-43F5-89D6-ABF2E954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5D5A-E8A9-4BFE-9D5D-B8F31027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09DED-7279-4F23-B782-77173326C5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61066-20AD-4265-B6A2-32083D45F6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B789B-F0A0-4E97-A203-9C24A60CB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B56-5429-420B-B829-3BA5664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47F12-BC69-4B21-BA66-F5091FBC42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56D28-C54F-4CB6-AE2A-9576D09995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4835E-43D2-43C7-A11A-119A71E424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BEB4D-115B-443B-B2EF-07142FD5A3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81B33-70F1-45CD-8B3E-30BF2AA2D4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14022-92B5-471C-AC7C-A051C7589E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652DF-7FAB-4E11-B38E-6A05E286C4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38A11-6D09-4AB1-BEBF-DFC3DED8A9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922D0-9D9F-4E2F-9C8D-C8A02B14FF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03233E-74EA-4BA5-8E66-D49330A75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9A7-FA90-49AF-A0D1-031C03EA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0D72A-A021-423D-A305-A34601C5FEB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1ED8DB-6B11-4235-B2A6-525BFA4305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7F0516-4268-4226-916A-EB491E386E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785DD-A5D7-4F7B-97CA-07F91FCB41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602DF3-B368-4882-B215-38BB29BF9C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2E3F6-E2F8-42E5-9F2A-B08D71495D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0C9CD-89B4-4608-B0F7-3390296C1E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A8083-1169-409C-AB42-72364461B96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41168-6469-4ACC-AFE0-8C7382B9F9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E12BA-6364-4D1A-9B45-E0164696D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F37-CCA5-42EE-A860-EF810B99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F3063-2CD3-43F2-A573-5294937798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428B-23EC-45F0-B7F8-6D54F4B1F5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D433-0C46-46DA-9907-CF2147A054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D95A-958A-4A16-A041-DF0C2078D1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D3A97-D12D-477A-8565-9E1089DA77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C275-BF30-41A9-845A-0B8D59E83D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53D4-2627-4EED-87C3-94AB62E807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201A0-6022-432B-8447-0C1DD64F3F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DC42-D6E5-49AB-9BF5-A44C098D17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CC38-1207-4695-845C-A3C96CE22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139-5BDF-4611-ACCC-A6E3F3B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7E6D2-7086-447F-A1DA-E46CD1F7A2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AB77-C4C6-4CD7-A88B-B2E47F5B7F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101B-4E95-4996-B866-C8C7B13702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F2975-7B0D-45BA-895F-060A13247E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DA060-A41D-4A93-AF3A-11D0CA8194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366DB-62AE-4CFB-B3D5-93355FD753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7AE9A-0C2D-4C2E-885B-B5387DF1A2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F1B7C-E114-41DE-B340-830AEE1541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63342-806E-431D-9622-384C93C242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69EFB-FF53-447C-8DAA-3208FD22C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591-56AA-4E47-A48A-56D0CD8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5346C-8C9C-43AC-9B68-3B7CB6EB7E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51948-58D5-4453-B886-651F6F44E0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066A8-E60A-43A6-AEFA-894BF0EAC0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E19A3-1673-410D-9DBF-95B5822623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26622-9DF9-45DF-96B5-C1AB877E17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4ADF06-B460-4A25-BB55-EEE2C13A48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389237-96AB-4067-88EB-0849CB353B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BD6BE0-BBBF-46BF-A875-6826B1A1C5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7BF88-B533-49ED-8B05-B5ECD66173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FBD91-C2CB-4C42-9CE2-42239C012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9FB-B0C3-48F9-99D6-35226D5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7B6F9-3544-441F-AEEC-B28D5983591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1BEAC-BEB7-4381-B7A0-5386FCE64A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CAD052-7333-4D1A-83BC-39DB50C3C9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9960C9-58AA-4809-ACBD-A239952814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34356-6EA3-48C3-8A78-2A0FEBDC0E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7DD7C-3CBC-4705-8360-B444DC8E85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D77E8-A590-44F2-9FBA-20C42393DE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56CC3-9D76-4744-B050-65D20C46C8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A73D-6847-4278-BAD5-C7CD3B859C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B01BD-8DD2-4320-9648-4635FC77B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C580-38F9-4C2C-9AE6-FBAB7EAD6A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0BB-B802-48B4-91A4-07E526ED78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5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47A-B2FC-4976-819E-F8DEF573683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CEC2-6284-4F4C-B64D-E21ACAE4CC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C4F-FB0E-4EE1-92F2-50B9287E4C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286-8624-421E-A90E-9BC583D729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2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8FA6-9AE4-425D-B143-EB72CD4C1F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7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16A-646F-402B-A18F-8C91BB4319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1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9EE-34FD-453E-8345-CD8A459BD8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815-744B-434D-A4E9-CD84E2C2BAA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ECF9-98A8-430D-A14B-55E2EDB8F54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914400" y="2133720"/>
            <a:ext cx="82296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ong Term plans for hurricane model diagnostic suppo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4920" y="27000"/>
            <a:ext cx="9067680" cy="68216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91440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HFIP Stream 1 Regional Hurricane Model Diagnostics Planning Meeting, 11/0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90F-B91F-4DDD-A61B-4FD0564B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Gill Sans MT"/>
              </a:rPr>
              <a:t>Advanced Diagnostics Framework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a tri-agency core group for hurricane model diagnos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C/NCEP (Operational HWR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RL/Navy    (COAMPS-T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MM/NCAR (AHW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ment the HFIP Diagnostics efforts led by Mark DeMa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ke use of preliminary diagnostic products generated by HFIP Diagnostics team to identify specific model behavi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vide more in-depth analysis of important model deficiencies and methods to improve model physics/dynamics/initia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ed by DT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ilitation and coordination of activ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ining and education on hurricane model diagno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velop advanced diagnostics t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97A8-31DA-43ED-B98E-FF475E82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Gill Sans MT"/>
              </a:rPr>
              <a:t>Objectives and Goal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atic comparison of model to observations and model inter-comparison studies will be carried out for both initial state/analyses and foreca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ying and analyzing various issues ranging from large-scale (synoptic scale) circulation features to mesoscale (vortex scale) featur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ote:  deficiency in observat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y various tools (e.g., graphics, model data sets, hurricane analysis/observational datasets, and methodology for various diagnostic measures) required to undertake this projec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y areas of model deficienci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 different environ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make recommendations for possible areas of model improvement.   (v. important tas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Diagnostics “Core” Group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 of tropical/hurricane scientists with demonstrated experti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devote ~75% to diagnostics a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assist HWRF model develo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:  implications of new flux sche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accommodate operational implementation schedules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0AEF-CE61-449F-8FC3-86008F80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788A-FA2C-4202-8840-765452FAC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Gill Sans MT"/>
              </a:rPr>
              <a:t>Role of DTC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n overarching infrastructure in support of the advanced hurricane model diagnostics effor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cilitate coordination between the scientists, the modeling groups and the ADD team lead as necessar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 computational infrastructure on the HFIP computer at Boulder to supplement needed model experi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 the responsibility in providing training to the academic researchers and by experts in the field through periodic tutorials and special worksho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velop a “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diagnostics toolbox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” as a common framework for model developers (simliliar to the MET toolbox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Deficiency in Obs – vortex scal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 that describe details of vortex evolution (3-D structure)  in different environments (thermodynamic/kinemati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ticularly in development stages  &lt; CAT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hurricane scale circul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 we have comprehensive data sets that  describe the intensity change process?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crophysics – missing data above melting level, e.g. hydrometeor fields – nucleation is not well underst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E6BA-5D67-4669-BC88-4F357ABBC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2314"/>
                </a:solidFill>
                <a:latin typeface="Gill Sans MT"/>
              </a:rPr>
              <a:t>(continued)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Hurricane/TC OBS deficienc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rricane /TC Observations Repository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CAR, JPL, NOAA, NAS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situ data, satellite, atmosphere/oce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750-471D-4ACE-9FB6-E5E1D383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ction item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dership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sonne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enci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FIP suppor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rdin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 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4:48Z</dcterms:created>
  <dc:creator>admin</dc:creator>
  <dc:description/>
  <dc:language>en-US</dc:language>
  <cp:lastModifiedBy>vijay.tallapragada</cp:lastModifiedBy>
  <dcterms:modified xsi:type="dcterms:W3CDTF">2010-11-08T11:52:31Z</dcterms:modified>
  <cp:revision>941</cp:revision>
  <dc:subject/>
  <dc:title>Slide 1</dc:title>
</cp:coreProperties>
</file>