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A17-459B-49A0-AFB0-591F86F5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B1C-D2E2-445E-9CE3-0A1B2A9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D14-BE4A-4822-BCE6-55836735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80A-6905-4076-8BB8-F450831D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690-84AB-4040-80A0-BB4D98EB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3EA-442E-444E-AA4B-C0D40EF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0CF-C1C7-460C-8519-2779043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2A4-2BF2-4A4A-A123-F2E682E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BFC-A7CA-468F-9813-78A0885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C63-B38E-49DE-BEB8-2A2FCC4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A6A-B077-4A56-A6C7-98FFD3D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850-CF17-421B-97D1-289A012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765AE-8721-498D-AD26-E37AFF57F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3B093-0031-4541-AD0D-4EF2907A3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dvanced AHW Diagno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an D. Torn, Univ. Albany SU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 Davis, N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371600" y="476244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W Assimilation System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W Forecas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y-to-go HWRF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WRF Hist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7600" y="5181480"/>
            <a:ext cx="8688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ATCF to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gram constructed via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either via Matlab or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HWRF_f048_mwnd.png"/>
          <p:cNvPicPr/>
          <p:nvPr/>
        </p:nvPicPr>
        <p:blipFill>
          <a:blip r:embed="rId1"/>
          <a:stretch/>
        </p:blipFill>
        <p:spPr>
          <a:xfrm>
            <a:off x="92160" y="1279440"/>
            <a:ext cx="4387680" cy="384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WRF_f048_wrad34.png"/>
          <p:cNvPicPr/>
          <p:nvPr/>
        </p:nvPicPr>
        <p:blipFill>
          <a:blip r:embed="rId2"/>
          <a:stretch/>
        </p:blipFill>
        <p:spPr>
          <a:xfrm>
            <a:off x="4664160" y="1279440"/>
            <a:ext cx="43876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WRF Hist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7600" y="5181480"/>
            <a:ext cx="8688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ATCF to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gram constructed via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either via Matlab or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WRF_f048_wrad34_mwde.png"/>
          <p:cNvPicPr/>
          <p:nvPr/>
        </p:nvPicPr>
        <p:blipFill>
          <a:blip r:embed="rId1"/>
          <a:stretch/>
        </p:blipFill>
        <p:spPr>
          <a:xfrm>
            <a:off x="92160" y="1279440"/>
            <a:ext cx="4387680" cy="381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WRF_f048_wrad34_btwd.png"/>
          <p:cNvPicPr/>
          <p:nvPr/>
        </p:nvPicPr>
        <p:blipFill>
          <a:blip r:embed="rId2"/>
          <a:stretch/>
        </p:blipFill>
        <p:spPr>
          <a:xfrm>
            <a:off x="4664160" y="1279440"/>
            <a:ext cx="4387680" cy="38102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9"/>
          <p:cNvSpPr/>
          <p:nvPr/>
        </p:nvSpPr>
        <p:spPr>
          <a:xfrm flipV="1">
            <a:off x="2023200" y="1484280"/>
            <a:ext cx="1800" cy="327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1"/>
          <p:cNvSpPr/>
          <p:nvPr/>
        </p:nvSpPr>
        <p:spPr>
          <a:xfrm>
            <a:off x="495360" y="3281400"/>
            <a:ext cx="32907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5060880" y="3294000"/>
            <a:ext cx="3291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Diagno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*WIND comparisons (either RMS difference or quadrant-by-quadrant fraction coverage, similar to Marchok calcul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sure Tenden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39920" y="1131480"/>
            <a:ext cx="374652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the imbalance in initi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d using high-frequency model output.  Files processed using short fortran program that writes netcdf tendency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ted via N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2010091106_IGOR_ptend.gif"/>
          <p:cNvPicPr/>
          <p:nvPr/>
        </p:nvPicPr>
        <p:blipFill>
          <a:blip r:embed="rId1"/>
          <a:stretch/>
        </p:blipFill>
        <p:spPr>
          <a:xfrm>
            <a:off x="228600" y="1131840"/>
            <a:ext cx="454968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2010102900_SHARY_ptend.gif"/>
          <p:cNvPicPr/>
          <p:nvPr/>
        </p:nvPicPr>
        <p:blipFill>
          <a:blip r:embed="rId2"/>
          <a:stretch/>
        </p:blipFill>
        <p:spPr>
          <a:xfrm>
            <a:off x="228600" y="3911760"/>
            <a:ext cx="4549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205240" y="1235160"/>
            <a:ext cx="367200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-scale model errors and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ing by region can demonstrate more detailed model bia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within AHW assimilation system, could extend to HWRF if grids are mad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L or Matlab plo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temperature1.png"/>
          <p:cNvPicPr/>
          <p:nvPr/>
        </p:nvPicPr>
        <p:blipFill>
          <a:blip r:embed="rId1"/>
          <a:stretch/>
        </p:blipFill>
        <p:spPr>
          <a:xfrm>
            <a:off x="457200" y="1069920"/>
            <a:ext cx="44737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ar-TC Ver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81600" y="1235160"/>
            <a:ext cx="410832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errors relative to obs. near TC.  Primarily for diagnosing near-storm environmental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from fortran program that windows observations based on distance to 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gation using fortr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dt.png"/>
          <p:cNvPicPr/>
          <p:nvPr/>
        </p:nvPicPr>
        <p:blipFill>
          <a:blip r:embed="rId1"/>
          <a:stretch/>
        </p:blipFill>
        <p:spPr>
          <a:xfrm>
            <a:off x="446040" y="1058760"/>
            <a:ext cx="41353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ner-Core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8640" y="4992480"/>
            <a:ext cx="87375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ison against aircraft and dropsonde obs. in vortex-relative space.  Eliminates position-related err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d via fortran program that reads WRF files and obs. from DA system and writes model estimates at observation lo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otting with Matlab, with transition to N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wspd.png"/>
          <p:cNvPicPr/>
          <p:nvPr/>
        </p:nvPicPr>
        <p:blipFill>
          <a:blip r:embed="rId1"/>
          <a:stretch/>
        </p:blipFill>
        <p:spPr>
          <a:xfrm>
            <a:off x="376200" y="1057320"/>
            <a:ext cx="4707000" cy="196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tmpk.png"/>
          <p:cNvPicPr/>
          <p:nvPr/>
        </p:nvPicPr>
        <p:blipFill>
          <a:blip r:embed="rId2"/>
          <a:stretch/>
        </p:blipFill>
        <p:spPr>
          <a:xfrm>
            <a:off x="376200" y="3025800"/>
            <a:ext cx="4707000" cy="19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010083112_EARL_obs.gif"/>
          <p:cNvPicPr/>
          <p:nvPr/>
        </p:nvPicPr>
        <p:blipFill>
          <a:blip r:embed="rId3"/>
          <a:stretch/>
        </p:blipFill>
        <p:spPr>
          <a:xfrm>
            <a:off x="5235480" y="1057320"/>
            <a:ext cx="3691080" cy="389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712800" y="30258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712800" y="10573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555920" y="4146480"/>
            <a:ext cx="32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i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grangian Diagno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3880" y="1234800"/>
            <a:ext cx="30286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extensively during PREDICT to evaluate processes that lead to 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Lagrangian metric is computed using a separate fortran program, could be merged into singl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via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2010091212_INVEST92_genesis_metrics.gif"/>
          <p:cNvPicPr/>
          <p:nvPr/>
        </p:nvPicPr>
        <p:blipFill>
          <a:blip r:embed="rId1"/>
          <a:stretch/>
        </p:blipFill>
        <p:spPr>
          <a:xfrm>
            <a:off x="100080" y="1322280"/>
            <a:ext cx="5819760" cy="424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00080" y="572616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trics:  circulation, thickness, humidity, vertical shear, divergence, precipitation, average wi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gram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39840" y="1109520"/>
            <a:ext cx="4049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conditional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ssimilation system, computed via separate fortran program, aggregated via Matlab script, output as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W forecasts have all-in-one fortr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ons can include equitable threat s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accomplished via Matlab with transition to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wr_histo_gray"/>
          <p:cNvPicPr/>
          <p:nvPr/>
        </p:nvPicPr>
        <p:blipFill>
          <a:blip r:embed="rId1"/>
          <a:stretch/>
        </p:blipFill>
        <p:spPr>
          <a:xfrm>
            <a:off x="357120" y="1109520"/>
            <a:ext cx="425772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27440" y="637524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s et al. 2010, 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matology Comparis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14480" y="1122480"/>
            <a:ext cx="40719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whether the model can replicate the observed distribution of a quantity, shows systematic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compute once you have quant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wr_histo_34-64-none_new"/>
          <p:cNvPicPr/>
          <p:nvPr/>
        </p:nvPicPr>
        <p:blipFill>
          <a:blip r:embed="rId1"/>
          <a:stretch/>
        </p:blipFill>
        <p:spPr>
          <a:xfrm>
            <a:off x="457200" y="1122480"/>
            <a:ext cx="3503520" cy="5610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141800" y="637524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s et al. 2010, 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 Sh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80880" y="1052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effect of storm from estimate of vertical shear between two levels (subscripts 1 and 2) by removing vertical difference of storm-related vortic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and divergen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"/>
          <p:cNvGraphicFramePr/>
          <p:nvPr/>
        </p:nvGraphicFramePr>
        <p:xfrm>
          <a:off x="1371600" y="1774800"/>
          <a:ext cx="619596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4800"/>
                    <a:ext cx="6195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1371600" y="2475000"/>
          <a:ext cx="610380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75000"/>
                    <a:ext cx="6103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1295280" y="3313080"/>
          <a:ext cx="34070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313080"/>
                    <a:ext cx="3407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7"/>
          <p:cNvGraphicFramePr/>
          <p:nvPr/>
        </p:nvGraphicFramePr>
        <p:xfrm>
          <a:off x="5181480" y="3389400"/>
          <a:ext cx="2210040" cy="32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389400"/>
                    <a:ext cx="22100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Group 15"/>
          <p:cNvGrpSpPr/>
          <p:nvPr/>
        </p:nvGrpSpPr>
        <p:grpSpPr>
          <a:xfrm>
            <a:off x="1828800" y="3835440"/>
            <a:ext cx="4975200" cy="2857320"/>
            <a:chOff x="1828800" y="3835440"/>
            <a:chExt cx="4975200" cy="2857320"/>
          </a:xfrm>
        </p:grpSpPr>
        <p:pic>
          <p:nvPicPr>
            <p:cNvPr id="85" name="Picture 9" descr="vor_shear_dev_ndb12_new"/>
            <p:cNvPicPr/>
            <p:nvPr/>
          </p:nvPicPr>
          <p:blipFill>
            <a:blip r:embed="rId9"/>
            <a:srcRect l="0" t="46811" r="0" b="0"/>
            <a:stretch/>
          </p:blipFill>
          <p:spPr>
            <a:xfrm>
              <a:off x="1828800" y="3835440"/>
              <a:ext cx="49752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vor_shear_dev_ndb12_new"/>
            <p:cNvPicPr/>
            <p:nvPr/>
          </p:nvPicPr>
          <p:blipFill>
            <a:blip r:embed="rId10"/>
            <a:srcRect l="49457" t="42558" r="41353" b="52914"/>
            <a:stretch/>
          </p:blipFill>
          <p:spPr>
            <a:xfrm>
              <a:off x="5508720" y="6350040"/>
              <a:ext cx="457200" cy="24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1"/>
          <p:cNvSpPr/>
          <p:nvPr/>
        </p:nvSpPr>
        <p:spPr>
          <a:xfrm>
            <a:off x="5029200" y="3236760"/>
            <a:ext cx="2514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228600" y="4368960"/>
            <a:ext cx="16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00 mb – 900 mb wind difference (and 900 mb relative vorticity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PAC developing compo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6477120" y="3313080"/>
            <a:ext cx="990360" cy="4572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4"/>
          <p:cNvCxnSpPr>
            <a:stCxn id="89" idx="6"/>
          </p:cNvCxnSpPr>
          <p:nvPr/>
        </p:nvCxnSpPr>
        <p:spPr>
          <a:xfrm>
            <a:off x="7467120" y="354132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xtBox 21"/>
          <p:cNvSpPr/>
          <p:nvPr/>
        </p:nvSpPr>
        <p:spPr>
          <a:xfrm>
            <a:off x="7848720" y="3236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6934320" y="4292640"/>
            <a:ext cx="16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00 mb – 900 mb wind difference with storm remov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PAC developing compo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6934320" y="61214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avis et al., 2008: M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41:14Z</dcterms:created>
  <dc:creator>Ryan Torn</dc:creator>
  <dc:description/>
  <dc:language>en-US</dc:language>
  <cp:lastModifiedBy>Ryan Torn</cp:lastModifiedBy>
  <dcterms:modified xsi:type="dcterms:W3CDTF">2010-11-05T14:37:05Z</dcterms:modified>
  <cp:revision>10</cp:revision>
  <dc:subject/>
  <dc:title>AHW Diagnostics</dc:title>
</cp:coreProperties>
</file>