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27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28"/>
          </p:nvPr>
        </p:nvSpPr>
        <p:spPr>
          <a:xfrm>
            <a:off x="-3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29"/>
          </p:nvPr>
        </p:nvSpPr>
        <p:spPr>
          <a:xfrm>
            <a:off x="39621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2D382B-AE35-4DC8-BE0A-C7F59C8D2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1E084A-1BB0-4169-B8A6-81C4CA492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D262BD-CAFC-43C1-A0A1-17BDC771B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FC66A6-362C-465F-9FEF-BC71828EB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B7EB8D-2CF2-4323-98B3-BF38552D6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1144C3-8AAD-486F-9E4A-441F1664E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45D69E-0400-4D51-81CE-D9AF933F6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C7A-8AF4-4A02-BA50-79389CE8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60F-DA12-41B6-A2FB-538CDC5E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B68596-7912-4761-996E-EBFDD484665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B3867D-BAE5-48BF-8151-EDE41024ED1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35A92-DCD9-48A1-B265-6E5C9344788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67289A-6A90-421F-80BC-5A6D2103B74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7CD28E-3851-4F29-8006-340D764AEB6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E3AB81-CE22-4196-AB87-F5F222B1CFA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69D220-2799-49DA-B536-96257897145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130252-D18F-4305-A514-C0D749788D4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DF5478-B70C-4B1C-9C58-F998FA303E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57D5-D8DC-4C25-9E3B-F29990823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170-73C9-4229-AFC9-677A56F9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A2038-84B0-4B27-B822-82C9349A016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B0B8-224A-4FFE-87CD-9DB5E5EED66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8D887-580C-4AB4-BE91-903B7F542D4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F1631-C124-4B27-BAFE-103F866606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3ADFF-446E-47B6-98E9-2BFC9A8488E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86410-9EBA-4C0C-82F4-CFD37176145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C9239-E737-4F4F-857F-62E3A56124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0BEE4-44D6-437D-B459-3EB1A717395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2A8AD-5546-4DF4-A43D-E756AD9FC9B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384AE-7274-4D38-B3EE-D4F84EE37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135-B1D7-4CD5-B1C4-4636A235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B7D99-876A-4CF6-9856-9215D206483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73B9A-AD03-4388-8EF4-05C7FF23BDA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A336CE-ECAA-4397-8C56-C1ED64A444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ABED05-7516-4E60-BE4F-D80D532BE5C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DCD74B-FAB2-4069-AE99-3BAC90CA8B5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7BB409-8211-4FA7-9004-131AC312D3E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86F29A-D45D-450A-B4C7-8207A9C835E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CB123-49EC-40B4-85C7-0E8072F7D0D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10A649-0B8C-47FB-9E88-1DB4EB4FA1D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F38161-C7A4-4E9C-908D-898578B05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DBF2-60F2-42B6-9239-427A61A7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EB6D21-5D2E-4B73-BD0C-AF5394D3258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76ACE5-21D0-47A8-B4E9-86D7DA588FC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BD87AA-9206-4D74-AA91-A180EBD385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2264-B858-4AC7-B1D5-A16B2397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99F7-58C7-46B7-9BB9-B250D555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8690-D91A-434B-A610-B6BC0A1E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0890-1D3C-4858-A282-F5139C85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7B5E-6FB6-4D4E-8631-B329E481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220A-7858-401C-A6BF-9B0EAE2F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CB8-BF3F-41B8-9A63-E1B6BD3E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E5BE-99AD-4A5C-884C-869F186C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2D45-223D-44BE-A119-A6F0E0C4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0411-9184-4947-AB8D-4AFEEA54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4501-E7A8-4C61-866E-6E7F999D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C3CE-C0B9-4A88-8CA4-F87EA4E3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CBDE9-86EE-4F7F-8B48-B3466BE0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E564-8390-4CA6-B693-08B6B6C5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C5B5-5B63-45CF-99D8-2CD8EAFB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6488-E905-41DC-A8BB-AA200490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C333-B44B-4CF4-8D40-DDE5D226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C8D-0830-4266-87E4-6835F4E9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DACA-1430-4E3B-BDA2-D591CA51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4989F-8E09-4880-9FE3-C8F6B873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9935-5814-465A-B289-4147730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7F28B-6798-44A2-8418-27E5A706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A467-049D-4501-A748-96D19B9C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A8CA9-4938-4E74-9F95-5B22D1E2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BCA9-009E-4F8E-93FF-507E15A8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7997F-A978-4DA7-8D42-4C53B061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DCD70-859E-46E5-84BD-5DB301E2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D32A-23EE-4141-AC10-45A593B2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022-DE64-42E1-BD3C-81F18E94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7220A-12B3-4B85-BC0A-3BA361F3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29B52-99E5-458A-AFF3-A7EB7144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61972-EC1B-479E-B988-1372BB87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C26B8-0F54-420A-BE77-28FAE3EB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1527D-CA28-48AF-9EB5-5C5ED05F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3DFD-05D4-4AE4-88BA-21645EF5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1EA32-75ED-4744-90E0-8CE88CF9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BE82-3624-4CCA-BCB9-C1CB4FBD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6BF09-E96A-4D96-BB8B-82B8B785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8528C-9F5A-4A1C-A90C-99239B38A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44A-6284-413F-9888-3E840ED2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E4690-7F6F-4191-9E59-7F12B00A698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5AA3C-C0FB-4CB0-A3C4-0E3714693DE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414DE-3F49-4465-8638-ECBCDB8781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6CFB3-68DB-4F27-AF7A-B8A449AD347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DC9F6-7BEB-4F6A-A02E-E9A84EE8088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9C6E1-FB25-46F8-B037-1BDF0ED86E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F775C-A7B2-4590-84BD-569B179BD4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4BC8C-A17A-47CD-8F95-97056750FE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E12FB-3D80-4E21-ACD6-517F718BC0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7A60B-9B9D-4FAE-9497-BD0FC69FC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750-2A63-42AA-8258-82F5387F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DE89E-4B92-43E2-9C91-3A9F5E0A837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409D4E-1D52-4B64-A645-F1C5B650F2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D752C0-1B8A-4AF4-A4F2-E8ECD6104C1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B44BDE-858C-4091-81EB-8FEBCDAD082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C0C501-F3B7-4179-8E8F-9A9D77DA8B7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A2FC9F-799C-4995-8583-54A7869B4BD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1EBD48-B41F-499C-B228-D2E008987F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4A21B4-4E5F-4D33-94E6-F1E58ECFDE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7F9CA7-0AF3-45A0-8036-E863C24D964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E7F203-DF9A-4E00-9FC0-772563FF6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9B3-AD46-4605-8511-3FADECC9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8BBA5B-E50A-4D06-9BA9-7568397C2F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5EBF63-1632-4D99-8AFA-DD6371A6DEB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A0D5A7-3B3F-4D7A-8AC5-5E8B861EF0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F2147-3278-4709-AD4B-1D8EEDD493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F7D76-EADD-4D8E-9586-32CE5523006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4290E-750E-407C-B968-94999137323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C72C8-6428-4461-8F81-B9D11A68FE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F3594-5BA0-4424-8A88-643C7C58D8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6BB3D-ECC7-4BB5-9C56-50AA08D04B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F9DF9-E4F0-4092-B2A4-977996350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8C8-86C3-4049-A4A2-A47A9B64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BBC46-1E87-4C35-BC11-C7430AACCE0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1E747-3FB5-4144-B40F-B945D9AC6A1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C57F8-A7FA-4B14-B31D-674207C2C0F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7ABAA-041C-48A5-9041-76AA581187D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B5666-1CCD-43A9-827B-4010ED9D30B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D5436-39CC-428A-A490-7FC5DA05942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BB0B4-0C98-45B9-B7E3-FD8816B8E2C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C3725-E029-45F3-BE63-5469F230A90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0670D-BA5F-4F10-BCA7-FE1F5E68B66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D07DC-41A0-4161-886B-368C37546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671-0EE4-4A81-9A5B-C1B68602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F54BB-A5E7-4055-B9A6-52011A9860A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B0D1EA-4333-4192-9A73-0642369D7A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2C21D-BAE4-485D-99B1-39F6B6A106A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256A8-459B-4E44-A333-5E3F793DE0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154557-C337-4011-A014-C315CF44257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7A949-4409-478D-A97F-5E1A476578B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E6DC6-935E-411A-853A-7DB5C5DDA0F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9EEC02-A5E5-4835-A6F2-CE102D5E62E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7FFD24-DE9B-44A8-9270-DEBF19438F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7B7992-1A4D-4847-9995-072205AEC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6C8A-B0F6-44AE-88AB-10152F6DF2B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BC50-BBBD-4658-B447-D5776512A2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59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00A4-A261-4F73-87C2-796390CCAA0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97F6-D89D-4891-92F4-93A5EA07CFC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D078-3453-4CE3-9294-A1C66F3DDB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1C86-2A9C-4EAC-90C2-C167FE0CAD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7155-0FD1-49ED-A550-62CDD2F7B0D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32F3-AA50-456E-AD40-92075B13F2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1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A245-9BC9-406F-BA56-C9587A39D6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1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AD53-38EA-4C3C-9860-5C8D46E8102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F20B-43C1-447A-B114-C795E93E8D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CAB3-D01E-4370-80DE-A07BF5A1918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14400" y="2133720"/>
            <a:ext cx="822960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Short term plan to assist 2011 HWRF implemen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34920" y="27000"/>
            <a:ext cx="9067680" cy="68216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7"/>
          <p:cNvGraphicFramePr/>
          <p:nvPr/>
        </p:nvGraphicFramePr>
        <p:xfrm>
          <a:off x="392040" y="316080"/>
          <a:ext cx="70812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316080"/>
                    <a:ext cx="70812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8"/>
          <p:cNvGraphicFramePr/>
          <p:nvPr/>
        </p:nvGraphicFramePr>
        <p:xfrm>
          <a:off x="1386000" y="177840"/>
          <a:ext cx="246204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6000" y="177840"/>
                    <a:ext cx="24620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9"/>
          <p:cNvGraphicFramePr/>
          <p:nvPr/>
        </p:nvGraphicFramePr>
        <p:xfrm>
          <a:off x="4240080" y="423720"/>
          <a:ext cx="708120" cy="6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0080" y="423720"/>
                    <a:ext cx="708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Line 10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7"/>
          <a:stretch/>
        </p:blipFill>
        <p:spPr>
          <a:xfrm>
            <a:off x="5118120" y="200160"/>
            <a:ext cx="3771720" cy="11970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2"/>
          <p:cNvSpPr/>
          <p:nvPr/>
        </p:nvSpPr>
        <p:spPr>
          <a:xfrm>
            <a:off x="91440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HFIP Stream 1 Regional Hurricane Model Diagnostics Planning Meeting, 11/08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1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Proposed 2011 operational HWRF Configuration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142640" y="914040"/>
            <a:ext cx="7791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F infrastructure upgrade to HWRFV3.2+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ified initialization to include post-balance, improved storm size correction and several bug fixes (major focus are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GFS Deep Convection (and possible shallow convection, PB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ified horizontal diffu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upling to Hy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g fixes for radiation and microphys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frequency and high-precision output for several model variab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70F2-89D6-4C21-98FE-B53549D9EB3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urrent Stat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-21492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erational HWRFV2.0 developments merged with the community WRF NMM repository V3.2 complet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ition of operational vortex initialization, ocean coupling, post-processing, swath file generation and other utilities to V3.2 framework complet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seline testing of HWRFV3.2 (known as HWRF R2 with POM) completed.  Baseline testing with HyCOM (HWRF R3) is currently in progres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1630-0573-4695-96D7-E68755E1DC7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going developme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sting of new nest motion algorith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ssible high-resolution triple-nested HWRF 27/9/3 configuration for parallel tes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AH LS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ovements to surface physics, three-way coupling to wave model, inclusion of sea spray eff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itional simulated microwave image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71B4-8CF7-4836-A043-EB72130DB6D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hort Term Plan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142640" y="914400"/>
            <a:ext cx="7715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ost proc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ine 6-hrly output for majority of 3-D and surface variables (including derived variables, simulated satellite product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-frequency output for the nested domain (3-hrl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urly output for max. winds and precip for the nested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6-hrly POM output and hourly HyCOM output for ocean diagnost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un time diagnos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6-hrly ATCF track and intens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-hrly diagnostic tracker outpu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nd swaths and precip swath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itial vortex evaluation (Wallace Hogset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C Diagnostics for vortex structure (In-Hyuk Kwo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C Diagnostics file (Mark DeMaria and Brian McNold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IPS Predictors (Mark DeMaria and Kate Musgrav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E4E5-0F59-4197-A232-0402FA83080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791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hort Term Plans for FY2011 implementation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295280" y="13716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 test  s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008 ATL: Fay, Hanna, Gustav and Ik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009: All ATL and EPA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010: All ATL and EPA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RIB for post-processed produ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inary for ocean model outpu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cii data for diagnostic product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ison with observations (in situ, satellite)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-D gridded analysis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tellite and aircraft (P3) datas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v.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2010 through March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FDE1-79DA-4BB3-B974-F31692334E3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Rapid Response Team for real-time suppor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essons learnt from other regional hurricane modeling grou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ction i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ord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gress update and time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4:48Z</dcterms:created>
  <dc:creator>admin</dc:creator>
  <dc:description/>
  <dc:language>en-US</dc:language>
  <cp:lastModifiedBy>vijay.tallapragada</cp:lastModifiedBy>
  <dcterms:modified xsi:type="dcterms:W3CDTF">2010-11-08T11:54:26Z</dcterms:modified>
  <cp:revision>940</cp:revision>
  <dc:subject/>
  <dc:title>Slide 1</dc:title>
</cp:coreProperties>
</file>