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63600" y="880740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5C91-C057-4776-8854-DEE8D9120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963960" y="88074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025B-36C9-470C-AE02-A76CA4148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963960" y="88074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86D7-6CE1-4DDB-B399-06E95BACC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63960" y="88074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7C47-7B09-499D-84FD-28BE2B141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: Note that in addition to dropsonde measurements this dataset includes data about the storm and its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963960" y="88074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39D7-022D-4C0A-B98C-FC0AFB1DC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963960" y="88074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A95C-C267-48C5-8798-6CED68E34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963960" y="88074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62C3-3616-4CFC-8FA8-177EF4E90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63960" y="880740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1A06-ABA6-464F-903C-822A0473A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41C9-13F6-4486-9735-660EF2FD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CCBD-BE85-4A53-893F-9DB99522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77F2-6B63-49B8-AF3A-ADFC50BD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6F38-1F08-4074-9CE7-E3560137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9DAD-C1B7-4248-8FF9-2618EB8C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10EE-1309-4127-8B01-5623AE59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F007-B4E3-4EDB-8308-8CCE7C5D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DCDF-9040-4BE4-8764-8B871F80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560" y="22824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8709-0CBB-4D54-AA24-52170036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5042-2E1E-4586-8F9E-015F0D17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88A1-8309-4DA5-AFC7-4387D185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EC7A-E068-4D36-AF79-29995D2F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7E63-CA43-43FD-977B-7DD5B8185FC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1523880"/>
            <a:ext cx="8686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3"/>
          <p:cNvSpPr/>
          <p:nvPr/>
        </p:nvSpPr>
        <p:spPr>
          <a:xfrm rot="18900000">
            <a:off x="6248880" y="510516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7" descr="NOAA"/>
          <p:cNvPicPr/>
          <p:nvPr/>
        </p:nvPicPr>
        <p:blipFill>
          <a:blip r:embed="rId2"/>
          <a:stretch/>
        </p:blipFill>
        <p:spPr>
          <a:xfrm>
            <a:off x="152280" y="152280"/>
            <a:ext cx="1192320" cy="1192320"/>
          </a:xfrm>
          <a:prstGeom prst="rect">
            <a:avLst/>
          </a:prstGeom>
          <a:ln w="0">
            <a:noFill/>
          </a:ln>
          <a:effectLst>
            <a:outerShdw dist="40186" dir="1096358" blurRad="0" rotWithShape="0">
              <a:srgbClr val="000066">
                <a:alpha val="5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0570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zing the Impact of Shea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ropical Cyclones using Dropsondes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ly Pal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Nebraska-Linco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ors: Leon Nguyen, Robert Rogers, and Jon Zawisl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ML/H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3,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eri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psondes must be betwee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 and 200 k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tropical cyclone’s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sity (Maximum Sustained Wind Spe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pical Depression and Storm:  &lt; 64 kn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rricane: Between 64 knots and 95 kn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Hurricane: &gt; 95 kn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 Vertical Wind Shear Magnit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: &lt; 5 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: Between 5 and 10 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: &gt; 10 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EFE0-3D30-4FC8-97BC-113162AC978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iz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7EB5-F576-487D-9DF7-139B96E087B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rcRect l="0" t="9578" r="0" b="4127"/>
          <a:stretch/>
        </p:blipFill>
        <p:spPr>
          <a:xfrm>
            <a:off x="1752480" y="1568520"/>
            <a:ext cx="6132600" cy="5289480"/>
          </a:xfrm>
          <a:prstGeom prst="rect">
            <a:avLst/>
          </a:prstGeom>
          <a:ln w="0">
            <a:noFill/>
          </a:ln>
        </p:spPr>
      </p:pic>
      <p:sp>
        <p:nvSpPr>
          <p:cNvPr id="90" name="Up Arrow 6"/>
          <p:cNvSpPr/>
          <p:nvPr/>
        </p:nvSpPr>
        <p:spPr>
          <a:xfrm>
            <a:off x="4665600" y="3532320"/>
            <a:ext cx="304920" cy="60948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iz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1489-4A5A-4F2B-AEC7-59EAA0F25C2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rcRect l="0" t="9578" r="0" b="4127"/>
          <a:stretch/>
        </p:blipFill>
        <p:spPr>
          <a:xfrm>
            <a:off x="1752480" y="1568520"/>
            <a:ext cx="6132600" cy="5289480"/>
          </a:xfrm>
          <a:prstGeom prst="rect">
            <a:avLst/>
          </a:prstGeom>
          <a:ln w="0">
            <a:noFill/>
          </a:ln>
        </p:spPr>
      </p:pic>
      <p:sp>
        <p:nvSpPr>
          <p:cNvPr id="94" name="Up Arrow 6"/>
          <p:cNvSpPr/>
          <p:nvPr/>
        </p:nvSpPr>
        <p:spPr>
          <a:xfrm>
            <a:off x="4665600" y="3532320"/>
            <a:ext cx="304920" cy="60948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5391000" y="6138720"/>
            <a:ext cx="1924200" cy="33840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298600" y="6138720"/>
            <a:ext cx="1968480" cy="33840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5370480" y="3505320"/>
            <a:ext cx="1944720" cy="33804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2295360" y="3505320"/>
            <a:ext cx="1971720" cy="33156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 Testing Hypothesis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0CFB-C973-48BF-A0DA-0D71ED4541E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3" descr=""/>
          <p:cNvPicPr/>
          <p:nvPr/>
        </p:nvPicPr>
        <p:blipFill>
          <a:blip r:embed="rId1"/>
          <a:srcRect l="4444" t="12225" r="8888" b="7777"/>
          <a:stretch/>
        </p:blipFill>
        <p:spPr>
          <a:xfrm>
            <a:off x="0" y="2644920"/>
            <a:ext cx="4548240" cy="4198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2"/>
          <a:srcRect l="4444" t="12225" r="7777" b="7777"/>
          <a:stretch/>
        </p:blipFill>
        <p:spPr>
          <a:xfrm>
            <a:off x="4513320" y="2644920"/>
            <a:ext cx="4606920" cy="41986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"/>
          <p:cNvSpPr/>
          <p:nvPr/>
        </p:nvSpPr>
        <p:spPr>
          <a:xfrm>
            <a:off x="255600" y="1536840"/>
            <a:ext cx="865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hesis 1: Strong downdrafts from convection in the downshear regions bring cold stable air into the boundary layer. This is advected downstream into the upshear re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rrow: Left-Right 1"/>
          <p:cNvSpPr/>
          <p:nvPr/>
        </p:nvSpPr>
        <p:spPr>
          <a:xfrm>
            <a:off x="6303960" y="5638680"/>
            <a:ext cx="428760" cy="76320"/>
          </a:xfrm>
          <a:prstGeom prst="leftRightArrow">
            <a:avLst>
              <a:gd name="adj1" fmla="val 50000"/>
              <a:gd name="adj2" fmla="val 49937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lowchart: Connector 7"/>
          <p:cNvSpPr/>
          <p:nvPr/>
        </p:nvSpPr>
        <p:spPr>
          <a:xfrm flipV="1">
            <a:off x="7332840" y="6172200"/>
            <a:ext cx="75960" cy="7632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lowchart: Connector 8"/>
          <p:cNvSpPr/>
          <p:nvPr/>
        </p:nvSpPr>
        <p:spPr>
          <a:xfrm flipV="1">
            <a:off x="2819520" y="6161040"/>
            <a:ext cx="75960" cy="7632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6000" y="15238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hesis 1: Strong downdrafts from convection in the downshear regions bring cold stable air into the boundary layer. This is advected downstream into the upshear reg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EA2F-42A1-4409-ABBF-74CA30C7B70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2" descr=""/>
          <p:cNvPicPr/>
          <p:nvPr/>
        </p:nvPicPr>
        <p:blipFill>
          <a:blip r:embed="rId1"/>
          <a:srcRect l="4444" t="11114" r="10003" b="7777"/>
          <a:stretch/>
        </p:blipFill>
        <p:spPr>
          <a:xfrm>
            <a:off x="14400" y="2590920"/>
            <a:ext cx="4500360" cy="4267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"/>
          <p:cNvPicPr/>
          <p:nvPr/>
        </p:nvPicPr>
        <p:blipFill>
          <a:blip r:embed="rId2"/>
          <a:srcRect l="4444" t="12225" r="8888" b="7777"/>
          <a:stretch/>
        </p:blipFill>
        <p:spPr>
          <a:xfrm>
            <a:off x="4603680" y="2666880"/>
            <a:ext cx="4540320" cy="4191120"/>
          </a:xfrm>
          <a:prstGeom prst="rect">
            <a:avLst/>
          </a:prstGeom>
          <a:ln w="0">
            <a:noFill/>
          </a:ln>
        </p:spPr>
      </p:pic>
      <p:sp>
        <p:nvSpPr>
          <p:cNvPr id="111" name="Title 1"/>
          <p:cNvSpPr/>
          <p:nvPr/>
        </p:nvSpPr>
        <p:spPr>
          <a:xfrm>
            <a:off x="1371600" y="152280"/>
            <a:ext cx="7543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 Testing Hypothesis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rrow: Left-Right 9"/>
          <p:cNvSpPr/>
          <p:nvPr/>
        </p:nvSpPr>
        <p:spPr>
          <a:xfrm>
            <a:off x="6172200" y="5638680"/>
            <a:ext cx="609480" cy="76320"/>
          </a:xfrm>
          <a:prstGeom prst="leftRightArrow">
            <a:avLst>
              <a:gd name="adj1" fmla="val 50000"/>
              <a:gd name="adj2" fmla="val 49912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lowchart: Connector 11"/>
          <p:cNvSpPr/>
          <p:nvPr/>
        </p:nvSpPr>
        <p:spPr>
          <a:xfrm flipV="1">
            <a:off x="3200400" y="6172200"/>
            <a:ext cx="76320" cy="7632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lowchart: Connector 12"/>
          <p:cNvSpPr/>
          <p:nvPr/>
        </p:nvSpPr>
        <p:spPr>
          <a:xfrm flipV="1">
            <a:off x="7772400" y="6172200"/>
            <a:ext cx="76320" cy="7632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62040"/>
            <a:ext cx="86868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hesis 1: Strong downdrafts from convection in the downshear regions bring cold stable air into the boundary layer. This is advected downstream into the upshear reg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02FE-A669-446E-8D5E-EDB7F47F166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1"/>
          <a:srcRect l="4444" t="12225" r="5555" b="7777"/>
          <a:stretch/>
        </p:blipFill>
        <p:spPr>
          <a:xfrm>
            <a:off x="0" y="2819520"/>
            <a:ext cx="4543560" cy="4038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2"/>
          <a:srcRect l="4444" t="12225" r="4444" b="7777"/>
          <a:stretch/>
        </p:blipFill>
        <p:spPr>
          <a:xfrm>
            <a:off x="4535640" y="2819520"/>
            <a:ext cx="4608360" cy="4046400"/>
          </a:xfrm>
          <a:prstGeom prst="rect">
            <a:avLst/>
          </a:prstGeom>
          <a:ln w="0">
            <a:noFill/>
          </a:ln>
        </p:spPr>
      </p:pic>
      <p:sp>
        <p:nvSpPr>
          <p:cNvPr id="119" name="Title 1"/>
          <p:cNvSpPr/>
          <p:nvPr/>
        </p:nvSpPr>
        <p:spPr>
          <a:xfrm>
            <a:off x="1371600" y="152280"/>
            <a:ext cx="7543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 Testing Hypothesis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rrow: Left-Right 7"/>
          <p:cNvSpPr/>
          <p:nvPr/>
        </p:nvSpPr>
        <p:spPr>
          <a:xfrm>
            <a:off x="6438960" y="5715000"/>
            <a:ext cx="671400" cy="76320"/>
          </a:xfrm>
          <a:prstGeom prst="leftRightArrow">
            <a:avLst>
              <a:gd name="adj1" fmla="val 50000"/>
              <a:gd name="adj2" fmla="val 49932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lowchart: Connector 2"/>
          <p:cNvSpPr/>
          <p:nvPr/>
        </p:nvSpPr>
        <p:spPr>
          <a:xfrm flipV="1">
            <a:off x="7591320" y="6210360"/>
            <a:ext cx="76320" cy="7632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lowchart: Connector 10"/>
          <p:cNvSpPr/>
          <p:nvPr/>
        </p:nvSpPr>
        <p:spPr>
          <a:xfrm flipV="1">
            <a:off x="3048120" y="6210360"/>
            <a:ext cx="75960" cy="7632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960B-BF9E-450F-87F2-920E84C774C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rcRect l="0" t="5555" r="0" b="46669"/>
          <a:stretch/>
        </p:blipFill>
        <p:spPr>
          <a:xfrm>
            <a:off x="0" y="2514600"/>
            <a:ext cx="9150480" cy="4343400"/>
          </a:xfrm>
          <a:prstGeom prst="rect">
            <a:avLst/>
          </a:prstGeom>
          <a:ln w="0">
            <a:noFill/>
          </a:ln>
        </p:spPr>
      </p:pic>
      <p:sp>
        <p:nvSpPr>
          <p:cNvPr id="125" name="Title 1"/>
          <p:cNvSpPr/>
          <p:nvPr/>
        </p:nvSpPr>
        <p:spPr>
          <a:xfrm>
            <a:off x="1371600" y="196920"/>
            <a:ext cx="75438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 Testing Hypothesis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026"/>
          <p:cNvSpPr/>
          <p:nvPr/>
        </p:nvSpPr>
        <p:spPr>
          <a:xfrm>
            <a:off x="228600" y="1523880"/>
            <a:ext cx="8686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hesis 2: Subsidence is occurring in the upshear region, leading to decreased relative humidity and the presence of a capping i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38B0-6A51-4650-A300-1CFC877EB8D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15238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hesis 2: Subsidence is occurring in the upshear region, leading to decreased relative humidity and the presence of a capping invers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rcRect l="207" t="53298" r="-203" b="74"/>
          <a:stretch/>
        </p:blipFill>
        <p:spPr>
          <a:xfrm>
            <a:off x="6480" y="2590920"/>
            <a:ext cx="9150120" cy="4267080"/>
          </a:xfrm>
          <a:prstGeom prst="rect">
            <a:avLst/>
          </a:prstGeom>
          <a:ln w="0">
            <a:noFill/>
          </a:ln>
        </p:spPr>
      </p:pic>
      <p:sp>
        <p:nvSpPr>
          <p:cNvPr id="130" name="Title 1"/>
          <p:cNvSpPr/>
          <p:nvPr/>
        </p:nvSpPr>
        <p:spPr>
          <a:xfrm>
            <a:off x="1371600" y="152280"/>
            <a:ext cx="7543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 Testing Hypothesis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ight Brace 2"/>
          <p:cNvSpPr/>
          <p:nvPr/>
        </p:nvSpPr>
        <p:spPr>
          <a:xfrm>
            <a:off x="3657600" y="39625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1828800"/>
              <a:gd name="textAreaBottom" fmla="*/ 1820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ight Brace 8"/>
          <p:cNvSpPr/>
          <p:nvPr/>
        </p:nvSpPr>
        <p:spPr>
          <a:xfrm>
            <a:off x="8229600" y="42670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1600200"/>
              <a:gd name="textAreaBottom" fmla="*/ 1592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16200" y="10800"/>
                  <a:pt x="21600" y="10800"/>
                </a:cubicBezTo>
                <a:cubicBezTo>
                  <a:pt x="162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051E-E465-4710-9A77-01A2E9897C0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044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ler, more stable air is present in the boundary layer when tropical cyclone are experiencing high shear in all quadrants of tropical storms and category 1-2 hurricanes with maximum cooling occurring in the USL quadr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A4A8-669A-4922-9BCA-D6844CB6AEB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044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ler, more stable air is present in the boundary layer when tropical cyclone are experiencing high shear in all quadrants of tropical storms and category 1-2 hurricanes with maximum cooling occurring in the USL quadr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ulations: Stronger flow in major hurricanes corresponds to great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face fluxes from the ocean. These stronger fluxes recover the cooler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stable air in right of shear quadr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8973-C8BD-46CE-B25A-CAFD045D1C9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28600" y="19047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tion: Lack a deep understanding of the intensification of tropical cyclones impacted by shear, particularly those experiencing moderate s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stud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gers et al. 2016 – Edoua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wislak et al. 2016 – Edoua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uyen el al. 2017 – Bertha and Crist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A339-4B16-4CA3-994C-155A7EA9137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ler, more stable air is present in the boundary layer when tropical cyclone are experiencing high shear in all quadrants of tropical storms and category 1-2 hurricanes with maximum cooling occurring in the USL quadr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ulations: Stronger flow in major hurricanes corresponds to great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face fluxes from the ocean. These stronger fluxes recover the cooler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stable air in right of shear quadr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shear increases, relative humidity in the upshear quadrants decreases, especially at mid-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E971-F1E2-4FAE-A7E6-86026A277D9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044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ler, more stable air is present in the boundary layer when tropical cyclone are experiencing high shear in all quadrants of tropical storms and category 1-2 hurricanes with maximum cooling occurring in the USL quadr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ulations: Stronger flow in major hurricanes corresponds to great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face fluxes from the ocean. These stronger fluxes recover the cooler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stable air in right of shear quadr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shear increases, relative humidity in the upshear quadrants decreases, especially at mid-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ulations: May be caused by more dry air being advected into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pical storm or by stronger subsidence due to the increased tilt of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rtex of the tropical cycl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066E-3319-48C7-BA4F-0AA6F540507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Step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at the above variables with regard to intensity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the statistical significance of the above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work at the Hollings Symposium in Silver Spring, MD during the first week of Aug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76F0-2C57-4A75-B71B-98B8351F272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590920" y="2943360"/>
            <a:ext cx="6553080" cy="3895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he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240" y="1599840"/>
            <a:ext cx="4343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ng downdrafts from convection in the downshear regions bring cold stable air into the boundary layer. This is advected downstream into the upshear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FDEF-95A8-48DC-87ED-4EAD6DB782C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4495680" y="1600200"/>
            <a:ext cx="44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idence is occurring in the upshear region, leading to decreased relative humidity and the presence of a capping i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76"/>
          <p:cNvSpPr/>
          <p:nvPr/>
        </p:nvSpPr>
        <p:spPr>
          <a:xfrm>
            <a:off x="228600" y="426708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y air is advected into the upshear region from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6019920" y="639756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guyen et al. 20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0440" y="1828800"/>
            <a:ext cx="86868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d by Jon Zawislak and Leon Nguy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: 20,733 dropson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Span: 1996-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ean Basins: Atlantic, East Pacific, and West Pa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craft:  C130, DC8, Dotstar, ER2, Falcon, GH, GIV, P3,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B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: Dropsonde data, Position with respect to the interpo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ight level tropical cyclone center, Shear parameters,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sity change parameter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7F0A-0E2B-4C6C-86BD-709E8402F97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EF17-69AC-4340-99C2-00259228106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5867280" y="36273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opical Depressions and St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Hurrica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ajor Hurrica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" descr=""/>
          <p:cNvPicPr/>
          <p:nvPr/>
        </p:nvPicPr>
        <p:blipFill>
          <a:blip r:embed="rId1"/>
          <a:srcRect l="4443" t="17781" r="17781" b="7779"/>
          <a:stretch/>
        </p:blipFill>
        <p:spPr>
          <a:xfrm>
            <a:off x="380880" y="1601640"/>
            <a:ext cx="5486400" cy="5251680"/>
          </a:xfrm>
          <a:prstGeom prst="rect">
            <a:avLst/>
          </a:prstGeom>
          <a:ln w="0">
            <a:noFill/>
          </a:ln>
        </p:spPr>
      </p:pic>
      <p:sp>
        <p:nvSpPr>
          <p:cNvPr id="70" name="Up Arrow 3"/>
          <p:cNvSpPr/>
          <p:nvPr/>
        </p:nvSpPr>
        <p:spPr>
          <a:xfrm>
            <a:off x="3429000" y="5562720"/>
            <a:ext cx="304920" cy="60948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0461-018B-4865-93DA-074D3E095B0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440" y="1828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d procedures to visualize various thermodynamic and kinematic variables in a shear-relative fra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humi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t potential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vapor mixing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l 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eri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psondes must be betwee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 and 200 k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tropical cyclone’s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3E75-E874-4EC2-98AC-D5E13BA493A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psondes Shear-relative Loc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AE58-B13A-4578-80CF-BB092768CB0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5943600" y="34290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opical Depressions and St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Hurrica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ajor Hurrica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rcRect l="4441" t="17779" r="17779" b="8887"/>
          <a:stretch/>
        </p:blipFill>
        <p:spPr>
          <a:xfrm>
            <a:off x="357120" y="1595520"/>
            <a:ext cx="55818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eri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psondes must be betwee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 and 200 k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tropical cyclone’s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sity (Maximum Sustained Wind Spe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pical Depression and Storm:  &lt; 64 kn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rricane: Between 64 knots and 95 kn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Hurricane: &gt; 95 kn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FFB6-E8F1-44E8-BD8B-5BE6FE8561D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7T18:06:43Z</dcterms:created>
  <dc:creator>kamos</dc:creator>
  <dc:description/>
  <dc:language>en-US</dc:language>
  <cp:lastModifiedBy>Emily Paltz</cp:lastModifiedBy>
  <dcterms:modified xsi:type="dcterms:W3CDTF">2017-07-13T13:17:40Z</dcterms:modified>
  <cp:revision>114</cp:revision>
  <dc:subject/>
  <dc:title>NEC Standard Presentation Format</dc:title>
</cp:coreProperties>
</file>