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6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09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ce1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0200"/>
            <a:ext cx="77709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ce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6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1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ce1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2209680"/>
            <a:ext cx="3791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ce1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0200"/>
            <a:ext cx="3791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ce1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0200"/>
            <a:ext cx="3791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ce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6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0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ce1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2209680"/>
            <a:ext cx="25020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ce1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2209680"/>
            <a:ext cx="25020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ce1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0200"/>
            <a:ext cx="25020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ce1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0200"/>
            <a:ext cx="25020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ce1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0200"/>
            <a:ext cx="25020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ce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6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09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ce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6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09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ce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6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1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ce1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2209680"/>
            <a:ext cx="3791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ce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6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6600"/>
            <a:ext cx="77709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ce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6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1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ce1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2209680"/>
            <a:ext cx="3791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ce1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0200"/>
            <a:ext cx="3791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ce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6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1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ce1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2209680"/>
            <a:ext cx="3791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ce1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0200"/>
            <a:ext cx="3791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ce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6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1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ce1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2209680"/>
            <a:ext cx="3791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ce1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0200"/>
            <a:ext cx="77709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ce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CoverGlyph.png"/>
          <p:cNvPicPr/>
          <p:nvPr/>
        </p:nvPicPr>
        <p:blipFill>
          <a:blip r:embed="rId3"/>
          <a:stretch/>
        </p:blipFill>
        <p:spPr>
          <a:xfrm>
            <a:off x="4010040" y="3048120"/>
            <a:ext cx="1123920" cy="771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6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09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97440" indent="-397440">
              <a:spcBef>
                <a:spcPts val="2001"/>
              </a:spcBef>
              <a:buClr>
                <a:srgbClr val="9bbb59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eece1"/>
              </a:solidFill>
              <a:latin typeface="Times New Roman"/>
            </a:endParaRPr>
          </a:p>
          <a:p>
            <a:pPr lvl="1" marL="795240" indent="-397440">
              <a:spcBef>
                <a:spcPts val="2001"/>
              </a:spcBef>
              <a:buClr>
                <a:srgbClr val="4f6228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eece1"/>
              </a:solidFill>
              <a:latin typeface="Times New Roman"/>
            </a:endParaRPr>
          </a:p>
          <a:p>
            <a:pPr lvl="2" marL="1193040" indent="-397440">
              <a:spcBef>
                <a:spcPts val="2001"/>
              </a:spcBef>
              <a:buClr>
                <a:srgbClr val="9bbb59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ce1"/>
              </a:solidFill>
              <a:latin typeface="Times New Roman"/>
            </a:endParaRPr>
          </a:p>
          <a:p>
            <a:pPr lvl="3" marL="1590840" indent="-397440">
              <a:spcBef>
                <a:spcPts val="2001"/>
              </a:spcBef>
              <a:buClr>
                <a:srgbClr val="4f6228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eece1"/>
              </a:solidFill>
              <a:latin typeface="Times New Roman"/>
            </a:endParaRPr>
          </a:p>
          <a:p>
            <a:pPr lvl="4" marL="1988640" indent="-397440">
              <a:spcBef>
                <a:spcPts val="2001"/>
              </a:spcBef>
              <a:buClr>
                <a:srgbClr val="9bbb59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eece1"/>
              </a:solidFill>
              <a:latin typeface="Times New Roman"/>
            </a:endParaRPr>
          </a:p>
          <a:p>
            <a:pPr lvl="5" marL="1988640" indent="-397440">
              <a:spcBef>
                <a:spcPts val="20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eece1"/>
              </a:solidFill>
              <a:latin typeface="Times New Roman"/>
            </a:endParaRPr>
          </a:p>
          <a:p>
            <a:pPr lvl="6" marL="1988640" indent="-397440">
              <a:spcBef>
                <a:spcPts val="20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eece1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00440" y="6289200"/>
            <a:ext cx="2374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8840" y="6289200"/>
            <a:ext cx="3156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8560"/>
            <a:ext cx="7772400" cy="81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istical Rapid Intensity Prediction: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lications of Recent Model Results</a:t>
            </a:r>
            <a:endParaRPr b="0" lang="en-US" sz="28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6080" y="1744560"/>
            <a:ext cx="8939160" cy="28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John Kaplan (NOAA/AOML/HRD) </a:t>
            </a:r>
            <a:endParaRPr b="0" lang="en-US" sz="1900" spc="-1" strike="noStrike">
              <a:solidFill>
                <a:srgbClr val="eeece1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Christopher Rozoff (NCAR/RAL/CIMSS)</a:t>
            </a:r>
            <a:endParaRPr b="0" lang="en-US" sz="1900" spc="-1" strike="noStrike">
              <a:solidFill>
                <a:srgbClr val="eeece1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Mark DeMaria (NOAA/NHC)</a:t>
            </a:r>
            <a:endParaRPr b="0" lang="en-US" sz="1900" spc="-1" strike="noStrike">
              <a:solidFill>
                <a:srgbClr val="eeece1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1900" spc="-1" strike="noStrike">
              <a:solidFill>
                <a:srgbClr val="eeece1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Acknowledgements: Paul Leighton (AOML/HRD)</a:t>
            </a:r>
            <a:endParaRPr b="0" lang="en-US" sz="1900" spc="-1" strike="noStrike">
              <a:solidFill>
                <a:srgbClr val="eeece1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eeece1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Funding support: NOAA/USWRP/JHT</a:t>
            </a:r>
            <a:endParaRPr b="0" lang="en-US" sz="1900" spc="-1" strike="noStrike">
              <a:solidFill>
                <a:srgbClr val="eeece1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eeece1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HRD Science Meeting       </a:t>
            </a:r>
            <a:endParaRPr b="0" lang="en-US" sz="1900" spc="-1" strike="noStrike">
              <a:solidFill>
                <a:srgbClr val="eeece1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June 8, 2017 </a:t>
            </a:r>
            <a:endParaRPr b="0" lang="en-US" sz="1700" spc="-1" strike="noStrike">
              <a:solidFill>
                <a:srgbClr val="eeece1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eeece1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eeece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0T18:03:14Z</dcterms:created>
  <dc:creator>John Kaplan</dc:creator>
  <dc:description/>
  <dc:language>en-US</dc:language>
  <cp:lastModifiedBy>Shirley Murillo</cp:lastModifiedBy>
  <dcterms:modified xsi:type="dcterms:W3CDTF">2017-06-09T16:55:22Z</dcterms:modified>
  <cp:revision>673</cp:revision>
  <dc:subject/>
  <dc:title>PowerPoint Presentation</dc:title>
</cp:coreProperties>
</file>