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03D-A6D8-4518-9E18-7F742A34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4C8-4DA6-4479-91C0-52D675B1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420-6930-4B90-8E6B-09DE1D53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6C0-7290-4500-B8F1-0DB8B576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C79-2E88-4934-8B9A-98B67726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959-E525-4A87-983E-F7ABC713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E6E-24F0-461E-A27C-61A96FAE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3CD-680C-4F58-8075-62C3572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28C-20A6-443D-9B1D-392CB69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F6C-C0E8-4260-87C7-7724190B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D2D-4562-46EF-B876-8C83C6B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9F0-94AD-4B65-A80A-F9F10187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36B0-B4D5-44BB-97D9-33A42F49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610240"/>
          <a:ext cx="4267080" cy="1096920"/>
        </p:xfrm>
        <a:graphic>
          <a:graphicData uri="http://schemas.openxmlformats.org/drawingml/2006/table">
            <a:tbl>
              <a:tblPr/>
              <a:tblGrid>
                <a:gridCol w="1268280"/>
                <a:gridCol w="998640"/>
                <a:gridCol w="998280"/>
                <a:gridCol w="10018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tl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*W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L-V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 (5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7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28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 (10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429"/>
          <p:cNvSpPr/>
          <p:nvPr/>
        </p:nvSpPr>
        <p:spPr>
          <a:xfrm>
            <a:off x="1099800" y="510552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34-kt Radii (km) Difference (H*Wind/QScat – NH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7"/>
          <p:cNvGrpSpPr/>
          <p:nvPr/>
        </p:nvGrpSpPr>
        <p:grpSpPr>
          <a:xfrm>
            <a:off x="0" y="345960"/>
            <a:ext cx="8915400" cy="4835520"/>
            <a:chOff x="0" y="345960"/>
            <a:chExt cx="8915400" cy="4835520"/>
          </a:xfrm>
        </p:grpSpPr>
        <p:pic>
          <p:nvPicPr>
            <p:cNvPr id="44" name="Picture 5" descr="z_vmax_scat"/>
            <p:cNvPicPr/>
            <p:nvPr/>
          </p:nvPicPr>
          <p:blipFill>
            <a:blip r:embed="rId1"/>
            <a:srcRect l="0" t="15987" r="0" b="0"/>
            <a:stretch/>
          </p:blipFill>
          <p:spPr>
            <a:xfrm>
              <a:off x="0" y="345960"/>
              <a:ext cx="7623000" cy="48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5" descr="plot"/>
            <p:cNvPicPr/>
            <p:nvPr/>
          </p:nvPicPr>
          <p:blipFill>
            <a:blip r:embed="rId2"/>
            <a:srcRect l="0" t="4518" r="0" b="0"/>
            <a:stretch/>
          </p:blipFill>
          <p:spPr>
            <a:xfrm>
              <a:off x="5259240" y="2485800"/>
              <a:ext cx="3656160" cy="2695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6" name=""/>
          <p:cNvGraphicFramePr/>
          <p:nvPr/>
        </p:nvGraphicFramePr>
        <p:xfrm>
          <a:off x="5418000" y="5610240"/>
          <a:ext cx="3268800" cy="1096920"/>
        </p:xfrm>
        <a:graphic>
          <a:graphicData uri="http://schemas.openxmlformats.org/drawingml/2006/table">
            <a:tbl>
              <a:tblPr/>
              <a:tblGrid>
                <a:gridCol w="1268640"/>
                <a:gridCol w="998280"/>
                <a:gridCol w="100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ast 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L-V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 (4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 (13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29"/>
          <p:cNvSpPr/>
          <p:nvPr/>
        </p:nvSpPr>
        <p:spPr>
          <a:xfrm>
            <a:off x="1738080" y="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x Wind (m/s) QScat vs 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7794000" y="17640"/>
            <a:ext cx="132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Rick Danielson, NH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8:36:12Z</dcterms:created>
  <dc:creator>Rick and Erika</dc:creator>
  <dc:description/>
  <dc:language>en-US</dc:language>
  <cp:lastModifiedBy>Shirley Murillo</cp:lastModifiedBy>
  <dcterms:modified xsi:type="dcterms:W3CDTF">2012-10-18T12:53:06Z</dcterms:modified>
  <cp:revision>5</cp:revision>
  <dc:subject/>
  <dc:title>Slide 1</dc:title>
</cp:coreProperties>
</file>