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3E9D-4859-4034-8189-594A9F7F73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EF3D-6CE5-4FB0-A616-A076F92F8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vironmental payload includes the scanning High-resolution Interferometer Sounder (HIS), dropsondes, theTWiLiTE Doppler wind lidar, and the Cloud Physics Lidar (CPL) while the over-storm payload includes the HIWRAP conically scanning Doppler radar, the HIRAD multi-frequency interferometric radiometer, and the HAMSR microwave sound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DAA8-9EF0-4BA2-973F-DD1C2059FC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most likely fly TDR, RI, G-IV TDR and TC Diur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C136-41EE-485B-973F-2F4166791E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7E4-0AF4-4673-A16F-6E97530E40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AB1-366C-4C04-AC3E-E1552DB91D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30C-64D5-41C7-8D88-32A52FD9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2A1-DCB5-48F1-A0E6-B4F26207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14D-AE18-44AB-A819-F393176F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F21-BE42-4F1C-ACFD-5BD52A64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E2F-D7ED-45C0-9E65-51EC248D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CC8-16BC-4D97-8D48-53FD871D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055-07FB-4E53-9B0B-D5391860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D69-998F-491C-A467-D2D40278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65A-7573-4284-BEE7-F4EB9FFE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1A4-227F-4FFA-8C7C-C75688E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11E-F5FC-4FEA-B8BB-8062252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5CE-ADA3-4D7D-B322-49A76B3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156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572040" indent="-21996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7984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3192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58400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58400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58400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5672-130C-4E3F-9DE8-B6D455B21B1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67C8-54C4-42BE-BF69-CE940061FE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D1E8-54A9-4661-974E-6C4578CB7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41960" y="609480"/>
            <a:ext cx="75934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alibri"/>
              </a:rPr>
              <a:t>Intensity Forecasting Experiment (IFEX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alibri"/>
              </a:rPr>
              <a:t>2012 Hurricane Field Campa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Calibri"/>
              </a:rPr>
              <a:t>Shirley Murillo - HFP Field Program Directo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Calibri"/>
              </a:rPr>
              <a:t>Hurricane Research Divis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" descr="IFEX.gif"/>
          <p:cNvPicPr/>
          <p:nvPr/>
        </p:nvPicPr>
        <p:blipFill>
          <a:blip r:embed="rId1"/>
          <a:stretch/>
        </p:blipFill>
        <p:spPr>
          <a:xfrm>
            <a:off x="3429000" y="19051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3873960" y="6400800"/>
            <a:ext cx="24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RD’s Monthly Modeling Meet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9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G-IV TDR Experimen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1920" y="15238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Is: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John Gamache, Peter Dodge, Paul Reasor, Sylvie Lorsolo, Altug Akso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6156"/>
                </a:solidFill>
                <a:latin typeface="Calibri"/>
                <a:ea typeface="Calibri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valuate the G-IV as a platform for observing the cores of TCs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mprove understanding of the factors leading to TC structure and intensity changes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rovide a comprehensive data set for the initialization (including data assimilation) and validation of numerical hurricane simulations (in particular HWRF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evelop rapid real-time communication of these observations to NCEP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3546000" y="228600"/>
            <a:ext cx="20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ea64"/>
                </a:solidFill>
                <a:latin typeface="Calibri"/>
                <a:ea typeface="Calibri"/>
              </a:rPr>
              <a:t>New this seas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228600" y="913320"/>
            <a:ext cx="8610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xperiment Descrip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Objective #1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: Evaluate the G-IV as a platform for observing the cores of T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G-IV TDR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64"/>
          <p:cNvSpPr/>
          <p:nvPr/>
        </p:nvSpPr>
        <p:spPr>
          <a:xfrm>
            <a:off x="3276720" y="1676520"/>
            <a:ext cx="16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timal Experiment G-IV Rotating Fig-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7"/>
          <p:cNvSpPr/>
          <p:nvPr/>
        </p:nvSpPr>
        <p:spPr>
          <a:xfrm>
            <a:off x="1371600" y="617220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dfac"/>
                </a:solidFill>
                <a:latin typeface="Calibri"/>
                <a:ea typeface="Calibri"/>
              </a:rPr>
              <a:t>Note: When possible, NOAA P-3 aircraft will fly coordinated patterns with NOAA G-I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42"/>
          <p:cNvSpPr/>
          <p:nvPr/>
        </p:nvSpPr>
        <p:spPr>
          <a:xfrm>
            <a:off x="1600200" y="1828800"/>
            <a:ext cx="52578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905280" y="3990960"/>
            <a:ext cx="338040" cy="333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 rot="5400000">
            <a:off x="3911760" y="3993120"/>
            <a:ext cx="33336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21"/>
          <p:cNvSpPr/>
          <p:nvPr/>
        </p:nvSpPr>
        <p:spPr>
          <a:xfrm flipH="1" rot="18907200">
            <a:off x="3907080" y="3986280"/>
            <a:ext cx="338040" cy="331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92400" y="4024440"/>
            <a:ext cx="234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5740560" y="4017960"/>
            <a:ext cx="280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3978360" y="2276640"/>
            <a:ext cx="141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8"/>
          <p:cNvSpPr/>
          <p:nvPr/>
        </p:nvSpPr>
        <p:spPr>
          <a:xfrm>
            <a:off x="3952800" y="5767560"/>
            <a:ext cx="1396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9"/>
          <p:cNvSpPr/>
          <p:nvPr/>
        </p:nvSpPr>
        <p:spPr>
          <a:xfrm>
            <a:off x="5221440" y="5197320"/>
            <a:ext cx="1411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0"/>
          <p:cNvSpPr/>
          <p:nvPr/>
        </p:nvSpPr>
        <p:spPr>
          <a:xfrm>
            <a:off x="2735280" y="2786040"/>
            <a:ext cx="1411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1"/>
          <p:cNvSpPr/>
          <p:nvPr/>
        </p:nvSpPr>
        <p:spPr>
          <a:xfrm>
            <a:off x="2695680" y="5284800"/>
            <a:ext cx="1396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5214960" y="2800440"/>
            <a:ext cx="3286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3"/>
          <p:cNvSpPr/>
          <p:nvPr/>
        </p:nvSpPr>
        <p:spPr>
          <a:xfrm>
            <a:off x="2381400" y="4164120"/>
            <a:ext cx="1523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4"/>
          <p:cNvSpPr/>
          <p:nvPr/>
        </p:nvSpPr>
        <p:spPr>
          <a:xfrm>
            <a:off x="4233960" y="4156200"/>
            <a:ext cx="1523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45"/>
          <p:cNvSpPr/>
          <p:nvPr/>
        </p:nvSpPr>
        <p:spPr>
          <a:xfrm>
            <a:off x="4075200" y="2494080"/>
            <a:ext cx="0" cy="1501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46"/>
          <p:cNvSpPr/>
          <p:nvPr/>
        </p:nvSpPr>
        <p:spPr>
          <a:xfrm>
            <a:off x="4083120" y="4321080"/>
            <a:ext cx="0" cy="1501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4065480" y="2513160"/>
            <a:ext cx="1675080" cy="16430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 flipH="1">
            <a:off x="4200120" y="2972520"/>
            <a:ext cx="1079640" cy="1075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9"/>
          <p:cNvSpPr/>
          <p:nvPr/>
        </p:nvSpPr>
        <p:spPr>
          <a:xfrm flipH="1">
            <a:off x="2882520" y="4255200"/>
            <a:ext cx="1079640" cy="1075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0"/>
          <p:cNvSpPr/>
          <p:nvPr/>
        </p:nvSpPr>
        <p:spPr>
          <a:xfrm>
            <a:off x="2892240" y="2973240"/>
            <a:ext cx="1060560" cy="1065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51"/>
          <p:cNvSpPr/>
          <p:nvPr/>
        </p:nvSpPr>
        <p:spPr>
          <a:xfrm>
            <a:off x="4194360" y="4273200"/>
            <a:ext cx="1059840" cy="10641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2"/>
          <p:cNvSpPr/>
          <p:nvPr/>
        </p:nvSpPr>
        <p:spPr>
          <a:xfrm flipH="1">
            <a:off x="2886840" y="2973600"/>
            <a:ext cx="26280" cy="2344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4071960" y="5335560"/>
            <a:ext cx="1176480" cy="463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54"/>
          <p:cNvSpPr/>
          <p:nvPr/>
        </p:nvSpPr>
        <p:spPr>
          <a:xfrm flipH="1" rot="13507200">
            <a:off x="3821040" y="3900960"/>
            <a:ext cx="500040" cy="507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>
            <a:off x="6445080" y="2475000"/>
            <a:ext cx="0" cy="3338280"/>
          </a:xfrm>
          <a:prstGeom prst="line">
            <a:avLst/>
          </a:prstGeom>
          <a:ln w="2556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6095880" y="3962520"/>
            <a:ext cx="741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00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2"/>
          <p:cNvSpPr/>
          <p:nvPr/>
        </p:nvSpPr>
        <p:spPr>
          <a:xfrm>
            <a:off x="2367000" y="5607000"/>
            <a:ext cx="1519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uration: 5.25 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5"/>
          <p:cNvSpPr/>
          <p:nvPr/>
        </p:nvSpPr>
        <p:spPr>
          <a:xfrm>
            <a:off x="4705200" y="5800680"/>
            <a:ext cx="42228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6"/>
          <p:cNvSpPr/>
          <p:nvPr/>
        </p:nvSpPr>
        <p:spPr>
          <a:xfrm>
            <a:off x="5127480" y="5708520"/>
            <a:ext cx="12319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ferred track (if safe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77"/>
          <p:cNvGrpSpPr/>
          <p:nvPr/>
        </p:nvGrpSpPr>
        <p:grpSpPr>
          <a:xfrm>
            <a:off x="4033440" y="4038480"/>
            <a:ext cx="84240" cy="225360"/>
            <a:chOff x="4033440" y="4038480"/>
            <a:chExt cx="84240" cy="225360"/>
          </a:xfrm>
        </p:grpSpPr>
        <p:sp>
          <p:nvSpPr>
            <p:cNvPr id="198" name="Freeform 78"/>
            <p:cNvSpPr/>
            <p:nvPr/>
          </p:nvSpPr>
          <p:spPr>
            <a:xfrm>
              <a:off x="4038840" y="4038480"/>
              <a:ext cx="78840" cy="155880"/>
            </a:xfrm>
            <a:custGeom>
              <a:avLst/>
              <a:gdLst/>
              <a:ahLst/>
              <a:rect l="l" t="t" r="r" b="b"/>
              <a:pathLst>
                <a:path w="106" h="212">
                  <a:moveTo>
                    <a:pt x="74" y="0"/>
                  </a:moveTo>
                  <a:cubicBezTo>
                    <a:pt x="64" y="27"/>
                    <a:pt x="49" y="54"/>
                    <a:pt x="34" y="79"/>
                  </a:cubicBezTo>
                  <a:cubicBezTo>
                    <a:pt x="29" y="92"/>
                    <a:pt x="16" y="103"/>
                    <a:pt x="15" y="118"/>
                  </a:cubicBezTo>
                  <a:cubicBezTo>
                    <a:pt x="11" y="150"/>
                    <a:pt x="24" y="178"/>
                    <a:pt x="41" y="204"/>
                  </a:cubicBezTo>
                  <a:cubicBezTo>
                    <a:pt x="101" y="195"/>
                    <a:pt x="91" y="203"/>
                    <a:pt x="106" y="158"/>
                  </a:cubicBezTo>
                  <a:cubicBezTo>
                    <a:pt x="97" y="129"/>
                    <a:pt x="80" y="127"/>
                    <a:pt x="54" y="118"/>
                  </a:cubicBezTo>
                  <a:cubicBezTo>
                    <a:pt x="45" y="120"/>
                    <a:pt x="34" y="119"/>
                    <a:pt x="28" y="125"/>
                  </a:cubicBezTo>
                  <a:cubicBezTo>
                    <a:pt x="0" y="147"/>
                    <a:pt x="42" y="184"/>
                    <a:pt x="60" y="191"/>
                  </a:cubicBezTo>
                  <a:cubicBezTo>
                    <a:pt x="83" y="212"/>
                    <a:pt x="100" y="203"/>
                    <a:pt x="100" y="17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79"/>
            <p:cNvSpPr/>
            <p:nvPr/>
          </p:nvSpPr>
          <p:spPr>
            <a:xfrm flipH="1" flipV="1">
              <a:off x="4033080" y="4107600"/>
              <a:ext cx="78840" cy="155880"/>
            </a:xfrm>
            <a:custGeom>
              <a:avLst/>
              <a:gdLst/>
              <a:ahLst/>
              <a:rect l="l" t="t" r="r" b="b"/>
              <a:pathLst>
                <a:path w="106" h="212">
                  <a:moveTo>
                    <a:pt x="74" y="0"/>
                  </a:moveTo>
                  <a:cubicBezTo>
                    <a:pt x="64" y="27"/>
                    <a:pt x="49" y="54"/>
                    <a:pt x="34" y="79"/>
                  </a:cubicBezTo>
                  <a:cubicBezTo>
                    <a:pt x="29" y="92"/>
                    <a:pt x="16" y="103"/>
                    <a:pt x="15" y="118"/>
                  </a:cubicBezTo>
                  <a:cubicBezTo>
                    <a:pt x="11" y="150"/>
                    <a:pt x="24" y="178"/>
                    <a:pt x="41" y="204"/>
                  </a:cubicBezTo>
                  <a:cubicBezTo>
                    <a:pt x="101" y="195"/>
                    <a:pt x="91" y="203"/>
                    <a:pt x="106" y="158"/>
                  </a:cubicBezTo>
                  <a:cubicBezTo>
                    <a:pt x="97" y="129"/>
                    <a:pt x="80" y="127"/>
                    <a:pt x="54" y="118"/>
                  </a:cubicBezTo>
                  <a:cubicBezTo>
                    <a:pt x="45" y="120"/>
                    <a:pt x="34" y="119"/>
                    <a:pt x="28" y="125"/>
                  </a:cubicBezTo>
                  <a:cubicBezTo>
                    <a:pt x="0" y="147"/>
                    <a:pt x="42" y="184"/>
                    <a:pt x="60" y="191"/>
                  </a:cubicBezTo>
                  <a:cubicBezTo>
                    <a:pt x="83" y="212"/>
                    <a:pt x="100" y="203"/>
                    <a:pt x="100" y="17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Line 175"/>
          <p:cNvSpPr/>
          <p:nvPr/>
        </p:nvSpPr>
        <p:spPr>
          <a:xfrm>
            <a:off x="3808440" y="4151160"/>
            <a:ext cx="547560" cy="18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76"/>
          <p:cNvSpPr/>
          <p:nvPr/>
        </p:nvSpPr>
        <p:spPr>
          <a:xfrm flipV="1">
            <a:off x="3900600" y="3987720"/>
            <a:ext cx="328680" cy="32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77"/>
          <p:cNvSpPr/>
          <p:nvPr/>
        </p:nvSpPr>
        <p:spPr>
          <a:xfrm>
            <a:off x="3900600" y="3987720"/>
            <a:ext cx="328680" cy="32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8"/>
          <p:cNvSpPr/>
          <p:nvPr/>
        </p:nvSpPr>
        <p:spPr>
          <a:xfrm flipV="1">
            <a:off x="4070520" y="3879720"/>
            <a:ext cx="0" cy="540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228600" y="913320"/>
            <a:ext cx="8610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xperiment Descrip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Objective #1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: Evaluate the G-IV as a platform for observing the cores of T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G-IV TDR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5"/>
          <p:cNvSpPr/>
          <p:nvPr/>
        </p:nvSpPr>
        <p:spPr>
          <a:xfrm>
            <a:off x="152280" y="3124080"/>
            <a:ext cx="1905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timal Experiment  G-IV Surveillance/TDR Combin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opsondes at 1-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7"/>
          <p:cNvSpPr/>
          <p:nvPr/>
        </p:nvSpPr>
        <p:spPr>
          <a:xfrm>
            <a:off x="1371600" y="61722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dfac"/>
                </a:solidFill>
                <a:latin typeface="Times New Roman"/>
              </a:rPr>
              <a:t>Note: When possible, NOAA P-3 aircraft will fly coordinated patterns with NOAA G-I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2113200" y="1549080"/>
            <a:ext cx="5659200" cy="4741920"/>
            <a:chOff x="2113200" y="1549080"/>
            <a:chExt cx="5659200" cy="4741920"/>
          </a:xfrm>
        </p:grpSpPr>
        <p:sp>
          <p:nvSpPr>
            <p:cNvPr id="210" name="AutoShape 47"/>
            <p:cNvSpPr/>
            <p:nvPr/>
          </p:nvSpPr>
          <p:spPr>
            <a:xfrm>
              <a:off x="2286000" y="1600200"/>
              <a:ext cx="5486400" cy="46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63"/>
            <p:cNvSpPr/>
            <p:nvPr/>
          </p:nvSpPr>
          <p:spPr>
            <a:xfrm>
              <a:off x="4093200" y="3559680"/>
              <a:ext cx="789840" cy="790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4975560" y="2304000"/>
              <a:ext cx="1585440" cy="2183400"/>
            </a:xfrm>
            <a:custGeom>
              <a:avLst/>
              <a:gdLst/>
              <a:ahLst/>
              <a:rect l="l" t="t" r="r" b="b"/>
              <a:pathLst>
                <a:path w="1836048" h="2526450">
                  <a:moveTo>
                    <a:pt x="0" y="0"/>
                  </a:moveTo>
                  <a:cubicBezTo>
                    <a:pt x="13805" y="23010"/>
                    <a:pt x="23465" y="49083"/>
                    <a:pt x="41415" y="69029"/>
                  </a:cubicBezTo>
                  <a:cubicBezTo>
                    <a:pt x="80329" y="112269"/>
                    <a:pt x="255392" y="231610"/>
                    <a:pt x="276098" y="248503"/>
                  </a:cubicBezTo>
                  <a:cubicBezTo>
                    <a:pt x="402565" y="351680"/>
                    <a:pt x="516833" y="470032"/>
                    <a:pt x="648829" y="566035"/>
                  </a:cubicBezTo>
                  <a:lnTo>
                    <a:pt x="1104390" y="897373"/>
                  </a:lnTo>
                  <a:cubicBezTo>
                    <a:pt x="1165083" y="942236"/>
                    <a:pt x="1230487" y="982060"/>
                    <a:pt x="1283853" y="1035430"/>
                  </a:cubicBezTo>
                  <a:cubicBezTo>
                    <a:pt x="1334471" y="1086051"/>
                    <a:pt x="1387819" y="1134082"/>
                    <a:pt x="1435707" y="1187294"/>
                  </a:cubicBezTo>
                  <a:cubicBezTo>
                    <a:pt x="1477829" y="1234099"/>
                    <a:pt x="1597534" y="1398945"/>
                    <a:pt x="1628975" y="1449603"/>
                  </a:cubicBezTo>
                  <a:cubicBezTo>
                    <a:pt x="1781647" y="1695591"/>
                    <a:pt x="1752703" y="1636907"/>
                    <a:pt x="1822243" y="1822357"/>
                  </a:cubicBezTo>
                  <a:cubicBezTo>
                    <a:pt x="1826845" y="1854571"/>
                    <a:pt x="1836048" y="1886457"/>
                    <a:pt x="1836048" y="1918998"/>
                  </a:cubicBezTo>
                  <a:cubicBezTo>
                    <a:pt x="1836048" y="2043335"/>
                    <a:pt x="1830248" y="2167673"/>
                    <a:pt x="1822243" y="2291752"/>
                  </a:cubicBezTo>
                  <a:cubicBezTo>
                    <a:pt x="1821021" y="2310687"/>
                    <a:pt x="1815100" y="2329209"/>
                    <a:pt x="1808438" y="2346975"/>
                  </a:cubicBezTo>
                  <a:cubicBezTo>
                    <a:pt x="1801212" y="2366245"/>
                    <a:pt x="1791038" y="2384329"/>
                    <a:pt x="1780828" y="2402198"/>
                  </a:cubicBezTo>
                  <a:cubicBezTo>
                    <a:pt x="1758408" y="2441437"/>
                    <a:pt x="1741600" y="2463231"/>
                    <a:pt x="1697999" y="2485033"/>
                  </a:cubicBezTo>
                  <a:cubicBezTo>
                    <a:pt x="1628080" y="2519994"/>
                    <a:pt x="1569012" y="2517773"/>
                    <a:pt x="1490926" y="2526450"/>
                  </a:cubicBezTo>
                  <a:cubicBezTo>
                    <a:pt x="1449511" y="2480431"/>
                    <a:pt x="1390179" y="2445671"/>
                    <a:pt x="1366682" y="2388393"/>
                  </a:cubicBezTo>
                  <a:cubicBezTo>
                    <a:pt x="1314576" y="2261377"/>
                    <a:pt x="1270048" y="1988026"/>
                    <a:pt x="1270048" y="1988026"/>
                  </a:cubicBezTo>
                  <a:cubicBezTo>
                    <a:pt x="1229517" y="1582695"/>
                    <a:pt x="1250283" y="1838767"/>
                    <a:pt x="1228634" y="1421991"/>
                  </a:cubicBezTo>
                  <a:cubicBezTo>
                    <a:pt x="1215246" y="1164262"/>
                    <a:pt x="1216940" y="905229"/>
                    <a:pt x="1187219" y="648870"/>
                  </a:cubicBezTo>
                  <a:cubicBezTo>
                    <a:pt x="1174122" y="535905"/>
                    <a:pt x="1020253" y="288875"/>
                    <a:pt x="952536" y="234698"/>
                  </a:cubicBezTo>
                  <a:cubicBezTo>
                    <a:pt x="929528" y="216290"/>
                    <a:pt x="905686" y="198879"/>
                    <a:pt x="883512" y="179475"/>
                  </a:cubicBezTo>
                  <a:cubicBezTo>
                    <a:pt x="868819" y="166618"/>
                    <a:pt x="858342" y="148887"/>
                    <a:pt x="842097" y="138057"/>
                  </a:cubicBezTo>
                  <a:cubicBezTo>
                    <a:pt x="829990" y="129985"/>
                    <a:pt x="800683" y="124252"/>
                    <a:pt x="800683" y="124252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3602880" y="1600200"/>
              <a:ext cx="1563120" cy="1740960"/>
            </a:xfrm>
            <a:custGeom>
              <a:avLst/>
              <a:gdLst/>
              <a:ahLst/>
              <a:rect l="l" t="t" r="r" b="b"/>
              <a:pathLst>
                <a:path w="1809112" h="2015637">
                  <a:moveTo>
                    <a:pt x="0" y="0"/>
                  </a:moveTo>
                  <a:cubicBezTo>
                    <a:pt x="23008" y="36815"/>
                    <a:pt x="41906" y="76545"/>
                    <a:pt x="69025" y="110446"/>
                  </a:cubicBezTo>
                  <a:cubicBezTo>
                    <a:pt x="97482" y="146019"/>
                    <a:pt x="131710" y="176709"/>
                    <a:pt x="165659" y="207086"/>
                  </a:cubicBezTo>
                  <a:cubicBezTo>
                    <a:pt x="219226" y="255018"/>
                    <a:pt x="268028" y="311062"/>
                    <a:pt x="331317" y="345143"/>
                  </a:cubicBezTo>
                  <a:cubicBezTo>
                    <a:pt x="1005860" y="708381"/>
                    <a:pt x="762777" y="491191"/>
                    <a:pt x="1463316" y="814538"/>
                  </a:cubicBezTo>
                  <a:cubicBezTo>
                    <a:pt x="1523137" y="842150"/>
                    <a:pt x="1586501" y="863114"/>
                    <a:pt x="1642780" y="897373"/>
                  </a:cubicBezTo>
                  <a:cubicBezTo>
                    <a:pt x="1693118" y="928015"/>
                    <a:pt x="1780828" y="1007818"/>
                    <a:pt x="1780828" y="1007818"/>
                  </a:cubicBezTo>
                  <a:cubicBezTo>
                    <a:pt x="1790031" y="1021624"/>
                    <a:pt x="1806606" y="1032745"/>
                    <a:pt x="1808438" y="1049236"/>
                  </a:cubicBezTo>
                  <a:cubicBezTo>
                    <a:pt x="1811529" y="1077057"/>
                    <a:pt x="1803484" y="1105514"/>
                    <a:pt x="1794633" y="1132070"/>
                  </a:cubicBezTo>
                  <a:cubicBezTo>
                    <a:pt x="1770439" y="1204658"/>
                    <a:pt x="1715394" y="1266840"/>
                    <a:pt x="1670389" y="1325350"/>
                  </a:cubicBezTo>
                  <a:cubicBezTo>
                    <a:pt x="1652424" y="1348706"/>
                    <a:pt x="1636005" y="1373543"/>
                    <a:pt x="1615170" y="1394379"/>
                  </a:cubicBezTo>
                  <a:cubicBezTo>
                    <a:pt x="1592162" y="1417389"/>
                    <a:pt x="1565911" y="1437559"/>
                    <a:pt x="1546146" y="1463408"/>
                  </a:cubicBezTo>
                  <a:cubicBezTo>
                    <a:pt x="1505832" y="1516130"/>
                    <a:pt x="1472520" y="1573854"/>
                    <a:pt x="1435707" y="1629077"/>
                  </a:cubicBezTo>
                  <a:lnTo>
                    <a:pt x="1380487" y="1711911"/>
                  </a:lnTo>
                  <a:cubicBezTo>
                    <a:pt x="1335021" y="1780114"/>
                    <a:pt x="1315105" y="1802571"/>
                    <a:pt x="1283853" y="1877580"/>
                  </a:cubicBezTo>
                  <a:cubicBezTo>
                    <a:pt x="1272659" y="1904446"/>
                    <a:pt x="1265446" y="1932803"/>
                    <a:pt x="1256243" y="1960414"/>
                  </a:cubicBezTo>
                  <a:lnTo>
                    <a:pt x="1270048" y="20156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4" name="Straight Arrow Connector 38"/>
            <p:cNvCxnSpPr/>
            <p:nvPr/>
          </p:nvCxnSpPr>
          <p:spPr>
            <a:xfrm>
              <a:off x="4487760" y="1978200"/>
              <a:ext cx="1080" cy="296460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cxnSp>
          <p:nvCxnSpPr>
            <p:cNvPr id="215" name="Straight Arrow Connector 42"/>
            <p:cNvCxnSpPr/>
            <p:nvPr/>
          </p:nvCxnSpPr>
          <p:spPr>
            <a:xfrm flipV="1">
              <a:off x="4488120" y="3954240"/>
              <a:ext cx="988560" cy="98856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cxnSp>
          <p:nvCxnSpPr>
            <p:cNvPr id="216" name="Straight Arrow Connector 46"/>
            <p:cNvCxnSpPr/>
            <p:nvPr/>
          </p:nvCxnSpPr>
          <p:spPr>
            <a:xfrm flipH="1">
              <a:off x="3499560" y="3954240"/>
              <a:ext cx="1976040" cy="108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sp>
          <p:nvSpPr>
            <p:cNvPr id="217" name="Octagon 47"/>
            <p:cNvSpPr/>
            <p:nvPr/>
          </p:nvSpPr>
          <p:spPr>
            <a:xfrm rot="20264400">
              <a:off x="2666520" y="2101680"/>
              <a:ext cx="3633840" cy="3636360"/>
            </a:xfrm>
            <a:custGeom>
              <a:avLst/>
              <a:gdLst/>
              <a:ahLst/>
              <a:rect l="l" t="t" r="r" b="b"/>
              <a:pathLst>
                <a:path w="4206240" h="4206240">
                  <a:moveTo>
                    <a:pt x="2974274" y="0"/>
                  </a:moveTo>
                  <a:lnTo>
                    <a:pt x="4206240" y="1231966"/>
                  </a:lnTo>
                  <a:lnTo>
                    <a:pt x="4206240" y="2974274"/>
                  </a:lnTo>
                  <a:lnTo>
                    <a:pt x="2974274" y="4206240"/>
                  </a:lnTo>
                  <a:lnTo>
                    <a:pt x="1231966" y="4206240"/>
                  </a:lnTo>
                  <a:lnTo>
                    <a:pt x="0" y="2974274"/>
                  </a:lnTo>
                  <a:lnTo>
                    <a:pt x="0" y="1231966"/>
                  </a:lnTo>
                  <a:lnTo>
                    <a:pt x="1231966" y="0"/>
                  </a:ln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Straight Arrow Connector 54"/>
            <p:cNvCxnSpPr/>
            <p:nvPr/>
          </p:nvCxnSpPr>
          <p:spPr>
            <a:xfrm flipH="1" flipV="1">
              <a:off x="3799800" y="3271680"/>
              <a:ext cx="1398240" cy="72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grpSp>
          <p:nvGrpSpPr>
            <p:cNvPr id="219" name="Group 57"/>
            <p:cNvGrpSpPr/>
            <p:nvPr/>
          </p:nvGrpSpPr>
          <p:grpSpPr>
            <a:xfrm>
              <a:off x="3801240" y="3267720"/>
              <a:ext cx="1397880" cy="1401480"/>
              <a:chOff x="3801240" y="3267720"/>
              <a:chExt cx="1397880" cy="1401480"/>
            </a:xfrm>
          </p:grpSpPr>
          <p:cxnSp>
            <p:nvCxnSpPr>
              <p:cNvPr id="220" name="Straight Arrow Connector 52"/>
              <p:cNvCxnSpPr/>
              <p:nvPr/>
            </p:nvCxnSpPr>
            <p:spPr>
              <a:xfrm flipV="1">
                <a:off x="3801600" y="3267720"/>
                <a:ext cx="1396800" cy="1397880"/>
              </a:xfrm>
              <a:prstGeom prst="straightConnector1">
                <a:avLst/>
              </a:prstGeom>
              <a:ln w="28440">
                <a:solidFill>
                  <a:srgbClr val="ff6600"/>
                </a:solidFill>
                <a:miter/>
                <a:tailEnd len="med" type="arrow" w="med"/>
              </a:ln>
            </p:spPr>
          </p:cxnSp>
          <p:cxnSp>
            <p:nvCxnSpPr>
              <p:cNvPr id="221" name="Straight Arrow Connector 56"/>
              <p:cNvCxnSpPr/>
              <p:nvPr/>
            </p:nvCxnSpPr>
            <p:spPr>
              <a:xfrm>
                <a:off x="3801240" y="3272040"/>
                <a:ext cx="1398240" cy="1397520"/>
              </a:xfrm>
              <a:prstGeom prst="straightConnector1">
                <a:avLst/>
              </a:prstGeom>
              <a:ln w="28440">
                <a:solidFill>
                  <a:srgbClr val="ff6600"/>
                </a:solidFill>
                <a:miter/>
                <a:tailEnd len="med" type="arrow" w="med"/>
              </a:ln>
            </p:spPr>
          </p:cxnSp>
        </p:grpSp>
        <p:cxnSp>
          <p:nvCxnSpPr>
            <p:cNvPr id="222" name="Straight Arrow Connector 60"/>
            <p:cNvCxnSpPr/>
            <p:nvPr/>
          </p:nvCxnSpPr>
          <p:spPr>
            <a:xfrm>
              <a:off x="3514320" y="3980880"/>
              <a:ext cx="289440" cy="69912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sp>
          <p:nvSpPr>
            <p:cNvPr id="223" name="TextBox 65"/>
            <p:cNvSpPr/>
            <p:nvPr/>
          </p:nvSpPr>
          <p:spPr>
            <a:xfrm>
              <a:off x="3085920" y="2286000"/>
              <a:ext cx="5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8, 1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TextBox 66"/>
            <p:cNvSpPr/>
            <p:nvPr/>
          </p:nvSpPr>
          <p:spPr>
            <a:xfrm>
              <a:off x="2286000" y="3691440"/>
              <a:ext cx="2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Box 67"/>
            <p:cNvSpPr/>
            <p:nvPr/>
          </p:nvSpPr>
          <p:spPr>
            <a:xfrm>
              <a:off x="2878560" y="5202000"/>
              <a:ext cx="2923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Box 68"/>
            <p:cNvSpPr/>
            <p:nvPr/>
          </p:nvSpPr>
          <p:spPr>
            <a:xfrm>
              <a:off x="4343040" y="5829840"/>
              <a:ext cx="2937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Box 70"/>
            <p:cNvSpPr/>
            <p:nvPr/>
          </p:nvSpPr>
          <p:spPr>
            <a:xfrm>
              <a:off x="5829120" y="5257800"/>
              <a:ext cx="2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Box 71"/>
            <p:cNvSpPr/>
            <p:nvPr/>
          </p:nvSpPr>
          <p:spPr>
            <a:xfrm>
              <a:off x="6387480" y="3730680"/>
              <a:ext cx="2916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Box 72"/>
            <p:cNvSpPr/>
            <p:nvPr/>
          </p:nvSpPr>
          <p:spPr>
            <a:xfrm>
              <a:off x="5805360" y="2282040"/>
              <a:ext cx="2923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Box 73"/>
            <p:cNvSpPr/>
            <p:nvPr/>
          </p:nvSpPr>
          <p:spPr>
            <a:xfrm>
              <a:off x="4343040" y="1714680"/>
              <a:ext cx="2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74"/>
            <p:cNvSpPr/>
            <p:nvPr/>
          </p:nvSpPr>
          <p:spPr>
            <a:xfrm>
              <a:off x="4343040" y="4915440"/>
              <a:ext cx="2923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Box 75"/>
            <p:cNvSpPr/>
            <p:nvPr/>
          </p:nvSpPr>
          <p:spPr>
            <a:xfrm>
              <a:off x="5486400" y="3772080"/>
              <a:ext cx="4266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76"/>
            <p:cNvSpPr/>
            <p:nvPr/>
          </p:nvSpPr>
          <p:spPr>
            <a:xfrm>
              <a:off x="4800240" y="3657600"/>
              <a:ext cx="45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Box 77"/>
            <p:cNvSpPr/>
            <p:nvPr/>
          </p:nvSpPr>
          <p:spPr>
            <a:xfrm>
              <a:off x="3771720" y="3657600"/>
              <a:ext cx="4528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Box 78"/>
            <p:cNvSpPr/>
            <p:nvPr/>
          </p:nvSpPr>
          <p:spPr>
            <a:xfrm>
              <a:off x="3170880" y="3735000"/>
              <a:ext cx="4251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Box 79"/>
            <p:cNvSpPr/>
            <p:nvPr/>
          </p:nvSpPr>
          <p:spPr>
            <a:xfrm>
              <a:off x="3543120" y="468648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Box 80"/>
            <p:cNvSpPr/>
            <p:nvPr/>
          </p:nvSpPr>
          <p:spPr>
            <a:xfrm>
              <a:off x="5143320" y="3086280"/>
              <a:ext cx="4251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Box 81"/>
            <p:cNvSpPr/>
            <p:nvPr/>
          </p:nvSpPr>
          <p:spPr>
            <a:xfrm>
              <a:off x="3429360" y="3200400"/>
              <a:ext cx="4568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Box 82"/>
            <p:cNvSpPr/>
            <p:nvPr/>
          </p:nvSpPr>
          <p:spPr>
            <a:xfrm>
              <a:off x="5143320" y="4572000"/>
              <a:ext cx="4244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0" name="Straight Arrow Connector 87"/>
            <p:cNvCxnSpPr/>
            <p:nvPr/>
          </p:nvCxnSpPr>
          <p:spPr>
            <a:xfrm flipH="1" flipV="1">
              <a:off x="3123360" y="2590200"/>
              <a:ext cx="2094840" cy="209448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sp>
          <p:nvSpPr>
            <p:cNvPr id="241" name="Line 19"/>
            <p:cNvSpPr/>
            <p:nvPr/>
          </p:nvSpPr>
          <p:spPr>
            <a:xfrm>
              <a:off x="7086960" y="2057400"/>
              <a:ext cx="720" cy="3886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Box 85"/>
            <p:cNvSpPr/>
            <p:nvPr/>
          </p:nvSpPr>
          <p:spPr>
            <a:xfrm>
              <a:off x="6667200" y="3808080"/>
              <a:ext cx="7999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00 n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21"/>
            <p:cNvSpPr/>
            <p:nvPr/>
          </p:nvSpPr>
          <p:spPr>
            <a:xfrm>
              <a:off x="5486400" y="5715000"/>
              <a:ext cx="1485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uration: 4-6 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81"/>
            <p:cNvSpPr/>
            <p:nvPr/>
          </p:nvSpPr>
          <p:spPr>
            <a:xfrm>
              <a:off x="4105440" y="3574800"/>
              <a:ext cx="758520" cy="75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2"/>
            <p:cNvSpPr/>
            <p:nvPr/>
          </p:nvSpPr>
          <p:spPr>
            <a:xfrm flipV="1">
              <a:off x="4229280" y="3657600"/>
              <a:ext cx="570960" cy="57168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3"/>
            <p:cNvSpPr/>
            <p:nvPr/>
          </p:nvSpPr>
          <p:spPr>
            <a:xfrm flipV="1">
              <a:off x="4114800" y="3958920"/>
              <a:ext cx="799920" cy="36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4"/>
            <p:cNvSpPr/>
            <p:nvPr/>
          </p:nvSpPr>
          <p:spPr>
            <a:xfrm flipV="1">
              <a:off x="4489560" y="3543120"/>
              <a:ext cx="720" cy="79956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85"/>
            <p:cNvSpPr/>
            <p:nvPr/>
          </p:nvSpPr>
          <p:spPr>
            <a:xfrm>
              <a:off x="4223880" y="3675600"/>
              <a:ext cx="571680" cy="57168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Group 27"/>
            <p:cNvGrpSpPr/>
            <p:nvPr/>
          </p:nvGrpSpPr>
          <p:grpSpPr>
            <a:xfrm>
              <a:off x="2396520" y="5816880"/>
              <a:ext cx="1820880" cy="221400"/>
              <a:chOff x="2396520" y="5816880"/>
              <a:chExt cx="1820880" cy="221400"/>
            </a:xfrm>
          </p:grpSpPr>
          <p:sp>
            <p:nvSpPr>
              <p:cNvPr id="250" name="Line 24"/>
              <p:cNvSpPr/>
              <p:nvPr/>
            </p:nvSpPr>
            <p:spPr>
              <a:xfrm>
                <a:off x="2396520" y="5929560"/>
                <a:ext cx="45072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2847240" y="5816880"/>
                <a:ext cx="137016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120" rIns="6012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Preferred track (if safe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6"/>
          <p:cNvSpPr/>
          <p:nvPr/>
        </p:nvSpPr>
        <p:spPr>
          <a:xfrm>
            <a:off x="304920" y="9144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Ques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How do core region winds from the G-IV TDR compare with those from the P-3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How much of the outflow structure does the G-IV TDR sampl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What is the additional value of data from the G-IV TDR? (Assessed through HED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What is the optimal flight pattern for combined G-IV surveillance and TDR? (Addressed through CHART proj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How viable is the G-IV as a substitute for the P-3 in terms of TDR sampling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nce coordination with the P-3 is an early requirement, how do we weigh this experiment against others that require staggered P-3 and G-IV flight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G-IV TDR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22"/>
          <p:cNvSpPr/>
          <p:nvPr/>
        </p:nvSpPr>
        <p:spPr>
          <a:xfrm>
            <a:off x="152280" y="838080"/>
            <a:ext cx="848376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alibri"/>
                <a:ea typeface="Calibri"/>
              </a:rPr>
              <a:t>Scientific Objectiv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Collect kinematic and thermodynamic observations both within the inner-core (i.e., radius &lt; 200 km) and in the surrounding large-scale environment (i.e., 200 km &lt; radius &lt; 500 km) for systems that have exhibited signs of diurnal pulsing in the previous 24 hour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mprove the understanding, evolution, and prediction of TC diurnal cycle even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0" y="4932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TC Diurnal Cycle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I: Jason Dun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" descr="050715_0945z.jpg"/>
          <p:cNvPicPr/>
          <p:nvPr/>
        </p:nvPicPr>
        <p:blipFill>
          <a:blip r:embed="rId1"/>
          <a:stretch/>
        </p:blipFill>
        <p:spPr>
          <a:xfrm>
            <a:off x="7810560" y="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0600.jpg"/>
          <p:cNvPicPr/>
          <p:nvPr/>
        </p:nvPicPr>
        <p:blipFill>
          <a:blip r:embed="rId2"/>
          <a:stretch/>
        </p:blipFill>
        <p:spPr>
          <a:xfrm>
            <a:off x="1824120" y="2438280"/>
            <a:ext cx="1245960" cy="1246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1400.jpg"/>
          <p:cNvPicPr/>
          <p:nvPr/>
        </p:nvPicPr>
        <p:blipFill>
          <a:blip r:embed="rId3"/>
          <a:stretch/>
        </p:blipFill>
        <p:spPr>
          <a:xfrm>
            <a:off x="3610080" y="2438280"/>
            <a:ext cx="1245960" cy="12463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4952880" y="2743200"/>
            <a:ext cx="33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urnal pulse timing (LST) at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eft) ~200 km and (right ~400 km) rad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2"/>
          <p:cNvGrpSpPr/>
          <p:nvPr/>
        </p:nvGrpSpPr>
        <p:grpSpPr>
          <a:xfrm>
            <a:off x="914400" y="3741840"/>
            <a:ext cx="7074000" cy="2657520"/>
            <a:chOff x="914400" y="3741840"/>
            <a:chExt cx="7074000" cy="2657520"/>
          </a:xfrm>
        </p:grpSpPr>
        <p:grpSp>
          <p:nvGrpSpPr>
            <p:cNvPr id="261" name="Group 12"/>
            <p:cNvGrpSpPr/>
            <p:nvPr/>
          </p:nvGrpSpPr>
          <p:grpSpPr>
            <a:xfrm>
              <a:off x="4877280" y="3778560"/>
              <a:ext cx="3111120" cy="2620800"/>
              <a:chOff x="4877280" y="3778560"/>
              <a:chExt cx="3111120" cy="2620800"/>
            </a:xfrm>
          </p:grpSpPr>
          <p:pic>
            <p:nvPicPr>
              <p:cNvPr id="262" name="Picture 13" descr="giv_pattern.jpg"/>
              <p:cNvPicPr/>
              <p:nvPr/>
            </p:nvPicPr>
            <p:blipFill>
              <a:blip r:embed="rId4"/>
              <a:stretch/>
            </p:blipFill>
            <p:spPr>
              <a:xfrm>
                <a:off x="4877280" y="3778560"/>
                <a:ext cx="3111120" cy="261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Straight Connector 14"/>
              <p:cNvSpPr/>
              <p:nvPr/>
            </p:nvSpPr>
            <p:spPr>
              <a:xfrm>
                <a:off x="5362920" y="6216480"/>
                <a:ext cx="214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TextBox 16"/>
              <p:cNvSpPr/>
              <p:nvPr/>
            </p:nvSpPr>
            <p:spPr>
              <a:xfrm>
                <a:off x="6002640" y="6216480"/>
                <a:ext cx="107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~800-900 k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65" name="Picture 17" descr="Slide1"/>
            <p:cNvPicPr/>
            <p:nvPr/>
          </p:nvPicPr>
          <p:blipFill>
            <a:blip r:embed="rId5"/>
            <a:srcRect l="0" t="0" r="3301" b="0"/>
            <a:stretch/>
          </p:blipFill>
          <p:spPr>
            <a:xfrm>
              <a:off x="914400" y="3778560"/>
              <a:ext cx="3393360" cy="26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Box 18"/>
            <p:cNvSpPr/>
            <p:nvPr/>
          </p:nvSpPr>
          <p:spPr>
            <a:xfrm>
              <a:off x="1756800" y="6184080"/>
              <a:ext cx="770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~400 k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Box 19"/>
            <p:cNvSpPr/>
            <p:nvPr/>
          </p:nvSpPr>
          <p:spPr>
            <a:xfrm>
              <a:off x="3200760" y="3930840"/>
              <a:ext cx="1110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-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0-0400 L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optimal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Box 20"/>
            <p:cNvSpPr/>
            <p:nvPr/>
          </p:nvSpPr>
          <p:spPr>
            <a:xfrm>
              <a:off x="6782760" y="3741840"/>
              <a:ext cx="1188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-I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0800-1500 L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optimal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316080" y="3733920"/>
            <a:ext cx="8447040" cy="2857320"/>
            <a:chOff x="316080" y="3733920"/>
            <a:chExt cx="8447040" cy="2857320"/>
          </a:xfrm>
        </p:grpSpPr>
        <p:pic>
          <p:nvPicPr>
            <p:cNvPr id="270" name="Picture 10" descr="gh2.jpg"/>
            <p:cNvPicPr/>
            <p:nvPr/>
          </p:nvPicPr>
          <p:blipFill>
            <a:blip r:embed="rId6"/>
            <a:srcRect l="10219" t="16402" r="9490" b="3874"/>
            <a:stretch/>
          </p:blipFill>
          <p:spPr>
            <a:xfrm>
              <a:off x="4538160" y="3733920"/>
              <a:ext cx="422496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1" descr="gh1.jpg"/>
            <p:cNvPicPr/>
            <p:nvPr/>
          </p:nvPicPr>
          <p:blipFill>
            <a:blip r:embed="rId7"/>
            <a:srcRect l="16801" t="16173" r="16299" b="13587"/>
            <a:stretch/>
          </p:blipFill>
          <p:spPr>
            <a:xfrm>
              <a:off x="316080" y="3733920"/>
              <a:ext cx="3995640" cy="28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C1C5-B694-47B3-9D24-F881D5D12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6" descr="Picture 5.png"/>
          <p:cNvPicPr/>
          <p:nvPr/>
        </p:nvPicPr>
        <p:blipFill>
          <a:blip r:embed="rId1"/>
          <a:srcRect l="8196" t="0" r="35459" b="0"/>
          <a:stretch/>
        </p:blipFill>
        <p:spPr>
          <a:xfrm>
            <a:off x="6324480" y="4302000"/>
            <a:ext cx="2819520" cy="2556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16"/>
          <p:cNvSpPr/>
          <p:nvPr/>
        </p:nvSpPr>
        <p:spPr>
          <a:xfrm>
            <a:off x="0" y="1266840"/>
            <a:ext cx="632448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06156"/>
                </a:solidFill>
                <a:latin typeface="Calibri"/>
              </a:rPr>
              <a:t>Purpose: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  Continuously monitor TC intensity &amp; capturing an RI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change event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06156"/>
                </a:solidFill>
                <a:latin typeface="Calibri"/>
              </a:rPr>
              <a:t>Plan: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GALE released from P-3 free–fall AXBT chute (10,000 ft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- P-3 performs a fig-4 in eye dropping sondes and BTs, then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circumvents the ey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- GALE will loiter in the eye or eyewall region in mature stor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- Provide high-res near surface obs of (V, P, T and RH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- Module flight duration: ~1 h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76320" y="3733920"/>
            <a:ext cx="4114800" cy="3047400"/>
            <a:chOff x="76320" y="3733920"/>
            <a:chExt cx="4114800" cy="3047400"/>
          </a:xfrm>
        </p:grpSpPr>
        <p:pic>
          <p:nvPicPr>
            <p:cNvPr id="276" name="Picture 6" descr="Better ISO View.JPG"/>
            <p:cNvPicPr/>
            <p:nvPr/>
          </p:nvPicPr>
          <p:blipFill>
            <a:blip r:embed="rId2"/>
            <a:stretch/>
          </p:blipFill>
          <p:spPr>
            <a:xfrm>
              <a:off x="76320" y="3811680"/>
              <a:ext cx="4114800" cy="29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Line 10"/>
            <p:cNvSpPr/>
            <p:nvPr/>
          </p:nvSpPr>
          <p:spPr>
            <a:xfrm flipH="1" flipV="1">
              <a:off x="1802880" y="5251680"/>
              <a:ext cx="397080" cy="545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281880" y="3901320"/>
              <a:ext cx="2215800" cy="580680"/>
            </a:xfrm>
            <a:prstGeom prst="rect">
              <a:avLst/>
            </a:prstGeom>
            <a:solidFill>
              <a:srgbClr val="4b45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GPS antenna and Autopilot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>
              <a:off x="1794960" y="4217040"/>
              <a:ext cx="712800" cy="610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790640" y="5811840"/>
              <a:ext cx="1645920" cy="337320"/>
            </a:xfrm>
            <a:prstGeom prst="rect">
              <a:avLst/>
            </a:prstGeom>
            <a:solidFill>
              <a:srgbClr val="4b4582"/>
            </a:solidFill>
            <a:ln w="9360">
              <a:solidFill>
                <a:srgbClr val="2421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SatCom anten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2485080" y="3733920"/>
              <a:ext cx="1705680" cy="580680"/>
            </a:xfrm>
            <a:prstGeom prst="rect">
              <a:avLst/>
            </a:prstGeom>
            <a:solidFill>
              <a:srgbClr val="4b45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IST Sonde sens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3125160" y="4075560"/>
              <a:ext cx="234360" cy="40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Rectangle 12"/>
          <p:cNvSpPr/>
          <p:nvPr/>
        </p:nvSpPr>
        <p:spPr>
          <a:xfrm>
            <a:off x="835920" y="2286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UAS – Small Unmanned Aerial Vehicle Experiment (SUA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746520" y="838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: Joe C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Coyote_P3_2010_eye"/>
          <p:cNvPicPr/>
          <p:nvPr/>
        </p:nvPicPr>
        <p:blipFill>
          <a:blip r:embed="rId3"/>
          <a:srcRect l="21212" t="3705" r="36193" b="64447"/>
          <a:stretch/>
        </p:blipFill>
        <p:spPr>
          <a:xfrm>
            <a:off x="6305400" y="1447920"/>
            <a:ext cx="2686320" cy="25984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7"/>
          <p:cNvSpPr/>
          <p:nvPr/>
        </p:nvSpPr>
        <p:spPr>
          <a:xfrm>
            <a:off x="6610680" y="114300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ffff"/>
                </a:solidFill>
                <a:latin typeface="Arial"/>
              </a:rPr>
              <a:t>P-3 Mature Storm Patter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6627240" y="4038480"/>
            <a:ext cx="22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ffff"/>
                </a:solidFill>
                <a:latin typeface="Arial"/>
              </a:rPr>
              <a:t>GALE -UAS Flight Patter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Calibri"/>
              </a:rPr>
              <a:t>NASA’s Hurricane &amp; Severe Storm Sentinel (HS3)</a:t>
            </a:r>
            <a:br>
              <a:rPr sz="2900"/>
            </a:br>
            <a:r>
              <a:rPr b="0" i="1" lang="en-US" sz="2000" spc="-1" strike="noStrike">
                <a:solidFill>
                  <a:srgbClr val="f06156"/>
                </a:solidFill>
                <a:latin typeface="Calibri"/>
              </a:rPr>
              <a:t>A multi-year investigation of Atlantic hurrican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52280" y="1265040"/>
            <a:ext cx="868680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Science objective: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environmental and storm-scale processes on intensity chang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2012 time window: Sept. 1 - Oct. 5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Operate out of Wallops Island, VA,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2 Global Hawks (storm environment and over-storm flight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1d7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1d792"/>
                </a:solidFill>
                <a:latin typeface="Calibri"/>
                <a:ea typeface="Calibri"/>
              </a:rPr>
              <a:t>Collaborate with NASA on flight pattern to maximum data coverage and continuity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DFF2-5F38-4D72-BB49-CE56A9ED7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1" descr="300px-HS3_logo.png"/>
          <p:cNvPicPr/>
          <p:nvPr/>
        </p:nvPicPr>
        <p:blipFill>
          <a:blip r:embed="rId1"/>
          <a:stretch/>
        </p:blipFill>
        <p:spPr>
          <a:xfrm>
            <a:off x="7467480" y="5176800"/>
            <a:ext cx="1295640" cy="1528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" descr="HS3_header.jpg"/>
          <p:cNvPicPr/>
          <p:nvPr/>
        </p:nvPicPr>
        <p:blipFill>
          <a:blip r:embed="rId2"/>
          <a:srcRect l="50343" t="0" r="0" b="0"/>
          <a:stretch/>
        </p:blipFill>
        <p:spPr>
          <a:xfrm>
            <a:off x="228600" y="5486400"/>
            <a:ext cx="4044960" cy="11239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"/>
          <p:cNvSpPr/>
          <p:nvPr/>
        </p:nvSpPr>
        <p:spPr>
          <a:xfrm>
            <a:off x="233280" y="54864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Global Haw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38EB-5CE8-442D-A485-14406450A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873360" y="171360"/>
            <a:ext cx="73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alibri"/>
              </a:rPr>
              <a:t>2012 Hurricane Field Program Log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14"/>
          <p:cNvSpPr/>
          <p:nvPr/>
        </p:nvSpPr>
        <p:spPr>
          <a:xfrm>
            <a:off x="533520" y="817560"/>
            <a:ext cx="8001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Calibri"/>
              </a:rPr>
              <a:t>Daily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9AM Conf call/meeting with IFEX participants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if nee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10AM NOAA and NASA HS3 PIs telecon (Sept- O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noon Wx Discu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1PM AOC telecon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if nee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533520" y="28195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RD daily map discussions (25 July-29 Octob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noon star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goto meeting info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ily blog/email update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(when field activities are occur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38CE-4167-4C3F-8CFF-1EC04A5D7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246960" y="838080"/>
            <a:ext cx="353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b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noaahrd.wordpres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RD Web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aoml.noaa.gov/h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ce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cebook.com/noaah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w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twitter.com/hrd_aoml_no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1995840" y="152280"/>
            <a:ext cx="53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Calibri"/>
              </a:rPr>
              <a:t>Communicating in the fi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twitter-logo.jpg"/>
          <p:cNvPicPr/>
          <p:nvPr/>
        </p:nvPicPr>
        <p:blipFill>
          <a:blip r:embed="rId1"/>
          <a:stretch/>
        </p:blipFill>
        <p:spPr>
          <a:xfrm>
            <a:off x="7467480" y="1066680"/>
            <a:ext cx="1524240" cy="887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Facebook-Logo.png"/>
          <p:cNvPicPr/>
          <p:nvPr/>
        </p:nvPicPr>
        <p:blipFill>
          <a:blip r:embed="rId2"/>
          <a:stretch/>
        </p:blipFill>
        <p:spPr>
          <a:xfrm>
            <a:off x="6172200" y="990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blog_image.tiff"/>
          <p:cNvPicPr/>
          <p:nvPr/>
        </p:nvPicPr>
        <p:blipFill>
          <a:blip r:embed="rId3"/>
          <a:stretch/>
        </p:blipFill>
        <p:spPr>
          <a:xfrm>
            <a:off x="5791320" y="3809880"/>
            <a:ext cx="3097080" cy="2667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Lastfm+for+Wordpress+logo.png"/>
          <p:cNvPicPr/>
          <p:nvPr/>
        </p:nvPicPr>
        <p:blipFill>
          <a:blip r:embed="rId4"/>
          <a:stretch/>
        </p:blipFill>
        <p:spPr>
          <a:xfrm>
            <a:off x="4800600" y="91440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hrd_page.tiff"/>
          <p:cNvPicPr/>
          <p:nvPr/>
        </p:nvPicPr>
        <p:blipFill>
          <a:blip r:embed="rId5"/>
          <a:stretch/>
        </p:blipFill>
        <p:spPr>
          <a:xfrm>
            <a:off x="2971800" y="3809880"/>
            <a:ext cx="2725560" cy="26672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0"/>
          <p:cNvSpPr/>
          <p:nvPr/>
        </p:nvSpPr>
        <p:spPr>
          <a:xfrm>
            <a:off x="3814560" y="2438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13" descr="20110825-093808"/>
          <p:cNvPicPr/>
          <p:nvPr/>
        </p:nvPicPr>
        <p:blipFill>
          <a:blip r:embed="rId6"/>
          <a:stretch/>
        </p:blipFill>
        <p:spPr>
          <a:xfrm>
            <a:off x="152280" y="4016520"/>
            <a:ext cx="2789280" cy="20793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4"/>
          <p:cNvSpPr/>
          <p:nvPr/>
        </p:nvSpPr>
        <p:spPr>
          <a:xfrm>
            <a:off x="137520" y="403848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Tweets from the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Corbel"/>
                <a:ea typeface="Calibri"/>
              </a:rPr>
              <a:t>Intensity Forecasting Experiment </a:t>
            </a:r>
            <a:br>
              <a:rPr sz="3500"/>
            </a:br>
            <a:r>
              <a:rPr b="0" lang="en-US" sz="3500" spc="-1" strike="noStrike">
                <a:solidFill>
                  <a:srgbClr val="ffff00"/>
                </a:solidFill>
                <a:latin typeface="Corbel"/>
                <a:ea typeface="Calibri"/>
              </a:rPr>
              <a:t>(IFEX; Rogers et al., BAMS, 2006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59200" y="1521000"/>
            <a:ext cx="5235480" cy="42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FEX intended to improve prediction of TC intensity change b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llecting observations that span TC life cycle in a variety of environments for model initialization and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ing and refining measurement technologies that provide improved real-time monitoring of TC intensity, structure, and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mproving understanding of physical processes important in intensity change for a TC at all stages of its life cyc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ifex.pdf"/>
          <p:cNvPicPr/>
          <p:nvPr/>
        </p:nvPicPr>
        <p:blipFill>
          <a:blip r:embed="rId1"/>
          <a:srcRect l="0" t="9233" r="0" b="0"/>
          <a:stretch/>
        </p:blipFill>
        <p:spPr>
          <a:xfrm>
            <a:off x="233280" y="1366920"/>
            <a:ext cx="3500640" cy="427032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484D-ED1C-42C8-BD37-BF9AA95FBF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43000" y="911160"/>
          <a:ext cx="6858000" cy="4270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8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e- IF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956-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IF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005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6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e-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4.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9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7.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5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6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3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t 1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3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4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t 3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3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254"/>
          <p:cNvSpPr/>
          <p:nvPr/>
        </p:nvSpPr>
        <p:spPr>
          <a:xfrm>
            <a:off x="467640" y="106200"/>
            <a:ext cx="81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64"/>
                </a:solidFill>
                <a:latin typeface="Calibri"/>
              </a:rPr>
              <a:t>Percentage (%) of on-station aircraft flight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55"/>
          <p:cNvSpPr/>
          <p:nvPr/>
        </p:nvSpPr>
        <p:spPr>
          <a:xfrm>
            <a:off x="2520720" y="5410080"/>
            <a:ext cx="42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Pre-IFEX: 8020 total hours fl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IFEX: 2526 total hours fl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9160-D969-437C-94A6-ED6E982A57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32000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IFEX goal 3: Improving understand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1760" y="35809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E. Pacific Decay Experiment (E. Rappaport, Uhlhor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TC Diurnal Cycle Experiment (Duni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Extra-tropical Transition Experiment (Abers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Genesis Experiment (Rogers, Reasor, Hogsett)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-convective burst module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Rapid Intensity Change Experiment (Kaplan, Rogers, Duni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TC/AEW Arc Cloud Module (Duni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Landfall and Inland Decay Experiment (Dodge, Kapla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TC Eye Mixing Module (Abers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Boundary Layer Inflow Module (Uhlhorn, J. Zhang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Eyewall Sampling and Intensity Change Module (J. Zhang and G. Barnes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Air-Sea Surface Flux Module (M. Bell, M. Montgomery, R. Rogers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Hurricane PBL Entrainment Flux Module (J. Zhang. G. Barnes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Aerosol/Cloud Droplet Measurement module (R. Black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529-4196-492C-B9CD-0989AA9D8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199600" y="-76320"/>
            <a:ext cx="44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alibri"/>
              </a:rPr>
              <a:t>Focus areas for 20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81000" y="501480"/>
            <a:ext cx="88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IFEX goal 1: Collecting observations for model initialization/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762120" y="94140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-3 3-D Doppler Winds Experiment (Tail Doppler Radar) TD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762120" y="1752480"/>
            <a:ext cx="792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SDIS Ocean Winds and Rain Experiment (P. Cha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AS GALE Module (Cion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C-Ocean Interaction Experiment (N. Shay, Uhlhor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-IV TDR Experiment (Gamache, Dodge, Reasor, Lorsolo, Akso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360" y="12193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IFEX goal 2: Developing and refining measurement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693720"/>
          </a:xfrm>
          <a:prstGeom prst="rect">
            <a:avLst/>
          </a:prstGeom>
          <a:solidFill>
            <a:srgbClr val="4b458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Intensity change is a multi-scale proc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9144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42c4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c44c"/>
                </a:solidFill>
                <a:latin typeface="Calibri"/>
              </a:rPr>
              <a:t>Sample TCs and the environment on all sca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844-7806-48A4-A891-BE079D104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eft-Right Arrow 59"/>
          <p:cNvSpPr/>
          <p:nvPr/>
        </p:nvSpPr>
        <p:spPr>
          <a:xfrm>
            <a:off x="3962520" y="3352680"/>
            <a:ext cx="1631880" cy="501840"/>
          </a:xfrm>
          <a:prstGeom prst="leftRightArrow">
            <a:avLst>
              <a:gd name="adj1" fmla="val 50000"/>
              <a:gd name="adj2" fmla="val 49981"/>
            </a:avLst>
          </a:prstGeom>
          <a:solidFill>
            <a:srgbClr val="2d7f80"/>
          </a:solidFill>
          <a:ln w="9360">
            <a:solidFill>
              <a:srgbClr val="2d7f8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0C7C-7C19-4D05-BBFF-96984DC2D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559720" y="1168560"/>
            <a:ext cx="419040" cy="552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63"/>
          <p:cNvSpPr/>
          <p:nvPr/>
        </p:nvSpPr>
        <p:spPr>
          <a:xfrm>
            <a:off x="76320" y="1905120"/>
            <a:ext cx="3298680" cy="17974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Atmospheric Sc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icro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m - c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urbulent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m –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vective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00 m – 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Vortex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 – 100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nvironment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00-10,000 k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64"/>
          <p:cNvGrpSpPr/>
          <p:nvPr/>
        </p:nvGrpSpPr>
        <p:grpSpPr>
          <a:xfrm>
            <a:off x="1707840" y="1812960"/>
            <a:ext cx="6266160" cy="4901400"/>
            <a:chOff x="1707840" y="1812960"/>
            <a:chExt cx="6266160" cy="4901400"/>
          </a:xfrm>
        </p:grpSpPr>
        <p:sp>
          <p:nvSpPr>
            <p:cNvPr id="76" name="Straight Connector 5"/>
            <p:cNvSpPr/>
            <p:nvPr/>
          </p:nvSpPr>
          <p:spPr>
            <a:xfrm>
              <a:off x="1795320" y="6076800"/>
              <a:ext cx="6104160" cy="18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9"/>
            <p:cNvSpPr/>
            <p:nvPr/>
          </p:nvSpPr>
          <p:spPr>
            <a:xfrm flipH="1">
              <a:off x="2400480" y="6008760"/>
              <a:ext cx="144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8"/>
            <p:cNvSpPr/>
            <p:nvPr/>
          </p:nvSpPr>
          <p:spPr>
            <a:xfrm flipH="1">
              <a:off x="3727440" y="6021360"/>
              <a:ext cx="144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9"/>
            <p:cNvSpPr/>
            <p:nvPr/>
          </p:nvSpPr>
          <p:spPr>
            <a:xfrm flipH="1">
              <a:off x="4533480" y="6016680"/>
              <a:ext cx="180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30"/>
            <p:cNvSpPr/>
            <p:nvPr/>
          </p:nvSpPr>
          <p:spPr>
            <a:xfrm flipH="1">
              <a:off x="5471640" y="6004080"/>
              <a:ext cx="180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31"/>
            <p:cNvSpPr/>
            <p:nvPr/>
          </p:nvSpPr>
          <p:spPr>
            <a:xfrm flipH="1">
              <a:off x="7141680" y="5983200"/>
              <a:ext cx="180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TextBox 33"/>
            <p:cNvSpPr/>
            <p:nvPr/>
          </p:nvSpPr>
          <p:spPr>
            <a:xfrm rot="19394400">
              <a:off x="1948680" y="61686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ic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Box 34"/>
            <p:cNvSpPr/>
            <p:nvPr/>
          </p:nvSpPr>
          <p:spPr>
            <a:xfrm rot="19394400">
              <a:off x="3316680" y="6167160"/>
              <a:ext cx="61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Turb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Box 35"/>
            <p:cNvSpPr/>
            <p:nvPr/>
          </p:nvSpPr>
          <p:spPr>
            <a:xfrm rot="19394400">
              <a:off x="4131360" y="615744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Conv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Box 36"/>
            <p:cNvSpPr/>
            <p:nvPr/>
          </p:nvSpPr>
          <p:spPr>
            <a:xfrm rot="19394400">
              <a:off x="5033520" y="6173280"/>
              <a:ext cx="7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Vorte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Box 37"/>
            <p:cNvSpPr/>
            <p:nvPr/>
          </p:nvSpPr>
          <p:spPr>
            <a:xfrm rot="19394400">
              <a:off x="6634440" y="618480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vir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eft-Right Arrow 38"/>
            <p:cNvSpPr/>
            <p:nvPr/>
          </p:nvSpPr>
          <p:spPr>
            <a:xfrm>
              <a:off x="5911920" y="5527800"/>
              <a:ext cx="2062080" cy="527040"/>
            </a:xfrm>
            <a:prstGeom prst="leftRightArrow">
              <a:avLst>
                <a:gd name="adj1" fmla="val 50000"/>
                <a:gd name="adj2" fmla="val 50012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8eb4e3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eft-Right Arrow 39"/>
            <p:cNvSpPr/>
            <p:nvPr/>
          </p:nvSpPr>
          <p:spPr>
            <a:xfrm>
              <a:off x="4384800" y="4800600"/>
              <a:ext cx="1214280" cy="512640"/>
            </a:xfrm>
            <a:prstGeom prst="leftRightArrow">
              <a:avLst>
                <a:gd name="adj1" fmla="val 50000"/>
                <a:gd name="adj2" fmla="val 50005"/>
              </a:avLst>
            </a:prstGeom>
            <a:solidFill>
              <a:srgbClr val="c3d69b"/>
            </a:solidFill>
            <a:ln w="9360">
              <a:solidFill>
                <a:srgbClr val="c3d69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eft-Right Arrow 40"/>
            <p:cNvSpPr/>
            <p:nvPr/>
          </p:nvSpPr>
          <p:spPr>
            <a:xfrm>
              <a:off x="3511440" y="2133720"/>
              <a:ext cx="2871720" cy="520560"/>
            </a:xfrm>
            <a:prstGeom prst="leftRightArrow">
              <a:avLst>
                <a:gd name="adj1" fmla="val 50000"/>
                <a:gd name="adj2" fmla="val 50007"/>
              </a:avLst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eft-Right Arrow 41"/>
            <p:cNvSpPr/>
            <p:nvPr/>
          </p:nvSpPr>
          <p:spPr>
            <a:xfrm>
              <a:off x="1747800" y="5564160"/>
              <a:ext cx="1101600" cy="426960"/>
            </a:xfrm>
            <a:prstGeom prst="leftRightArrow">
              <a:avLst>
                <a:gd name="adj1" fmla="val 50000"/>
                <a:gd name="adj2" fmla="val 50001"/>
              </a:avLst>
            </a:prstGeom>
            <a:solidFill>
              <a:srgbClr val="95b3d7"/>
            </a:solidFill>
            <a:ln w="9360">
              <a:solidFill>
                <a:srgbClr val="95b3d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eft-Right Arrow 42"/>
            <p:cNvSpPr/>
            <p:nvPr/>
          </p:nvSpPr>
          <p:spPr>
            <a:xfrm>
              <a:off x="5626080" y="4800600"/>
              <a:ext cx="1814400" cy="447840"/>
            </a:xfrm>
            <a:prstGeom prst="leftRightArrow">
              <a:avLst>
                <a:gd name="adj1" fmla="val 50000"/>
                <a:gd name="adj2" fmla="val 49987"/>
              </a:avLst>
            </a:prstGeom>
            <a:solidFill>
              <a:srgbClr val="8447ae"/>
            </a:solidFill>
            <a:ln w="9360">
              <a:solidFill>
                <a:srgbClr val="8447a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eft-Right Arrow 43"/>
            <p:cNvSpPr/>
            <p:nvPr/>
          </p:nvSpPr>
          <p:spPr>
            <a:xfrm>
              <a:off x="3600360" y="4419720"/>
              <a:ext cx="3994200" cy="519120"/>
            </a:xfrm>
            <a:prstGeom prst="leftRightArrow">
              <a:avLst>
                <a:gd name="adj1" fmla="val 50000"/>
                <a:gd name="adj2" fmla="val 49976"/>
              </a:avLst>
            </a:prstGeom>
            <a:solidFill>
              <a:srgbClr val="d99694"/>
            </a:solidFill>
            <a:ln w="9360">
              <a:solidFill>
                <a:srgbClr val="d9969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eft-Right Arrow 44"/>
            <p:cNvSpPr/>
            <p:nvPr/>
          </p:nvSpPr>
          <p:spPr>
            <a:xfrm>
              <a:off x="2925720" y="5397480"/>
              <a:ext cx="1633680" cy="449280"/>
            </a:xfrm>
            <a:prstGeom prst="leftRightArrow">
              <a:avLst>
                <a:gd name="adj1" fmla="val 50000"/>
                <a:gd name="adj2" fmla="val 50015"/>
              </a:avLst>
            </a:prstGeom>
            <a:solidFill>
              <a:srgbClr val="fac090"/>
            </a:solidFill>
            <a:ln w="9360">
              <a:solidFill>
                <a:srgbClr val="fac09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eft-Right Arrow 45"/>
            <p:cNvSpPr/>
            <p:nvPr/>
          </p:nvSpPr>
          <p:spPr>
            <a:xfrm>
              <a:off x="3397320" y="2959200"/>
              <a:ext cx="1128600" cy="503280"/>
            </a:xfrm>
            <a:prstGeom prst="leftRightArrow">
              <a:avLst>
                <a:gd name="adj1" fmla="val 50000"/>
                <a:gd name="adj2" fmla="val 49989"/>
              </a:avLst>
            </a:prstGeom>
            <a:solidFill>
              <a:srgbClr val="948a54"/>
            </a:solidFill>
            <a:ln w="9360">
              <a:solidFill>
                <a:srgbClr val="948a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eft-Right Arrow 46"/>
            <p:cNvSpPr/>
            <p:nvPr/>
          </p:nvSpPr>
          <p:spPr>
            <a:xfrm>
              <a:off x="5487840" y="3276720"/>
              <a:ext cx="2225880" cy="503280"/>
            </a:xfrm>
            <a:prstGeom prst="leftRightArrow">
              <a:avLst>
                <a:gd name="adj1" fmla="val 50000"/>
                <a:gd name="adj2" fmla="val 50002"/>
              </a:avLst>
            </a:prstGeom>
            <a:solidFill>
              <a:srgbClr val="e46c0a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eft-Right Arrow 47"/>
            <p:cNvSpPr/>
            <p:nvPr/>
          </p:nvSpPr>
          <p:spPr>
            <a:xfrm>
              <a:off x="4349880" y="4056120"/>
              <a:ext cx="1631880" cy="501480"/>
            </a:xfrm>
            <a:prstGeom prst="leftRightArrow">
              <a:avLst>
                <a:gd name="adj1" fmla="val 50000"/>
                <a:gd name="adj2" fmla="val 50017"/>
              </a:avLst>
            </a:prstGeom>
            <a:solidFill>
              <a:srgbClr val="e461cc"/>
            </a:solidFill>
            <a:ln w="9360">
              <a:solidFill>
                <a:srgbClr val="e461cc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eft-Right Arrow 48"/>
            <p:cNvSpPr/>
            <p:nvPr/>
          </p:nvSpPr>
          <p:spPr>
            <a:xfrm>
              <a:off x="5241960" y="2514600"/>
              <a:ext cx="1633680" cy="503280"/>
            </a:xfrm>
            <a:prstGeom prst="leftRightArrow">
              <a:avLst>
                <a:gd name="adj1" fmla="val 50000"/>
                <a:gd name="adj2" fmla="val 49998"/>
              </a:avLst>
            </a:prstGeom>
            <a:solidFill>
              <a:srgbClr val="cc9a1a"/>
            </a:solidFill>
            <a:ln w="9360">
              <a:solidFill>
                <a:srgbClr val="cc9a1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Box 50"/>
            <p:cNvSpPr/>
            <p:nvPr/>
          </p:nvSpPr>
          <p:spPr>
            <a:xfrm>
              <a:off x="6258240" y="55818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Ocean Envir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Box 51"/>
            <p:cNvSpPr/>
            <p:nvPr/>
          </p:nvSpPr>
          <p:spPr>
            <a:xfrm>
              <a:off x="5100480" y="448956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apid I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Box 52"/>
            <p:cNvSpPr/>
            <p:nvPr/>
          </p:nvSpPr>
          <p:spPr>
            <a:xfrm>
              <a:off x="1707840" y="557532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oud Ph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53"/>
            <p:cNvSpPr/>
            <p:nvPr/>
          </p:nvSpPr>
          <p:spPr>
            <a:xfrm>
              <a:off x="3778200" y="219060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-3 Tail Doppler Rada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Box 54"/>
            <p:cNvSpPr/>
            <p:nvPr/>
          </p:nvSpPr>
          <p:spPr>
            <a:xfrm>
              <a:off x="4700520" y="411012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e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Box 55"/>
            <p:cNvSpPr/>
            <p:nvPr/>
          </p:nvSpPr>
          <p:spPr>
            <a:xfrm>
              <a:off x="3085560" y="54230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ur Bndy Ly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eft-Right Arrow 56"/>
            <p:cNvSpPr/>
            <p:nvPr/>
          </p:nvSpPr>
          <p:spPr>
            <a:xfrm>
              <a:off x="5038560" y="2895480"/>
              <a:ext cx="1128960" cy="503280"/>
            </a:xfrm>
            <a:prstGeom prst="leftRightArrow">
              <a:avLst>
                <a:gd name="adj1" fmla="val 50000"/>
                <a:gd name="adj2" fmla="val 50005"/>
              </a:avLst>
            </a:prstGeom>
            <a:solidFill>
              <a:srgbClr val="93cddd"/>
            </a:solidFill>
            <a:ln w="9360">
              <a:solidFill>
                <a:srgbClr val="93cddd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Box 57"/>
            <p:cNvSpPr/>
            <p:nvPr/>
          </p:nvSpPr>
          <p:spPr>
            <a:xfrm>
              <a:off x="5907960" y="4834080"/>
              <a:ext cx="11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xtra Tr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Box 58"/>
            <p:cNvSpPr/>
            <p:nvPr/>
          </p:nvSpPr>
          <p:spPr>
            <a:xfrm>
              <a:off x="4550040" y="487836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ye Mi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Box 59"/>
            <p:cNvSpPr/>
            <p:nvPr/>
          </p:nvSpPr>
          <p:spPr>
            <a:xfrm>
              <a:off x="3505320" y="300996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IV-TD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Box 60"/>
            <p:cNvSpPr/>
            <p:nvPr/>
          </p:nvSpPr>
          <p:spPr>
            <a:xfrm>
              <a:off x="5045400" y="29336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ALE-U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61"/>
            <p:cNvSpPr/>
            <p:nvPr/>
          </p:nvSpPr>
          <p:spPr>
            <a:xfrm>
              <a:off x="5950800" y="3352680"/>
              <a:ext cx="11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C Diu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Box 62"/>
            <p:cNvSpPr/>
            <p:nvPr/>
          </p:nvSpPr>
          <p:spPr>
            <a:xfrm>
              <a:off x="5357880" y="255276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Ocean Wi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Box 64"/>
            <p:cNvSpPr/>
            <p:nvPr/>
          </p:nvSpPr>
          <p:spPr>
            <a:xfrm>
              <a:off x="4059000" y="1812960"/>
              <a:ext cx="306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ffffff"/>
                  </a:solidFill>
                  <a:uFillTx/>
                  <a:latin typeface="Calibri"/>
                </a:rPr>
                <a:t>IFEX 2011 Flight Experimen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Right Brace 66"/>
          <p:cNvSpPr/>
          <p:nvPr/>
        </p:nvSpPr>
        <p:spPr>
          <a:xfrm>
            <a:off x="7967520" y="3429000"/>
            <a:ext cx="312840" cy="2616120"/>
          </a:xfrm>
          <a:custGeom>
            <a:avLst/>
            <a:gdLst>
              <a:gd name="textAreaLeft" fmla="*/ 0 w 312840"/>
              <a:gd name="textAreaRight" fmla="*/ 113040 w 312840"/>
              <a:gd name="textAreaTop" fmla="*/ 7920 h 2616120"/>
              <a:gd name="textAreaBottom" fmla="*/ 2608200 h 261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"/>
                  <a:pt x="10800" y="215"/>
                </a:cubicBezTo>
                <a:lnTo>
                  <a:pt x="10800" y="10585"/>
                </a:lnTo>
                <a:cubicBezTo>
                  <a:pt x="10800" y="10693"/>
                  <a:pt x="16200" y="10800"/>
                  <a:pt x="21600" y="10800"/>
                </a:cubicBezTo>
                <a:cubicBezTo>
                  <a:pt x="16200" y="10800"/>
                  <a:pt x="10800" y="10908"/>
                  <a:pt x="10800" y="11015"/>
                </a:cubicBezTo>
                <a:lnTo>
                  <a:pt x="10800" y="21385"/>
                </a:lnTo>
                <a:cubicBezTo>
                  <a:pt x="10800" y="2149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ight Brace 68"/>
          <p:cNvSpPr/>
          <p:nvPr/>
        </p:nvSpPr>
        <p:spPr>
          <a:xfrm>
            <a:off x="7974000" y="2800440"/>
            <a:ext cx="304920" cy="62856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628560"/>
              <a:gd name="textAreaBottom" fmla="*/ 62064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7"/>
                  <a:pt x="10800" y="873"/>
                </a:cubicBezTo>
                <a:lnTo>
                  <a:pt x="10800" y="9927"/>
                </a:lnTo>
                <a:cubicBezTo>
                  <a:pt x="10800" y="10364"/>
                  <a:pt x="16200" y="10800"/>
                  <a:pt x="21600" y="10800"/>
                </a:cubicBezTo>
                <a:cubicBezTo>
                  <a:pt x="16200" y="10800"/>
                  <a:pt x="10800" y="11237"/>
                  <a:pt x="10800" y="11673"/>
                </a:cubicBezTo>
                <a:lnTo>
                  <a:pt x="10800" y="20727"/>
                </a:lnTo>
                <a:cubicBezTo>
                  <a:pt x="10800" y="2116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ight Brace 69"/>
          <p:cNvSpPr/>
          <p:nvPr/>
        </p:nvSpPr>
        <p:spPr>
          <a:xfrm>
            <a:off x="7966080" y="2214720"/>
            <a:ext cx="304920" cy="561960"/>
          </a:xfrm>
          <a:custGeom>
            <a:avLst/>
            <a:gdLst>
              <a:gd name="textAreaLeft" fmla="*/ 0 w 304920"/>
              <a:gd name="textAreaRight" fmla="*/ 110160 w 3049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70"/>
          <p:cNvSpPr/>
          <p:nvPr/>
        </p:nvSpPr>
        <p:spPr>
          <a:xfrm>
            <a:off x="8299440" y="23256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alibri"/>
              </a:rPr>
              <a:t>Goal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71"/>
          <p:cNvSpPr/>
          <p:nvPr/>
        </p:nvSpPr>
        <p:spPr>
          <a:xfrm>
            <a:off x="8299440" y="29718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alibri"/>
              </a:rPr>
              <a:t>Goal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2"/>
          <p:cNvSpPr/>
          <p:nvPr/>
        </p:nvSpPr>
        <p:spPr>
          <a:xfrm>
            <a:off x="8280360" y="45720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alibri"/>
              </a:rPr>
              <a:t>Goal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73"/>
          <p:cNvSpPr/>
          <p:nvPr/>
        </p:nvSpPr>
        <p:spPr>
          <a:xfrm>
            <a:off x="8209080" y="1901880"/>
            <a:ext cx="701640" cy="307080"/>
          </a:xfrm>
          <a:prstGeom prst="rect">
            <a:avLst/>
          </a:prstGeom>
          <a:solidFill>
            <a:srgbClr val="4b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orbel"/>
              </a:rPr>
              <a:t>IF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eft-Right Arrow 74"/>
          <p:cNvSpPr/>
          <p:nvPr/>
        </p:nvSpPr>
        <p:spPr>
          <a:xfrm>
            <a:off x="4722840" y="5506920"/>
            <a:ext cx="1214280" cy="513000"/>
          </a:xfrm>
          <a:prstGeom prst="leftRightArrow">
            <a:avLst>
              <a:gd name="adj1" fmla="val 50000"/>
              <a:gd name="adj2" fmla="val 49970"/>
            </a:avLst>
          </a:prstGeom>
          <a:solidFill>
            <a:srgbClr val="953735"/>
          </a:solidFill>
          <a:ln w="9360">
            <a:solidFill>
              <a:srgbClr val="9537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75"/>
          <p:cNvSpPr/>
          <p:nvPr/>
        </p:nvSpPr>
        <p:spPr>
          <a:xfrm>
            <a:off x="4873680" y="55753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andf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eft-Right Arrow 52"/>
          <p:cNvSpPr/>
          <p:nvPr/>
        </p:nvSpPr>
        <p:spPr>
          <a:xfrm>
            <a:off x="5398920" y="3700440"/>
            <a:ext cx="1992600" cy="44784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92d050"/>
          </a:solidFill>
          <a:ln w="9360">
            <a:solidFill>
              <a:srgbClr val="ccc1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1"/>
          <p:cNvSpPr/>
          <p:nvPr/>
        </p:nvSpPr>
        <p:spPr>
          <a:xfrm>
            <a:off x="5551200" y="37418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. Pacific Dec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eft-Right Arrow 54"/>
          <p:cNvSpPr/>
          <p:nvPr/>
        </p:nvSpPr>
        <p:spPr>
          <a:xfrm>
            <a:off x="4876920" y="5181480"/>
            <a:ext cx="1371600" cy="436680"/>
          </a:xfrm>
          <a:prstGeom prst="leftRightArrow">
            <a:avLst>
              <a:gd name="adj1" fmla="val 50000"/>
              <a:gd name="adj2" fmla="val 49994"/>
            </a:avLst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58"/>
          <p:cNvSpPr/>
          <p:nvPr/>
        </p:nvSpPr>
        <p:spPr>
          <a:xfrm>
            <a:off x="4876920" y="5195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Eyew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 S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eft-Right Arrow 57"/>
          <p:cNvSpPr/>
          <p:nvPr/>
        </p:nvSpPr>
        <p:spPr>
          <a:xfrm>
            <a:off x="6095880" y="3987720"/>
            <a:ext cx="1632240" cy="50184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06156"/>
          </a:solidFill>
          <a:ln w="9360">
            <a:solidFill>
              <a:srgbClr val="f0615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4"/>
          <p:cNvSpPr/>
          <p:nvPr/>
        </p:nvSpPr>
        <p:spPr>
          <a:xfrm>
            <a:off x="6382080" y="407196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c Clo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4137120" y="34146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ir Sea Fl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eft-Right Arrow 59"/>
          <p:cNvSpPr/>
          <p:nvPr/>
        </p:nvSpPr>
        <p:spPr>
          <a:xfrm>
            <a:off x="3984480" y="3689280"/>
            <a:ext cx="1425600" cy="501840"/>
          </a:xfrm>
          <a:prstGeom prst="leftRightArrow">
            <a:avLst>
              <a:gd name="adj1" fmla="val 50000"/>
              <a:gd name="adj2" fmla="val 43663"/>
            </a:avLst>
          </a:prstGeom>
          <a:solidFill>
            <a:srgbClr val="b006ed"/>
          </a:solidFill>
          <a:ln w="9360">
            <a:solidFill>
              <a:srgbClr val="b006e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57"/>
          <p:cNvSpPr/>
          <p:nvPr/>
        </p:nvSpPr>
        <p:spPr>
          <a:xfrm>
            <a:off x="4085640" y="37479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v. Bu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alibri"/>
              </a:rPr>
              <a:t>2012 HRD Field Program IFEX Plan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112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inuation of IFEX objectiv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ws available for two-per-day P-3 missions, 2 G-IV mission per da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 P-3 available this season (N42RF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SRA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half of season) and IWRAP (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half of season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SPEN, RVP-8, and AAMPS </a:t>
            </a:r>
            <a:r>
              <a:rPr b="0" i="1" lang="en-US" sz="1200" spc="-1" strike="noStrike">
                <a:solidFill>
                  <a:srgbClr val="42c44c"/>
                </a:solidFill>
                <a:latin typeface="Calibri"/>
              </a:rPr>
              <a:t>new!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ly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operationally taske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ssio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sed on EMC’s and/or NHC’s operational nee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ected modules may be attempte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7104-EF95-4393-A6E0-AFEE9BA93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4363-EA8E-4D02-8F7D-8FC9EC7A6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tracking_chart_atlantic.png"/>
          <p:cNvPicPr/>
          <p:nvPr/>
        </p:nvPicPr>
        <p:blipFill>
          <a:blip r:embed="rId1"/>
          <a:srcRect l="1575" t="20187" r="1407" b="16481"/>
          <a:stretch/>
        </p:blipFill>
        <p:spPr>
          <a:xfrm>
            <a:off x="990720" y="76320"/>
            <a:ext cx="6476760" cy="3267000"/>
          </a:xfrm>
          <a:prstGeom prst="rect">
            <a:avLst/>
          </a:prstGeom>
          <a:ln w="0">
            <a:noFill/>
          </a:ln>
        </p:spPr>
      </p:pic>
      <p:sp>
        <p:nvSpPr>
          <p:cNvPr id="135" name="Oval 3"/>
          <p:cNvSpPr/>
          <p:nvPr/>
        </p:nvSpPr>
        <p:spPr>
          <a:xfrm>
            <a:off x="1447920" y="417600"/>
            <a:ext cx="2577960" cy="2496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tracking_chart_atlantic.png"/>
          <p:cNvPicPr/>
          <p:nvPr/>
        </p:nvPicPr>
        <p:blipFill>
          <a:blip r:embed="rId2"/>
          <a:srcRect l="1575" t="20187" r="1407" b="16481"/>
          <a:stretch/>
        </p:blipFill>
        <p:spPr>
          <a:xfrm>
            <a:off x="990720" y="3429000"/>
            <a:ext cx="6476760" cy="3267000"/>
          </a:xfrm>
          <a:prstGeom prst="rect">
            <a:avLst/>
          </a:prstGeom>
          <a:ln w="0">
            <a:noFill/>
          </a:ln>
        </p:spPr>
      </p:pic>
      <p:sp>
        <p:nvSpPr>
          <p:cNvPr id="137" name="Oval 6"/>
          <p:cNvSpPr/>
          <p:nvPr/>
        </p:nvSpPr>
        <p:spPr>
          <a:xfrm flipV="1">
            <a:off x="2639880" y="1667880"/>
            <a:ext cx="55800" cy="44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 flipV="1">
            <a:off x="2631960" y="5020560"/>
            <a:ext cx="55800" cy="44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2595600" y="1523880"/>
            <a:ext cx="63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Tamp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1066680" y="3484440"/>
            <a:ext cx="3353040" cy="3144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2560680" y="4871880"/>
            <a:ext cx="63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Tamp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4716720" y="304920"/>
            <a:ext cx="252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-3 Geographic Co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4610160" y="3689280"/>
            <a:ext cx="262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-IV Geographic Co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A85-82AF-4ECF-93F6-0BA4FB6AD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Three-dimensional Doppler Winds Experi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P-3 TD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6156"/>
                </a:solidFill>
                <a:latin typeface="Calibri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 a comprehensive wind data set for initialization (including data assimilation) and validation of hurricane numerical simulations such as HWRF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6156"/>
                </a:solidFill>
                <a:latin typeface="Calibri"/>
              </a:rPr>
              <a:t>Pla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 P-3 Flights per da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on-station time centered on 12 and 0 UTC analysis periods (8 and 20 UTC take-off tim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minimum 3 flights in a row starting at tropical depression or maybe pre-depression sta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658080" y="1262160"/>
            <a:ext cx="77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Is: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John Gamache, Vijay Tallapragada, Peter Dodge, Paul Reasor, Sylvie Lorsolo, Altug Aks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P-3 TDR 3D Winds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42"/>
          <p:cNvSpPr/>
          <p:nvPr/>
        </p:nvSpPr>
        <p:spPr>
          <a:xfrm>
            <a:off x="1600200" y="1828800"/>
            <a:ext cx="52578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1239840" y="1905120"/>
            <a:ext cx="3213000" cy="144756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4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2457360" cy="144756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6" descr=""/>
          <p:cNvPicPr/>
          <p:nvPr/>
        </p:nvPicPr>
        <p:blipFill>
          <a:blip r:embed="rId3"/>
          <a:stretch/>
        </p:blipFill>
        <p:spPr>
          <a:xfrm>
            <a:off x="762120" y="40957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8" descr=""/>
          <p:cNvPicPr/>
          <p:nvPr/>
        </p:nvPicPr>
        <p:blipFill>
          <a:blip r:embed="rId4"/>
          <a:stretch/>
        </p:blipFill>
        <p:spPr>
          <a:xfrm>
            <a:off x="3200400" y="4095720"/>
            <a:ext cx="25574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10"/>
          <p:cNvGraphicFramePr/>
          <p:nvPr/>
        </p:nvGraphicFramePr>
        <p:xfrm>
          <a:off x="5867280" y="4095720"/>
          <a:ext cx="2689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095720"/>
                    <a:ext cx="2689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Box 1"/>
          <p:cNvSpPr/>
          <p:nvPr/>
        </p:nvSpPr>
        <p:spPr>
          <a:xfrm>
            <a:off x="3132360" y="7621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eded"/>
                </a:solidFill>
                <a:latin typeface="Arial"/>
              </a:rPr>
              <a:t>Typical flight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2380680" y="1447920"/>
            <a:ext cx="42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c44c"/>
                </a:solidFill>
                <a:latin typeface="Calibri"/>
                <a:ea typeface="Calibri"/>
              </a:rPr>
              <a:t>For pre-depression or depression s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454840" y="363852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c44c"/>
                </a:solidFill>
                <a:latin typeface="Calibri"/>
                <a:ea typeface="Calibri"/>
              </a:rPr>
              <a:t>For tropical storm or hurricane s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6:33:07Z</dcterms:created>
  <dc:creator>Robert.Rogers</dc:creator>
  <dc:description/>
  <dc:language>en-US</dc:language>
  <cp:lastModifiedBy>Shirley Murillo</cp:lastModifiedBy>
  <dcterms:modified xsi:type="dcterms:W3CDTF">2012-07-19T13:23:13Z</dcterms:modified>
  <cp:revision>145</cp:revision>
  <dc:subject/>
  <dc:title>Slide 1</dc:title>
</cp:coreProperties>
</file>