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E86D-FE92-41E7-BE9D-BBEC7CEBA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95AE-E680-4749-AF0F-62C03F93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C310-3B4B-48B7-B55C-0AD5244D3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11A4-8662-4023-8163-CE4DF32F0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02D2-6A73-48FE-AD3B-12D627E9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28A4-CD56-4690-8410-322BA407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2E02-5867-4D46-8EF0-D87939E2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1767-6AAA-488A-B94A-31DD6A0A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540A-FC57-4745-9E22-A228E4F8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639F-94FC-40D2-8C12-338CCD5A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1089-090D-4A29-BE16-14742486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403B-E7E0-4782-AD3C-08FC9ACF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656E-F733-43BB-8411-6121F06708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72216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lights flown on Sept. 7 and 8, 08 UTC takeof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ry long ferry, single figure-4 flown on both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arly stationary storm; hurricane that was downgraded to TS after first f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erate SW shear, dry air apparent on W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nd of precipitation mostly on N and E 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oad circulation, RMW ~ 75 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ol SST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, especially at center and south of center due to upw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rface winds ~50-55 kt, but stronger winds just above surface (e.g., 83 kt at 935 hPa from dropsonde) – very stable boundary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light 120907H1 flown just as Global Hawk mission was 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light summ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20907H1: 2 radar analyses, 12 dropsondes transmitted, 12 AXBT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 drop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20908H1: 2 radar analyses, 11 dropsondes transmitted, 12 AXBT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 drop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321640" y="58680"/>
            <a:ext cx="39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Summary of two Leslie f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7399440" y="63244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. Ro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4"/>
          <p:cNvSpPr/>
          <p:nvPr/>
        </p:nvSpPr>
        <p:spPr>
          <a:xfrm>
            <a:off x="2663280" y="152280"/>
            <a:ext cx="350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nvironmental conditions of Lesl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20120907.0600.goes-13.shear.wind.cimss.x.jpg"/>
          <p:cNvPicPr/>
          <p:nvPr/>
        </p:nvPicPr>
        <p:blipFill>
          <a:blip r:embed="rId1"/>
          <a:stretch/>
        </p:blipFill>
        <p:spPr>
          <a:xfrm>
            <a:off x="2057400" y="609480"/>
            <a:ext cx="4648320" cy="3513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20120907.0600.12.dmsp_tpw.tropics_ATL.jpg"/>
          <p:cNvPicPr/>
          <p:nvPr/>
        </p:nvPicPr>
        <p:blipFill>
          <a:blip r:embed="rId2"/>
          <a:stretch/>
        </p:blipFill>
        <p:spPr>
          <a:xfrm>
            <a:off x="1295280" y="4267080"/>
            <a:ext cx="6248520" cy="249876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5492160" y="609480"/>
            <a:ext cx="1215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6 UTC 9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20120908.0756.f15.x.pct.12LLESLIE.55kts-983mb-278N-623W.72pc.jpg"/>
          <p:cNvPicPr/>
          <p:nvPr/>
        </p:nvPicPr>
        <p:blipFill>
          <a:blip r:embed="rId1"/>
          <a:stretch/>
        </p:blipFill>
        <p:spPr>
          <a:xfrm>
            <a:off x="4267080" y="3681360"/>
            <a:ext cx="3100680" cy="3100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20120907.1219.f18.x.pct.12LLESLIE.65kts-981mb-267N-622W.82pc.jpg"/>
          <p:cNvPicPr/>
          <p:nvPr/>
        </p:nvPicPr>
        <p:blipFill>
          <a:blip r:embed="rId2"/>
          <a:stretch/>
        </p:blipFill>
        <p:spPr>
          <a:xfrm>
            <a:off x="830160" y="3657600"/>
            <a:ext cx="3121200" cy="3121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20120907.1115.goes13.x.ir1km.12LLESLIE.65kts-985mb-266N-622W.100pc.jpg"/>
          <p:cNvPicPr/>
          <p:nvPr/>
        </p:nvPicPr>
        <p:blipFill>
          <a:blip r:embed="rId3"/>
          <a:stretch/>
        </p:blipFill>
        <p:spPr>
          <a:xfrm>
            <a:off x="838080" y="465120"/>
            <a:ext cx="3098880" cy="3098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20120908.1115.goes13.x.ir1km.12LLESLIE.55kts-983mb-278N-623W.100pc.jpg"/>
          <p:cNvPicPr/>
          <p:nvPr/>
        </p:nvPicPr>
        <p:blipFill>
          <a:blip r:embed="rId4"/>
          <a:stretch/>
        </p:blipFill>
        <p:spPr>
          <a:xfrm>
            <a:off x="4267080" y="487440"/>
            <a:ext cx="3103560" cy="310176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2764440" y="468360"/>
            <a:ext cx="116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115 UTC 9/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2777040" y="3668760"/>
            <a:ext cx="116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219 UTC 9/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6202800" y="457200"/>
            <a:ext cx="116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115 UTC 9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6196680" y="3657600"/>
            <a:ext cx="116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756 UTC 9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2527920" y="1116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Infrared and 85/91 GHz during 2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20120907H1ftk.tif"/>
          <p:cNvPicPr/>
          <p:nvPr/>
        </p:nvPicPr>
        <p:blipFill>
          <a:blip r:embed="rId1"/>
          <a:srcRect l="3764" t="0" r="2661" b="0"/>
          <a:stretch/>
        </p:blipFill>
        <p:spPr>
          <a:xfrm>
            <a:off x="115920" y="1401840"/>
            <a:ext cx="4468680" cy="4089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20120908H1ftk.tif"/>
          <p:cNvPicPr/>
          <p:nvPr/>
        </p:nvPicPr>
        <p:blipFill>
          <a:blip r:embed="rId2"/>
          <a:srcRect l="10433" t="0" r="7602" b="0"/>
          <a:stretch/>
        </p:blipFill>
        <p:spPr>
          <a:xfrm>
            <a:off x="4724280" y="1523880"/>
            <a:ext cx="4246560" cy="3886200"/>
          </a:xfrm>
          <a:prstGeom prst="rect">
            <a:avLst/>
          </a:prstGeom>
          <a:ln w="0">
            <a:noFill/>
          </a:ln>
        </p:spPr>
      </p:pic>
      <p:sp>
        <p:nvSpPr>
          <p:cNvPr id="59" name="TextBox 7"/>
          <p:cNvSpPr/>
          <p:nvPr/>
        </p:nvSpPr>
        <p:spPr>
          <a:xfrm>
            <a:off x="1759680" y="10666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907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6255720" y="10666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908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2754000" y="609480"/>
            <a:ext cx="38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Flight patterns for two 08 UTC 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2012-09-06_ferry_9_lrl_map_dropsondes.png"/>
          <p:cNvPicPr/>
          <p:nvPr/>
        </p:nvPicPr>
        <p:blipFill>
          <a:blip r:embed="rId1"/>
          <a:stretch/>
        </p:blipFill>
        <p:spPr>
          <a:xfrm>
            <a:off x="1447920" y="12952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9"/>
          <p:cNvSpPr/>
          <p:nvPr/>
        </p:nvSpPr>
        <p:spPr>
          <a:xfrm>
            <a:off x="1002600" y="609480"/>
            <a:ext cx="703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Global Hawk proposed flight pattern ending prior to first 08 UTC 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20120907H1wind50.gif"/>
          <p:cNvPicPr/>
          <p:nvPr/>
        </p:nvPicPr>
        <p:blipFill>
          <a:blip r:embed="rId1"/>
          <a:srcRect l="15033" t="0" r="7134" b="0"/>
          <a:stretch/>
        </p:blipFill>
        <p:spPr>
          <a:xfrm>
            <a:off x="1079640" y="779400"/>
            <a:ext cx="3035160" cy="2925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20120907H1wind10.gif"/>
          <p:cNvPicPr/>
          <p:nvPr/>
        </p:nvPicPr>
        <p:blipFill>
          <a:blip r:embed="rId2"/>
          <a:srcRect l="13710" t="0" r="5367" b="0"/>
          <a:stretch/>
        </p:blipFill>
        <p:spPr>
          <a:xfrm>
            <a:off x="1033560" y="3855960"/>
            <a:ext cx="3157560" cy="2925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20120908H1wind50.gif"/>
          <p:cNvPicPr/>
          <p:nvPr/>
        </p:nvPicPr>
        <p:blipFill>
          <a:blip r:embed="rId3"/>
          <a:srcRect l="15553" t="0" r="5735" b="0"/>
          <a:stretch/>
        </p:blipFill>
        <p:spPr>
          <a:xfrm>
            <a:off x="4876920" y="808200"/>
            <a:ext cx="3070080" cy="2925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20120908H1wind10.gif"/>
          <p:cNvPicPr/>
          <p:nvPr/>
        </p:nvPicPr>
        <p:blipFill>
          <a:blip r:embed="rId4"/>
          <a:srcRect l="17489" t="0" r="7332" b="0"/>
          <a:stretch/>
        </p:blipFill>
        <p:spPr>
          <a:xfrm>
            <a:off x="4952880" y="3886200"/>
            <a:ext cx="2934000" cy="2925720"/>
          </a:xfrm>
          <a:prstGeom prst="rect">
            <a:avLst/>
          </a:prstGeom>
          <a:ln w="0">
            <a:noFill/>
          </a:ln>
        </p:spPr>
      </p:pic>
      <p:sp>
        <p:nvSpPr>
          <p:cNvPr id="68" name="TextBox 7"/>
          <p:cNvSpPr/>
          <p:nvPr/>
        </p:nvSpPr>
        <p:spPr>
          <a:xfrm>
            <a:off x="1812240" y="38880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907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5590440" y="41436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908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1656720" y="-57240"/>
            <a:ext cx="579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Operational Doppler/dropsonde compo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SSTAnom.jpg"/>
          <p:cNvPicPr/>
          <p:nvPr/>
        </p:nvPicPr>
        <p:blipFill>
          <a:blip r:embed="rId1"/>
          <a:stretch/>
        </p:blipFill>
        <p:spPr>
          <a:xfrm>
            <a:off x="1219320" y="1295280"/>
            <a:ext cx="6476760" cy="3983040"/>
          </a:xfrm>
          <a:prstGeom prst="rect">
            <a:avLst/>
          </a:prstGeom>
          <a:ln w="0">
            <a:noFill/>
          </a:ln>
        </p:spPr>
      </p:pic>
      <p:sp>
        <p:nvSpPr>
          <p:cNvPr id="72" name="TextBox 9"/>
          <p:cNvSpPr/>
          <p:nvPr/>
        </p:nvSpPr>
        <p:spPr>
          <a:xfrm>
            <a:off x="3028320" y="55080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SST anomaly post-f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radwind_flight1.png"/>
          <p:cNvPicPr/>
          <p:nvPr/>
        </p:nvPicPr>
        <p:blipFill>
          <a:blip r:embed="rId1"/>
          <a:srcRect l="1073" t="31722" r="34490" b="3048"/>
          <a:stretch/>
        </p:blipFill>
        <p:spPr>
          <a:xfrm>
            <a:off x="0" y="1905120"/>
            <a:ext cx="3944880" cy="3817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radwind_flight2.png"/>
          <p:cNvPicPr/>
          <p:nvPr/>
        </p:nvPicPr>
        <p:blipFill>
          <a:blip r:embed="rId2"/>
          <a:srcRect l="2605" t="31811" r="14248" b="3311"/>
          <a:stretch/>
        </p:blipFill>
        <p:spPr>
          <a:xfrm>
            <a:off x="4013280" y="1886040"/>
            <a:ext cx="5130720" cy="3828960"/>
          </a:xfrm>
          <a:prstGeom prst="rect">
            <a:avLst/>
          </a:prstGeom>
          <a:ln w="0">
            <a:noFill/>
          </a:ln>
        </p:spPr>
      </p:pic>
      <p:sp>
        <p:nvSpPr>
          <p:cNvPr id="75" name="TextBox 9"/>
          <p:cNvSpPr/>
          <p:nvPr/>
        </p:nvSpPr>
        <p:spPr>
          <a:xfrm>
            <a:off x="680040" y="985680"/>
            <a:ext cx="782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Radial wind evolution in NE quadrant from flight 1 to fligh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4T15:36:19Z</dcterms:created>
  <dc:creator>Robert.Rogers</dc:creator>
  <dc:description/>
  <dc:language>en-US</dc:language>
  <cp:lastModifiedBy>Shirley Murillo</cp:lastModifiedBy>
  <dcterms:modified xsi:type="dcterms:W3CDTF">2012-09-19T13:39:24Z</dcterms:modified>
  <cp:revision>27</cp:revision>
  <dc:subject/>
  <dc:title>Slide 1</dc:title>
</cp:coreProperties>
</file>