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975-73DA-4BCA-82AF-CC33ECD6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F94-BB0F-425C-B6AA-B5239C4A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05E-45F1-406A-B640-2D213FD7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591-2864-46E7-8572-9A1889D3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9E6-4DE5-4E66-8C10-91473CAF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280-9535-473C-B61A-E6B75AD0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FF3-C40C-4246-A02A-BC5FF8A3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8F7-3769-4004-8869-7508E99D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C7A-6269-4A07-959F-F27D5ADA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50E-484A-45C8-AF6A-B610B1AB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8CB-4E8A-44D7-BEB2-3BA6A788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DAC-710A-4501-892D-04209E1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EDAD6-4897-4089-8DE1-F4CC00FC8C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D4079-09FC-43EF-9905-BB07D3F0B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cean Survey Experi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07760" y="5352840"/>
            <a:ext cx="7591320" cy="13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-Isaac, 16 Au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aac, 28 Aug (Hurricane statu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t-Isaac, 30 Au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ontent Placeholder 2"/>
          <p:cNvSpPr/>
          <p:nvPr/>
        </p:nvSpPr>
        <p:spPr>
          <a:xfrm>
            <a:off x="682560" y="4902120"/>
            <a:ext cx="7832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cean-oriented flights (temperature, salinity, curr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ontent Placeholder 2"/>
          <p:cNvSpPr/>
          <p:nvPr/>
        </p:nvSpPr>
        <p:spPr>
          <a:xfrm>
            <a:off x="728640" y="2386080"/>
            <a:ext cx="5083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ientific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tent Placeholder 2"/>
          <p:cNvSpPr/>
          <p:nvPr/>
        </p:nvSpPr>
        <p:spPr>
          <a:xfrm>
            <a:off x="682560" y="2935440"/>
            <a:ext cx="75106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valuate the oceanic mixed layer temperature response to Hurricane Isaac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assess the three-dimensional oceanic velocity and salinity response to Hurricane Isaac (forced and relaxation stag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7"/>
          <p:cNvSpPr/>
          <p:nvPr/>
        </p:nvSpPr>
        <p:spPr>
          <a:xfrm>
            <a:off x="525600" y="2400480"/>
            <a:ext cx="7800840" cy="2127240"/>
          </a:xfrm>
          <a:prstGeom prst="roundRect">
            <a:avLst>
              <a:gd name="adj" fmla="val 544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714240" y="1406520"/>
            <a:ext cx="78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enjamin Jaimes, Nick Shay, Jodi Brewster, Ryan Schuster, HRD, A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0" descr="NOAAcolor.jpg"/>
          <p:cNvPicPr/>
          <p:nvPr/>
        </p:nvPicPr>
        <p:blipFill>
          <a:blip r:embed="rId1"/>
          <a:stretch/>
        </p:blipFill>
        <p:spPr>
          <a:xfrm>
            <a:off x="7846920" y="554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RSMAS-Logo.png"/>
          <p:cNvPicPr/>
          <p:nvPr/>
        </p:nvPicPr>
        <p:blipFill>
          <a:blip r:embed="rId2"/>
          <a:stretch/>
        </p:blipFill>
        <p:spPr>
          <a:xfrm>
            <a:off x="65160" y="55440"/>
            <a:ext cx="12301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flightplanA.20120816H1.png"/>
          <p:cNvPicPr/>
          <p:nvPr/>
        </p:nvPicPr>
        <p:blipFill>
          <a:blip r:embed="rId1"/>
          <a:stretch/>
        </p:blipFill>
        <p:spPr>
          <a:xfrm>
            <a:off x="2448000" y="3021120"/>
            <a:ext cx="4541760" cy="376848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2"/>
          <p:cNvSpPr/>
          <p:nvPr/>
        </p:nvSpPr>
        <p:spPr>
          <a:xfrm>
            <a:off x="1879560" y="324000"/>
            <a:ext cx="50832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-Isaac flight (16 A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01880" y="1185840"/>
          <a:ext cx="5665680" cy="1523880"/>
        </p:xfrm>
        <a:graphic>
          <a:graphicData uri="http://schemas.openxmlformats.org/drawingml/2006/table">
            <a:tbl>
              <a:tblPr/>
              <a:tblGrid>
                <a:gridCol w="1133280"/>
                <a:gridCol w="1132200"/>
                <a:gridCol w="1133280"/>
                <a:gridCol w="1133640"/>
                <a:gridCol w="1133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B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T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3" name="Donut 6"/>
          <p:cNvSpPr/>
          <p:nvPr/>
        </p:nvSpPr>
        <p:spPr>
          <a:xfrm>
            <a:off x="6594480" y="2390760"/>
            <a:ext cx="746280" cy="358920"/>
          </a:xfrm>
          <a:custGeom>
            <a:avLst/>
            <a:gdLst/>
            <a:ahLst/>
            <a:rect l="l" t="t" r="r" b="b"/>
            <a:pathLst>
              <a:path w="746125" h="358775">
                <a:moveTo>
                  <a:pt x="0" y="179388"/>
                </a:moveTo>
                <a:cubicBezTo>
                  <a:pt x="0" y="80315"/>
                  <a:pt x="167026" y="0"/>
                  <a:pt x="373063" y="0"/>
                </a:cubicBezTo>
                <a:cubicBezTo>
                  <a:pt x="579100" y="0"/>
                  <a:pt x="746126" y="80315"/>
                  <a:pt x="746126" y="179388"/>
                </a:cubicBezTo>
                <a:cubicBezTo>
                  <a:pt x="746126" y="278461"/>
                  <a:pt x="579100" y="358776"/>
                  <a:pt x="373063" y="358776"/>
                </a:cubicBezTo>
                <a:cubicBezTo>
                  <a:pt x="167026" y="358776"/>
                  <a:pt x="0" y="278461"/>
                  <a:pt x="0" y="179388"/>
                </a:cubicBezTo>
                <a:close/>
                <a:moveTo>
                  <a:pt x="12751" y="179388"/>
                </a:moveTo>
                <a:cubicBezTo>
                  <a:pt x="12751" y="271419"/>
                  <a:pt x="174068" y="346025"/>
                  <a:pt x="373063" y="346025"/>
                </a:cubicBezTo>
                <a:cubicBezTo>
                  <a:pt x="572058" y="346025"/>
                  <a:pt x="733375" y="271419"/>
                  <a:pt x="733375" y="179388"/>
                </a:cubicBezTo>
                <a:cubicBezTo>
                  <a:pt x="733375" y="87357"/>
                  <a:pt x="572058" y="12751"/>
                  <a:pt x="373063" y="12751"/>
                </a:cubicBezTo>
                <a:cubicBezTo>
                  <a:pt x="174068" y="12751"/>
                  <a:pt x="12751" y="87357"/>
                  <a:pt x="12751" y="179388"/>
                </a:cubicBez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ontent Placeholder 2"/>
          <p:cNvSpPr/>
          <p:nvPr/>
        </p:nvSpPr>
        <p:spPr>
          <a:xfrm>
            <a:off x="393840" y="216000"/>
            <a:ext cx="50832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-storm flight (28 Aug, 4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ohc_aQG3_latest_atl.zoom.gif"/>
          <p:cNvPicPr/>
          <p:nvPr/>
        </p:nvPicPr>
        <p:blipFill>
          <a:blip r:embed="rId1"/>
          <a:stretch/>
        </p:blipFill>
        <p:spPr>
          <a:xfrm>
            <a:off x="284040" y="3597120"/>
            <a:ext cx="2914920" cy="320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ftk_120828H1.gif"/>
          <p:cNvPicPr/>
          <p:nvPr/>
        </p:nvPicPr>
        <p:blipFill>
          <a:blip r:embed="rId2"/>
          <a:stretch/>
        </p:blipFill>
        <p:spPr>
          <a:xfrm>
            <a:off x="388800" y="925560"/>
            <a:ext cx="27496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photo03b.jpg"/>
          <p:cNvPicPr/>
          <p:nvPr/>
        </p:nvPicPr>
        <p:blipFill>
          <a:blip r:embed="rId3"/>
          <a:stretch/>
        </p:blipFill>
        <p:spPr>
          <a:xfrm>
            <a:off x="4538520" y="3127320"/>
            <a:ext cx="4146840" cy="347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359160" y="1044720"/>
          <a:ext cx="5665680" cy="1523880"/>
        </p:xfrm>
        <a:graphic>
          <a:graphicData uri="http://schemas.openxmlformats.org/drawingml/2006/table">
            <a:tbl>
              <a:tblPr/>
              <a:tblGrid>
                <a:gridCol w="1133640"/>
                <a:gridCol w="1133280"/>
                <a:gridCol w="1131840"/>
                <a:gridCol w="1133640"/>
                <a:gridCol w="1133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B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T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Donut 11"/>
          <p:cNvSpPr/>
          <p:nvPr/>
        </p:nvSpPr>
        <p:spPr>
          <a:xfrm>
            <a:off x="8047080" y="2252520"/>
            <a:ext cx="745920" cy="358920"/>
          </a:xfrm>
          <a:custGeom>
            <a:avLst/>
            <a:gdLst/>
            <a:ahLst/>
            <a:rect l="l" t="t" r="r" b="b"/>
            <a:pathLst>
              <a:path w="746125" h="358775">
                <a:moveTo>
                  <a:pt x="0" y="179388"/>
                </a:moveTo>
                <a:cubicBezTo>
                  <a:pt x="0" y="80315"/>
                  <a:pt x="167026" y="0"/>
                  <a:pt x="373063" y="0"/>
                </a:cubicBezTo>
                <a:cubicBezTo>
                  <a:pt x="579100" y="0"/>
                  <a:pt x="746126" y="80315"/>
                  <a:pt x="746126" y="179388"/>
                </a:cubicBezTo>
                <a:cubicBezTo>
                  <a:pt x="746126" y="278461"/>
                  <a:pt x="579100" y="358776"/>
                  <a:pt x="373063" y="358776"/>
                </a:cubicBezTo>
                <a:cubicBezTo>
                  <a:pt x="167026" y="358776"/>
                  <a:pt x="0" y="278461"/>
                  <a:pt x="0" y="179388"/>
                </a:cubicBezTo>
                <a:close/>
                <a:moveTo>
                  <a:pt x="12751" y="179388"/>
                </a:moveTo>
                <a:cubicBezTo>
                  <a:pt x="12751" y="271419"/>
                  <a:pt x="174068" y="346025"/>
                  <a:pt x="373063" y="346025"/>
                </a:cubicBezTo>
                <a:cubicBezTo>
                  <a:pt x="572058" y="346025"/>
                  <a:pt x="733375" y="271419"/>
                  <a:pt x="733375" y="179388"/>
                </a:cubicBezTo>
                <a:cubicBezTo>
                  <a:pt x="733375" y="87357"/>
                  <a:pt x="572058" y="12751"/>
                  <a:pt x="373063" y="12751"/>
                </a:cubicBezTo>
                <a:cubicBezTo>
                  <a:pt x="174068" y="12751"/>
                  <a:pt x="12751" y="87357"/>
                  <a:pt x="12751" y="179388"/>
                </a:cubicBez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ontent Placeholder 2"/>
          <p:cNvSpPr/>
          <p:nvPr/>
        </p:nvSpPr>
        <p:spPr>
          <a:xfrm>
            <a:off x="393840" y="338040"/>
            <a:ext cx="50832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t-Isaac flight (30 A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droppoints-20120830H1.tif"/>
          <p:cNvPicPr/>
          <p:nvPr/>
        </p:nvPicPr>
        <p:blipFill>
          <a:blip r:embed="rId1"/>
          <a:stretch/>
        </p:blipFill>
        <p:spPr>
          <a:xfrm>
            <a:off x="476280" y="2809800"/>
            <a:ext cx="4630680" cy="370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85840" y="1069920"/>
          <a:ext cx="5100480" cy="1478160"/>
        </p:xfrm>
        <a:graphic>
          <a:graphicData uri="http://schemas.openxmlformats.org/drawingml/2006/table">
            <a:tbl>
              <a:tblPr/>
              <a:tblGrid>
                <a:gridCol w="1020600"/>
                <a:gridCol w="1019160"/>
                <a:gridCol w="1020960"/>
                <a:gridCol w="1020600"/>
                <a:gridCol w="1019160"/>
              </a:tblGrid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592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B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T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XC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5560">
                <a:tc>
                  <a:txBody>
                    <a:bodyPr lIns="82440" rIns="8244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3" name="Content Placeholder 2"/>
          <p:cNvSpPr/>
          <p:nvPr/>
        </p:nvSpPr>
        <p:spPr>
          <a:xfrm>
            <a:off x="5904000" y="1069920"/>
            <a:ext cx="301284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8 ABXTs deployed in other 3 in-storm flights (97% succ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18 Ocean pro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overall success: 8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8"/>
          <p:cNvSpPr/>
          <p:nvPr/>
        </p:nvSpPr>
        <p:spPr>
          <a:xfrm>
            <a:off x="150840" y="297000"/>
            <a:ext cx="5326200" cy="6391080"/>
          </a:xfrm>
          <a:custGeom>
            <a:avLst/>
            <a:gdLst>
              <a:gd name="textAreaLeft" fmla="*/ 84960 w 5326200"/>
              <a:gd name="textAreaRight" fmla="*/ 5241240 w 5326200"/>
              <a:gd name="textAreaTop" fmla="*/ 84960 h 6391080"/>
              <a:gd name="textAreaBottom" fmla="*/ 6306120 h 6391080"/>
            </a:gdLst>
            <a:ahLst/>
            <a:rect l="textAreaLeft" t="textAreaTop" r="textAreaRight" b="textAreaBottom"/>
            <a:pathLst>
              <a:path w="21600" h="25918">
                <a:moveTo>
                  <a:pt x="1177" y="0"/>
                </a:moveTo>
                <a:arcTo wR="1177" hR="1177" stAng="16200000" swAng="-5400000"/>
                <a:lnTo>
                  <a:pt x="0" y="24741"/>
                </a:lnTo>
                <a:arcTo wR="1177" hR="1177" stAng="10800000" swAng="-5400000"/>
                <a:lnTo>
                  <a:pt x="20423" y="25918"/>
                </a:lnTo>
                <a:arcTo wR="1177" hR="1177" stAng="5400000" swAng="-5400000"/>
                <a:lnTo>
                  <a:pt x="21600" y="1177"/>
                </a:lnTo>
                <a:arcTo wR="1177" hR="1177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9"/>
          <p:cNvSpPr/>
          <p:nvPr/>
        </p:nvSpPr>
        <p:spPr>
          <a:xfrm>
            <a:off x="5796000" y="297000"/>
            <a:ext cx="3217680" cy="3552840"/>
          </a:xfrm>
          <a:custGeom>
            <a:avLst/>
            <a:gdLst>
              <a:gd name="textAreaLeft" fmla="*/ 51120 w 3217680"/>
              <a:gd name="textAreaRight" fmla="*/ 3166560 w 3217680"/>
              <a:gd name="textAreaTop" fmla="*/ 51120 h 3552840"/>
              <a:gd name="textAreaBottom" fmla="*/ 3501720 h 3552840"/>
            </a:gdLst>
            <a:ahLst/>
            <a:rect l="textAreaLeft" t="textAreaTop" r="textAreaRight" b="textAreaBottom"/>
            <a:pathLst>
              <a:path w="21600" h="23850">
                <a:moveTo>
                  <a:pt x="1177" y="0"/>
                </a:moveTo>
                <a:arcTo wR="1177" hR="1177" stAng="16200000" swAng="-5400000"/>
                <a:lnTo>
                  <a:pt x="0" y="22673"/>
                </a:lnTo>
                <a:arcTo wR="1177" hR="1177" stAng="10800000" swAng="-5400000"/>
                <a:lnTo>
                  <a:pt x="20423" y="23850"/>
                </a:lnTo>
                <a:arcTo wR="1177" hR="1177" stAng="5400000" swAng="-5400000"/>
                <a:lnTo>
                  <a:pt x="21600" y="1177"/>
                </a:lnTo>
                <a:arcTo wR="1177" hR="1177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5904000" y="392040"/>
            <a:ext cx="301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nut 12"/>
          <p:cNvSpPr/>
          <p:nvPr/>
        </p:nvSpPr>
        <p:spPr>
          <a:xfrm>
            <a:off x="4478400" y="2238480"/>
            <a:ext cx="745920" cy="358560"/>
          </a:xfrm>
          <a:custGeom>
            <a:avLst/>
            <a:gdLst/>
            <a:ahLst/>
            <a:rect l="l" t="t" r="r" b="b"/>
            <a:pathLst>
              <a:path w="746125" h="358775">
                <a:moveTo>
                  <a:pt x="0" y="179388"/>
                </a:moveTo>
                <a:cubicBezTo>
                  <a:pt x="0" y="80315"/>
                  <a:pt x="167026" y="0"/>
                  <a:pt x="373063" y="0"/>
                </a:cubicBezTo>
                <a:cubicBezTo>
                  <a:pt x="579100" y="0"/>
                  <a:pt x="746126" y="80315"/>
                  <a:pt x="746126" y="179388"/>
                </a:cubicBezTo>
                <a:cubicBezTo>
                  <a:pt x="746126" y="278461"/>
                  <a:pt x="579100" y="358776"/>
                  <a:pt x="373063" y="358776"/>
                </a:cubicBezTo>
                <a:cubicBezTo>
                  <a:pt x="167026" y="358776"/>
                  <a:pt x="0" y="278461"/>
                  <a:pt x="0" y="179388"/>
                </a:cubicBezTo>
                <a:close/>
                <a:moveTo>
                  <a:pt x="12751" y="179388"/>
                </a:moveTo>
                <a:cubicBezTo>
                  <a:pt x="12751" y="271419"/>
                  <a:pt x="174068" y="346025"/>
                  <a:pt x="373063" y="346025"/>
                </a:cubicBezTo>
                <a:cubicBezTo>
                  <a:pt x="572058" y="346025"/>
                  <a:pt x="733375" y="271419"/>
                  <a:pt x="733375" y="179388"/>
                </a:cubicBezTo>
                <a:cubicBezTo>
                  <a:pt x="733375" y="87357"/>
                  <a:pt x="572058" y="12751"/>
                  <a:pt x="373063" y="12751"/>
                </a:cubicBezTo>
                <a:cubicBezTo>
                  <a:pt x="174068" y="12751"/>
                  <a:pt x="12751" y="87357"/>
                  <a:pt x="12751" y="179388"/>
                </a:cubicBez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3:08:06Z</dcterms:created>
  <dc:creator>Benjamin Jaimes</dc:creator>
  <dc:description/>
  <dc:language>en-US</dc:language>
  <cp:lastModifiedBy>Shirley Murillo</cp:lastModifiedBy>
  <dcterms:modified xsi:type="dcterms:W3CDTF">2012-09-05T13:27:41Z</dcterms:modified>
  <cp:revision>20</cp:revision>
  <dc:subject/>
  <dc:title>Ocean Survey Experiments</dc:title>
</cp:coreProperties>
</file>