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9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6CAB-8986-4147-B3D7-EB1AA8202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8225-C9A3-4E9D-8E9B-3562CC37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226E-1AD9-48E9-A08A-1CCFDA75C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FADE-0AFD-4770-A487-67FC9BBF9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D2D2-7D81-40BA-8285-8E2008E6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E832-2438-4E3D-8A6C-B4F161BA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89AF-5F78-407A-AB87-5B6DD768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A6C0-0455-4CFC-8DA8-6219ED64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D2BE-ECE4-4018-9020-940FCC3C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B24C-CC31-48A6-A0FE-31689784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B4F8-A17C-4477-B0DF-B85C515A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93D3-CDDC-43EC-B6D7-0C4EF384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16CA-A46E-45BA-8ABD-5EAF860D7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228960" y="-360"/>
            <a:ext cx="9372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MPS-TC Idealized TC tests (6-km 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765680" y="685800"/>
          <a:ext cx="4351320" cy="240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5680" y="685800"/>
                    <a:ext cx="4351320" cy="24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4765680" y="3733920"/>
          <a:ext cx="4378320" cy="2401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65680" y="3733920"/>
                    <a:ext cx="437832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Text Box 6"/>
          <p:cNvSpPr/>
          <p:nvPr/>
        </p:nvSpPr>
        <p:spPr>
          <a:xfrm>
            <a:off x="0" y="914400"/>
            <a:ext cx="4511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 boundary structure (&lt; 3 km) Comparisons between PBL2 and PB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BL2: 1.5-order turbul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ure scheme (Mellor and Yamada 198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BL3: Similar to PBL2, except using different mixing length calc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RL, in collaboration with HRD, evaluating PBL parameterizations on TC intensity and structure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mposite data from the dropsonde observations provided by Jun Zhang at H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6471720" y="6324480"/>
            <a:ext cx="23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. Jin, NRL Monter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8" descr="utang3km_pbl3"/>
          <p:cNvPicPr/>
          <p:nvPr/>
        </p:nvPicPr>
        <p:blipFill>
          <a:blip r:embed="rId1"/>
          <a:stretch/>
        </p:blipFill>
        <p:spPr>
          <a:xfrm>
            <a:off x="152280" y="533520"/>
            <a:ext cx="3886200" cy="3303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7" descr="utang3km_pbl2"/>
          <p:cNvPicPr/>
          <p:nvPr/>
        </p:nvPicPr>
        <p:blipFill>
          <a:blip r:embed="rId2"/>
          <a:stretch/>
        </p:blipFill>
        <p:spPr>
          <a:xfrm>
            <a:off x="4343400" y="609480"/>
            <a:ext cx="3886200" cy="3303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ngential Winds (normaliz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33"/>
          <p:cNvSpPr/>
          <p:nvPr/>
        </p:nvSpPr>
        <p:spPr>
          <a:xfrm>
            <a:off x="1476360" y="4711680"/>
            <a:ext cx="130320" cy="133344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2135880" y="4267080"/>
            <a:ext cx="65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opp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1545120" y="3733920"/>
            <a:ext cx="65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opp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33"/>
          <p:cNvSpPr/>
          <p:nvPr/>
        </p:nvSpPr>
        <p:spPr>
          <a:xfrm>
            <a:off x="1285920" y="4454640"/>
            <a:ext cx="103320" cy="98244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2362320" y="9144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BL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ax 69 m/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6248520" y="91440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BL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ax 70 m/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5" descr="vt_dropsond"/>
          <p:cNvPicPr/>
          <p:nvPr/>
        </p:nvPicPr>
        <p:blipFill>
          <a:blip r:embed="rId3"/>
          <a:stretch/>
        </p:blipFill>
        <p:spPr>
          <a:xfrm>
            <a:off x="0" y="3554280"/>
            <a:ext cx="3886200" cy="33037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9"/>
          <p:cNvSpPr/>
          <p:nvPr/>
        </p:nvSpPr>
        <p:spPr>
          <a:xfrm>
            <a:off x="2973240" y="3886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1" descr="vr_dropsond"/>
          <p:cNvPicPr/>
          <p:nvPr/>
        </p:nvPicPr>
        <p:blipFill>
          <a:blip r:embed="rId1"/>
          <a:stretch/>
        </p:blipFill>
        <p:spPr>
          <a:xfrm>
            <a:off x="457200" y="3747960"/>
            <a:ext cx="3657600" cy="3110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urad3km_pbl3"/>
          <p:cNvPicPr/>
          <p:nvPr/>
        </p:nvPicPr>
        <p:blipFill>
          <a:blip r:embed="rId2"/>
          <a:stretch/>
        </p:blipFill>
        <p:spPr>
          <a:xfrm>
            <a:off x="533520" y="609480"/>
            <a:ext cx="3657600" cy="3110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urad3km_pbl2"/>
          <p:cNvPicPr/>
          <p:nvPr/>
        </p:nvPicPr>
        <p:blipFill>
          <a:blip r:embed="rId3"/>
          <a:stretch/>
        </p:blipFill>
        <p:spPr>
          <a:xfrm>
            <a:off x="5181480" y="609480"/>
            <a:ext cx="3657600" cy="31100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-76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dial Winds (normaliz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1982520" y="4038480"/>
            <a:ext cx="97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n -19.2 m/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1545120" y="3733920"/>
            <a:ext cx="65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opp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2133720" y="121932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BL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 -26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7467480" y="114300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B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 -30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3262320" y="392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3" descr="t3km_pbl3"/>
          <p:cNvPicPr/>
          <p:nvPr/>
        </p:nvPicPr>
        <p:blipFill>
          <a:blip r:embed="rId1"/>
          <a:stretch/>
        </p:blipFill>
        <p:spPr>
          <a:xfrm>
            <a:off x="457200" y="304920"/>
            <a:ext cx="3886200" cy="3303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t3km_pbl2"/>
          <p:cNvPicPr/>
          <p:nvPr/>
        </p:nvPicPr>
        <p:blipFill>
          <a:blip r:embed="rId2"/>
          <a:stretch/>
        </p:blipFill>
        <p:spPr>
          <a:xfrm>
            <a:off x="4876920" y="380880"/>
            <a:ext cx="3886200" cy="33037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3"/>
          <p:cNvSpPr/>
          <p:nvPr/>
        </p:nvSpPr>
        <p:spPr>
          <a:xfrm>
            <a:off x="1476360" y="4711680"/>
            <a:ext cx="130320" cy="133344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2135880" y="4267080"/>
            <a:ext cx="65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opp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1545120" y="3733920"/>
            <a:ext cx="65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opp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33"/>
          <p:cNvSpPr/>
          <p:nvPr/>
        </p:nvSpPr>
        <p:spPr>
          <a:xfrm>
            <a:off x="1285920" y="4454640"/>
            <a:ext cx="103320" cy="98244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3124080" y="53352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BL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7543800" y="6094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BL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4" descr="temp_dropsond"/>
          <p:cNvPicPr/>
          <p:nvPr/>
        </p:nvPicPr>
        <p:blipFill>
          <a:blip r:embed="rId3"/>
          <a:stretch/>
        </p:blipFill>
        <p:spPr>
          <a:xfrm>
            <a:off x="380880" y="3554280"/>
            <a:ext cx="3886200" cy="33037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5"/>
          <p:cNvSpPr/>
          <p:nvPr/>
        </p:nvSpPr>
        <p:spPr>
          <a:xfrm>
            <a:off x="3354120" y="38098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5" descr="q3km_pbl3"/>
          <p:cNvPicPr/>
          <p:nvPr/>
        </p:nvPicPr>
        <p:blipFill>
          <a:blip r:embed="rId1"/>
          <a:stretch/>
        </p:blipFill>
        <p:spPr>
          <a:xfrm>
            <a:off x="457200" y="447840"/>
            <a:ext cx="3774960" cy="3209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q3km_pbl2"/>
          <p:cNvPicPr/>
          <p:nvPr/>
        </p:nvPicPr>
        <p:blipFill>
          <a:blip r:embed="rId2"/>
          <a:stretch/>
        </p:blipFill>
        <p:spPr>
          <a:xfrm>
            <a:off x="4876920" y="501480"/>
            <a:ext cx="3773520" cy="32101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Vap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33"/>
          <p:cNvSpPr/>
          <p:nvPr/>
        </p:nvSpPr>
        <p:spPr>
          <a:xfrm>
            <a:off x="1476360" y="4711680"/>
            <a:ext cx="130320" cy="133344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2135880" y="4267080"/>
            <a:ext cx="65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opp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1545120" y="3733920"/>
            <a:ext cx="65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opp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33"/>
          <p:cNvSpPr/>
          <p:nvPr/>
        </p:nvSpPr>
        <p:spPr>
          <a:xfrm>
            <a:off x="1285920" y="4454640"/>
            <a:ext cx="103320" cy="98244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895480" y="838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BL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7162920" y="83808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BL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3" descr="q_dropsond"/>
          <p:cNvPicPr/>
          <p:nvPr/>
        </p:nvPicPr>
        <p:blipFill>
          <a:blip r:embed="rId3"/>
          <a:stretch/>
        </p:blipFill>
        <p:spPr>
          <a:xfrm>
            <a:off x="304920" y="3648240"/>
            <a:ext cx="3773520" cy="32097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6"/>
          <p:cNvSpPr/>
          <p:nvPr/>
        </p:nvSpPr>
        <p:spPr>
          <a:xfrm>
            <a:off x="3125520" y="39625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228960" y="-360"/>
            <a:ext cx="9372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0" y="914400"/>
            <a:ext cx="8686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 with BL analysis in relation to TC intensity and structure changes from using different BL schem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site real TC cases from COAMPS forecas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stigate TC inner core structure from COAMPS-TC and compare them with the radar composite by Rogers (H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06:50:17Z</dcterms:created>
  <dc:creator>Dr. Yi Jin</dc:creator>
  <dc:description/>
  <dc:language>en-US</dc:language>
  <cp:lastModifiedBy>Frank Marks</cp:lastModifiedBy>
  <dcterms:modified xsi:type="dcterms:W3CDTF">2011-03-17T21:36:18Z</dcterms:modified>
  <cp:revision>35</cp:revision>
  <dc:subject/>
  <dc:title>Idealized TC tests</dc:title>
</cp:coreProperties>
</file>