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A51D-3F4E-4849-8F3C-B93A77CC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D53BE2-1D80-42EC-B372-DA47753AF36C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93AA2-1964-4E2F-97AF-17053EAE458E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1D35C9-26CE-4E88-91B4-191D609B7ADD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1E7-DDFF-456A-8D44-F0A44C20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B37-86CC-4BA1-A082-D52CA103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B10-F65C-40D7-B4CC-748420E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78F-6FF9-4667-AED0-5B146DC4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281-41E4-4DBF-B77A-A23F2CC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657-7E09-4C78-8318-4EAB73F5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0D2-718D-4A21-8E5A-0BE7C5D8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AFA6-5168-4E55-A1A2-2BBE81C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2C0-79C1-4766-B4B8-6F14A58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FEA-76A8-42CE-9282-E09E865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FB9-93E9-42DD-BA7B-50A6EF7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A9F-14A7-4218-8ECF-15889EB8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E96E-424A-410B-A54C-2504FB27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880" y="380880"/>
            <a:ext cx="79250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Step 1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reate HWRF 40°x40° 9km-resolution data (4X-9km domain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rom d01 (27-km res), d02 (9-km res), d03 (3-km res)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X. Zhang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lit HWRF 4X-9km fields into environment &amp; vortex components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mpute HWRF axisymmetric storm and define ROCI &amp; R34. 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d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reate HWRF 10°x10° 3km-resolution data (1X-3km domain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rom d01, d02, and d03 nests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X. Zhang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1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terpolate the HWRF 4X-9km environment data from (1b) onto the 1X-3km domain, then subtract this data from (1d) to obtain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HWRF 1X-3km vortex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fter Step 1, we have two HWRF vortex data: 1X-3km &amp; 4X-9km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9" name="Right Arrow 3"/>
          <p:cNvSpPr/>
          <p:nvPr/>
        </p:nvSpPr>
        <p:spPr>
          <a:xfrm>
            <a:off x="503280" y="5638680"/>
            <a:ext cx="304920" cy="1206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00b0f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251400" y="632448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K. Yeh, AOML/HRD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80880" y="228600"/>
            <a:ext cx="79250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Step 2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terpolate GFS analysis data onto the same 4X-9km domain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plit GFS 4X-9km fields into environment &amp; vortex components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no d03: Combine the GFS environment flow from (2b) with the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correc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HWRF vortex from (1b) on 4X-9km domain and go to GSI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d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d03 exists: Interpolate GFS 4X-9km environment data onto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1X-3km domain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new program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e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mbine HWRF vortex from (1e) with GFS environment from (2d) on the 1X-3km domain (plus the radius information from 1c) to perform storm size and intensity correction, and write out the correction parameters (a, b and beta).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(2 new programs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f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se the same correction parameters from (2e) to perform storm size and intensity correction for HWRF 4X-9km vortex from (1b), and combine it with GFS environment flow from (2b)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2 modified programs, Yeh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80880" y="380880"/>
            <a:ext cx="7925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HWRF 27/9/3-km Initialization – GSI &amp; Scripts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a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 GSI analyses for the ghost domain (2X-9km)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the outer domain (8X-27km), resp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b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rge the GSI analyses on both domains, interpolate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d write merged analyses to d01, d02 and d03 nests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modified program, Liu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c)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ink new programs to existing programs.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ambria"/>
              </a:rPr>
              <a:t>(2 modified scripts, Liu)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eed to add 5 new programs, modify 5 existing programs, and modify 2 existing scripts. Target date for delivery is 4/15, 2011, 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 order to meet the HFIP Stream 1.5 time line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  <a:p>
            <a:pPr marL="460440" indent="-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53" name="Right Arrow 2"/>
          <p:cNvSpPr/>
          <p:nvPr/>
        </p:nvSpPr>
        <p:spPr>
          <a:xfrm>
            <a:off x="503280" y="4357800"/>
            <a:ext cx="304920" cy="122040"/>
          </a:xfrm>
          <a:prstGeom prst="rightArrow">
            <a:avLst>
              <a:gd name="adj1" fmla="val 50000"/>
              <a:gd name="adj2" fmla="val 50098"/>
            </a:avLst>
          </a:prstGeom>
          <a:solidFill>
            <a:srgbClr val="00b0f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kevin.yeh\My Documents\HWRF-IC\Ike_d02_09km_wind.gif"/>
          <p:cNvPicPr/>
          <p:nvPr/>
        </p:nvPicPr>
        <p:blipFill>
          <a:blip r:embed="rId1"/>
          <a:srcRect l="0" t="0" r="0" b="4460"/>
          <a:stretch/>
        </p:blipFill>
        <p:spPr>
          <a:xfrm>
            <a:off x="9144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kevin.yeh\My Documents\HWRF-IC\Ike_d02_10km_wind.gif"/>
          <p:cNvPicPr/>
          <p:nvPr/>
        </p:nvPicPr>
        <p:blipFill>
          <a:blip r:embed="rId2"/>
          <a:srcRect l="0" t="0" r="0" b="4441"/>
          <a:stretch/>
        </p:blipFill>
        <p:spPr>
          <a:xfrm>
            <a:off x="914400" y="3505320"/>
            <a:ext cx="3657600" cy="32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kevin.yeh\My Documents\HWRF-IC\Ike_d03_03km_wind.gif"/>
          <p:cNvPicPr/>
          <p:nvPr/>
        </p:nvPicPr>
        <p:blipFill>
          <a:blip r:embed="rId3"/>
          <a:srcRect l="0" t="0" r="0" b="4428"/>
          <a:stretch/>
        </p:blipFill>
        <p:spPr>
          <a:xfrm>
            <a:off x="45720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Documents and Settings\kevin.yeh\My Documents\HWRF-IC\Ike_d03_10km_wind.gif"/>
          <p:cNvPicPr/>
          <p:nvPr/>
        </p:nvPicPr>
        <p:blipFill>
          <a:blip r:embed="rId4"/>
          <a:srcRect l="0" t="0" r="0" b="4441"/>
          <a:stretch/>
        </p:blipFill>
        <p:spPr>
          <a:xfrm>
            <a:off x="4572000" y="35053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kevin.yeh\My Documents\HWRF-IC\Ike_d02_09km_mslp.gif"/>
          <p:cNvPicPr/>
          <p:nvPr/>
        </p:nvPicPr>
        <p:blipFill>
          <a:blip r:embed="rId1"/>
          <a:srcRect l="0" t="0" r="0" b="4441"/>
          <a:stretch/>
        </p:blipFill>
        <p:spPr>
          <a:xfrm>
            <a:off x="9144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kevin.yeh\My Documents\HWRF-IC\Ike_d02_10km_mslp.gif"/>
          <p:cNvPicPr/>
          <p:nvPr/>
        </p:nvPicPr>
        <p:blipFill>
          <a:blip r:embed="rId2"/>
          <a:srcRect l="0" t="0" r="0" b="4441"/>
          <a:stretch/>
        </p:blipFill>
        <p:spPr>
          <a:xfrm>
            <a:off x="914400" y="3505320"/>
            <a:ext cx="3657600" cy="32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kevin.yeh\My Documents\HWRF-IC\Ike_d03_03km_mslp.gif"/>
          <p:cNvPicPr/>
          <p:nvPr/>
        </p:nvPicPr>
        <p:blipFill>
          <a:blip r:embed="rId3"/>
          <a:srcRect l="0" t="0" r="0" b="4441"/>
          <a:stretch/>
        </p:blipFill>
        <p:spPr>
          <a:xfrm>
            <a:off x="4572000" y="152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kevin.yeh\My Documents\HWRF-IC\Ike_d03_10km_mslp.gif"/>
          <p:cNvPicPr/>
          <p:nvPr/>
        </p:nvPicPr>
        <p:blipFill>
          <a:blip r:embed="rId4"/>
          <a:srcRect l="0" t="0" r="0" b="4441"/>
          <a:stretch/>
        </p:blipFill>
        <p:spPr>
          <a:xfrm>
            <a:off x="4572000" y="3505320"/>
            <a:ext cx="3657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Frank Marks</cp:lastModifiedBy>
  <cp:lastPrinted>2004-10-29T18:41:29Z</cp:lastPrinted>
  <dcterms:modified xsi:type="dcterms:W3CDTF">2011-03-17T21:35:28Z</dcterms:modified>
  <cp:revision>871</cp:revision>
  <dc:subject/>
  <dc:title>HIGH RESOLUTION fvGCM  RESULTS</dc:title>
</cp:coreProperties>
</file>