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F170-C886-4C61-B981-E26635A08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55552F-13AF-4E7F-A195-F24FD1A6E9B0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E19-1FC4-408E-B088-67128F64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50D-0EF4-4E37-AB05-5D9F2B6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36C-BDB9-472A-B1EA-B5460E04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BFD-B171-41C5-94A5-07A04896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C34-C450-4EA2-819E-D9FA535F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EAB-8026-475F-992F-939CE31C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9FC-EF50-4217-917D-F2249257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ECE-F7B9-4EDE-B4EC-333DC506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28E-21EC-4766-AD2E-9641D6CF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902-765D-4CEF-A180-A4DDA98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859-78B6-4272-A4BF-8F17DF44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C80-3292-4259-95AC-605578C6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5742-161A-4AD2-81C1-68B23C2CA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45720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tatus of HWRF Vortex Initialization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WRF 3.2 has been upgraded on Jet with several fixes, including vortex initialization and auto submission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ew GFS data are being copied to Jet for retrospective experiments with 2008, 2009, 2010 storms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Need more coding efforts for </a:t>
            </a:r>
            <a:r>
              <a:rPr b="0" lang="en-US" sz="2400" spc="-1" strike="noStrike">
                <a:solidFill>
                  <a:srgbClr val="3333cc"/>
                </a:solidFill>
                <a:latin typeface="Cambria"/>
                <a:ea typeface="MS Mincho"/>
              </a:rPr>
              <a:t>storm-size correc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Mini test of new formulation with Ana and Bill (2009) on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MS Mincho"/>
              </a:rPr>
              <a:t>false alarm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and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  <a:ea typeface="MS Mincho"/>
              </a:rPr>
              <a:t>rapid intensification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Investigate </a:t>
            </a:r>
            <a:r>
              <a:rPr b="0" lang="en-US" sz="2400" spc="-1" strike="noStrike">
                <a:solidFill>
                  <a:srgbClr val="3333cc"/>
                </a:solidFill>
                <a:latin typeface="Cambria"/>
                <a:ea typeface="MS Mincho"/>
              </a:rPr>
              <a:t>storm-depth correc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if possible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To be delivered to EMC by 12/31, 2010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10-11-17T20:54:55Z</dcterms:modified>
  <cp:revision>527</cp:revision>
  <dc:subject/>
  <dc:title>HIGH RESOLUTION fvGCM  RESULTS</dc:title>
</cp:coreProperties>
</file>