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7AE-5059-4958-BF9D-CDEAB01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9FD-1948-438A-97AE-65A093B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A04-724A-494C-B8C5-EE4D63C8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5C0-9BF2-4D96-8A2A-86A39016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EEA-AB66-4101-AB50-8942C49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ED5-FD74-4D45-9D8A-06BB9A68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A27-6FEE-47F2-AD17-00B5C16F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1DB-A382-49ED-8675-9849FAB6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FF4-44FE-4324-BDCB-70A6F57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ED1-617B-41DC-992F-DFD951A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7DA-EB4C-4865-B17E-68F4A54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781-0DCC-468C-9D6E-E2A1618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560-0C9B-4B0B-A11F-206DE2B3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aps.fsu.edu/~hwinter/oilspill/" TargetMode="External"/><Relationship Id="rId2" Type="http://schemas.openxmlformats.org/officeDocument/2006/relationships/hyperlink" Target="http://www.coaps.fsu.edu/~hwinter/oilspill/" TargetMode="External"/><Relationship Id="rId3" Type="http://schemas.openxmlformats.org/officeDocument/2006/relationships/hyperlink" Target="http://www.coaps.fsu.edu/~hwinter/oilspill/" TargetMode="External"/><Relationship Id="rId4" Type="http://schemas.openxmlformats.org/officeDocument/2006/relationships/hyperlink" Target="http://www.coaps.fsu.edu/~hwinter/oilspill/" TargetMode="External"/><Relationship Id="rId5" Type="http://schemas.openxmlformats.org/officeDocument/2006/relationships/hyperlink" Target="http://www.coaps.fsu.edu/~hwinter/oilspill/" TargetMode="External"/><Relationship Id="rId6" Type="http://schemas.openxmlformats.org/officeDocument/2006/relationships/hyperlink" Target="http://www.coaps.fsu.edu/~hwinter/oilspill/" TargetMode="External"/><Relationship Id="rId7" Type="http://schemas.openxmlformats.org/officeDocument/2006/relationships/hyperlink" Target="http://www.coaps.fsu.edu/~hwinter/oilspill/" TargetMode="External"/><Relationship Id="rId8" Type="http://schemas.openxmlformats.org/officeDocument/2006/relationships/hyperlink" Target="http://www.coaps.fsu.edu/~hwinter/oilspill/" TargetMode="External"/><Relationship Id="rId9" Type="http://schemas.openxmlformats.org/officeDocument/2006/relationships/hyperlink" Target="http://www.coaps.fsu.edu/~hwinter/oilspill/" TargetMode="External"/><Relationship Id="rId10" Type="http://schemas.openxmlformats.org/officeDocument/2006/relationships/hyperlink" Target="http://www.coaps.fsu.edu/~hwinter/oilspill/" TargetMode="External"/><Relationship Id="rId11" Type="http://schemas.openxmlformats.org/officeDocument/2006/relationships/hyperlink" Target="http://www.coaps.fsu.edu/~hwinter/oilspill/" TargetMode="External"/><Relationship Id="rId12" Type="http://schemas.openxmlformats.org/officeDocument/2006/relationships/hyperlink" Target="http://deepwaterhorizon.fsu.edu/projections/hurricanes.php" TargetMode="External"/><Relationship Id="rId13" Type="http://schemas.openxmlformats.org/officeDocument/2006/relationships/hyperlink" Target="http://deepwaterhorizon.fsu.edu/projections/hurricanes.php" TargetMode="External"/><Relationship Id="rId14" Type="http://schemas.openxmlformats.org/officeDocument/2006/relationships/hyperlink" Target="http://deepwaterhorizon.fsu.edu/projections/hurricanes.php" TargetMode="External"/><Relationship Id="rId15" Type="http://schemas.openxmlformats.org/officeDocument/2006/relationships/hyperlink" Target="http://deepwaterhorizon.fsu.edu/projections/hurricanes.php" TargetMode="External"/><Relationship Id="rId16" Type="http://schemas.openxmlformats.org/officeDocument/2006/relationships/hyperlink" Target="http://deepwaterhorizon.fsu.edu/projections/hurricanes.php" TargetMode="External"/><Relationship Id="rId17" Type="http://schemas.openxmlformats.org/officeDocument/2006/relationships/hyperlink" Target="http://deepwaterhorizon.fsu.edu/projections/hurricanes.php" TargetMode="External"/><Relationship Id="rId18" Type="http://schemas.openxmlformats.org/officeDocument/2006/relationships/hyperlink" Target="http://deepwaterhorizon.fsu.edu/projections/hurricanes.php" TargetMode="External"/><Relationship Id="rId19" Type="http://schemas.openxmlformats.org/officeDocument/2006/relationships/hyperlink" Target="http://deepwaterhorizon.fsu.edu/projections/hurricanes.php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f Katrina scenario sfc oil movement- Mark Po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ap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s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winter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oilspil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deepwaterhorizo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fs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/projections/hurricanes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php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2:29:47Z</dcterms:created>
  <dc:creator>gopal</dc:creator>
  <dc:description/>
  <dc:language>en-US</dc:language>
  <cp:lastModifiedBy>gopal</cp:lastModifiedBy>
  <dcterms:modified xsi:type="dcterms:W3CDTF">2010-06-17T02:36:02Z</dcterms:modified>
  <cp:revision>2</cp:revision>
  <dc:subject/>
  <dc:title>Animation of Katrina scenario sfc oil movement</dc:title>
</cp:coreProperties>
</file>