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144-EA62-4698-9701-2999A96C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2E01-0254-423B-9CBA-F75654CC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8CDB-41B7-4956-82A3-D131EF9E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9082-C251-43A4-ACC1-182844B8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9A4-3D81-4749-AC25-63DF41FE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2E79-849C-4865-8010-820EAFBC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3465-752D-49BB-9D9F-093D5D9A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535D-34B6-4819-99B0-DEC0CF67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7B3-C2D8-4203-945A-66A43DF8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3B43-4AC6-4416-B1C9-048E787F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96C8-4438-4E16-9836-D1EBC781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81EB-B691-4237-BAA6-0CC38881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319B-8682-4622-AD73-6BE4B9CDA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Preliminary tes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9"/>
          <p:cNvSpPr/>
          <p:nvPr/>
        </p:nvSpPr>
        <p:spPr>
          <a:xfrm>
            <a:off x="5486400" y="1981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i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Content Placeholder 12" descr="multitrack_emily.tif"/>
          <p:cNvPicPr/>
          <p:nvPr/>
        </p:nvPicPr>
        <p:blipFill>
          <a:blip r:embed="rId1"/>
          <a:stretch/>
        </p:blipFill>
        <p:spPr>
          <a:xfrm>
            <a:off x="68400" y="1981080"/>
            <a:ext cx="4673520" cy="350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4572000" y="2530440"/>
          <a:ext cx="4343400" cy="238284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apid Intensification (R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eady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S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7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mily 2005 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rina 2005 (2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ren 2007 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ilippe 2005 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45"/>
          <p:cNvSpPr/>
          <p:nvPr/>
        </p:nvSpPr>
        <p:spPr>
          <a:xfrm>
            <a:off x="4510080" y="1020600"/>
            <a:ext cx="4038480" cy="28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861480" y="228600"/>
            <a:ext cx="75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Comparison of axisymmetric structures for RI and SS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84"/>
          <p:cNvSpPr/>
          <p:nvPr/>
        </p:nvSpPr>
        <p:spPr>
          <a:xfrm>
            <a:off x="3919320" y="12160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85"/>
          <p:cNvSpPr/>
          <p:nvPr/>
        </p:nvSpPr>
        <p:spPr>
          <a:xfrm>
            <a:off x="7219800" y="12603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Content Placeholder 118" descr="vt_PR.jpg"/>
          <p:cNvPicPr/>
          <p:nvPr/>
        </p:nvPicPr>
        <p:blipFill>
          <a:blip r:embed="rId1"/>
          <a:stretch/>
        </p:blipFill>
        <p:spPr>
          <a:xfrm>
            <a:off x="533520" y="6858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120" descr="vt_SS.jpg"/>
          <p:cNvPicPr/>
          <p:nvPr/>
        </p:nvPicPr>
        <p:blipFill>
          <a:blip r:embed="rId2"/>
          <a:stretch/>
        </p:blipFill>
        <p:spPr>
          <a:xfrm>
            <a:off x="4495680" y="6094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123" descr="vt_PR-SS.jpg"/>
          <p:cNvPicPr/>
          <p:nvPr/>
        </p:nvPicPr>
        <p:blipFill>
          <a:blip r:embed="rId3"/>
          <a:stretch/>
        </p:blipFill>
        <p:spPr>
          <a:xfrm>
            <a:off x="2514600" y="38289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10" descr="vr_PR.jpg"/>
          <p:cNvPicPr/>
          <p:nvPr/>
        </p:nvPicPr>
        <p:blipFill>
          <a:blip r:embed="rId1"/>
          <a:stretch/>
        </p:blipFill>
        <p:spPr>
          <a:xfrm>
            <a:off x="457200" y="6094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12" descr="vr_SS.jpg"/>
          <p:cNvPicPr/>
          <p:nvPr/>
        </p:nvPicPr>
        <p:blipFill>
          <a:blip r:embed="rId2"/>
          <a:stretch/>
        </p:blipFill>
        <p:spPr>
          <a:xfrm>
            <a:off x="4876920" y="6094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15" descr="vr_PR-SS.jpg"/>
          <p:cNvPicPr/>
          <p:nvPr/>
        </p:nvPicPr>
        <p:blipFill>
          <a:blip r:embed="rId3"/>
          <a:stretch/>
        </p:blipFill>
        <p:spPr>
          <a:xfrm>
            <a:off x="3048120" y="36576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861480" y="152280"/>
            <a:ext cx="75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Comparison of axisymmetric structures for RI and SS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4" descr="vor_PR.jpg"/>
          <p:cNvPicPr/>
          <p:nvPr/>
        </p:nvPicPr>
        <p:blipFill>
          <a:blip r:embed="rId1"/>
          <a:stretch/>
        </p:blipFill>
        <p:spPr>
          <a:xfrm>
            <a:off x="533520" y="8380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vor_SS.jpg"/>
          <p:cNvPicPr/>
          <p:nvPr/>
        </p:nvPicPr>
        <p:blipFill>
          <a:blip r:embed="rId2"/>
          <a:stretch/>
        </p:blipFill>
        <p:spPr>
          <a:xfrm>
            <a:off x="4648320" y="8380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8" descr="vor_PR-SS.jpg"/>
          <p:cNvPicPr/>
          <p:nvPr/>
        </p:nvPicPr>
        <p:blipFill>
          <a:blip r:embed="rId3"/>
          <a:stretch/>
        </p:blipFill>
        <p:spPr>
          <a:xfrm>
            <a:off x="2438280" y="382896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861480" y="228600"/>
            <a:ext cx="75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Comparison of axisymmetric structures for RI and SS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95280" y="1600200"/>
          <a:ext cx="6080400" cy="1781280"/>
        </p:xfrm>
        <a:graphic>
          <a:graphicData uri="http://schemas.openxmlformats.org/drawingml/2006/table">
            <a:tbl>
              <a:tblPr/>
              <a:tblGrid>
                <a:gridCol w="2027520"/>
                <a:gridCol w="2027160"/>
                <a:gridCol w="2025720"/>
              </a:tblGrid>
              <a:tr h="31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st Track/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ser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WRF-x (hwrf) low 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WRF-x (hwrf) high 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WRF-x (gfdl) low 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WRF-x (gfdl) high 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371600" y="3809880"/>
          <a:ext cx="6080040" cy="1811520"/>
        </p:xfrm>
        <a:graphic>
          <a:graphicData uri="http://schemas.openxmlformats.org/drawingml/2006/table">
            <a:tbl>
              <a:tblPr/>
              <a:tblGrid>
                <a:gridCol w="2027160"/>
                <a:gridCol w="2027160"/>
                <a:gridCol w="2025720"/>
              </a:tblGrid>
              <a:tr h="40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st Track/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lse Alar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rrect Reje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ser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WRF-x (hwrf) low 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WRF-x (hwrf) high 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WRF-x (gfdl) low 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WRF-x (gfdl) high 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4"/>
          <p:cNvSpPr/>
          <p:nvPr/>
        </p:nvSpPr>
        <p:spPr>
          <a:xfrm>
            <a:off x="2762640" y="5857560"/>
            <a:ext cx="396468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---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only using simulations that are available for all models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s are from John Cangialo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RI Table and Future wor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01:02:38Z</dcterms:created>
  <dc:creator>JunZhang</dc:creator>
  <dc:description/>
  <dc:language>en-US</dc:language>
  <cp:lastModifiedBy> </cp:lastModifiedBy>
  <dcterms:modified xsi:type="dcterms:W3CDTF">2010-06-16T20:38:30Z</dcterms:modified>
  <cp:revision>45</cp:revision>
  <dc:subject/>
  <dc:title>Slide 1</dc:title>
</cp:coreProperties>
</file>