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86F2F-FB0A-40B6-8FE6-BAEED4639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00114-9E10-452F-A2FC-DB3420FA6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8F28E-EFDE-4AD7-9261-6E4A3DD25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7537B-A8E6-4475-859B-8502786C8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4790F-774F-4E89-ABE5-CF62429B4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E6168-60DD-4651-9365-F63CAAC64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D39DA-DDAE-481D-BCDC-979D03685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10FBA-12A7-46EC-96CA-303C5253C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B8E90-20D2-4B61-B207-0CF0432F4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D8A6B-4768-4997-9710-A3613C4F8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D1A17-B071-41C4-B59A-6BBF4B71A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6F895-96FF-40AB-9E37-21FE047CB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A2FC2-20AC-400C-A582-DE08E78C3E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WRF3.2 Transition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-Status Repor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6934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pal/HRD and Vijay/EM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anks to HWRF and HWRFX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82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HFIP Milestones: FY10-FY1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tream 1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velopment of movable triply-nested (27/9/3) version of HWRF3.2/HWRFX (AOML, EMC);  expand coupler for triply-nested grid configuration (EMC, AOML), transferring code  to general WRF code repository (DTC, AOML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Evaluate local and the nonlocal boundary layer parameterization schemes  in HWRF and COAMPS-TC.  (EMC, ESRL, AOML, NR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tream 2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velop the capability of performing idealized simulations with HWRF (AOML) and transition it to the community WRF code (AOML, DTC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Use idealized framework for evaluation of various advanced micro-physics parameterization schemes in HWRF, AHW and COAMPS-TC  (HRD, ESRL, EMC , MMM, NRL, Hebrew University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t up a demo HWRF system at 9:3 for this hurricane season and use the 3 km forecasts for benchmarking  27:9:3 (EMC-HRD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eam 1: Code Transitions to HWRFV3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880" y="50292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fer of advanced nesting algorithm capable of providing multiple telescopic moving domain to EMC (complete). Testing was done within the operational framework at 27: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rcRect l="0" t="29814" r="0" b="29814"/>
          <a:stretch/>
        </p:blipFill>
        <p:spPr>
          <a:xfrm>
            <a:off x="152280" y="1447920"/>
            <a:ext cx="4191120" cy="33526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rcRect l="0" t="14907" r="0" b="14907"/>
          <a:stretch/>
        </p:blipFill>
        <p:spPr>
          <a:xfrm>
            <a:off x="4343400" y="1371600"/>
            <a:ext cx="4419720" cy="35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eam 2: Ideal Code in HWRFV3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5029200"/>
            <a:ext cx="4648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fer of idealized framework to HWRFV3.2. Testing is complete with HWRF physics at 9: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380880" y="1066680"/>
          <a:ext cx="2667240" cy="2440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2667240" cy="244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3" name="" descr=""/>
          <p:cNvPicPr/>
          <p:nvPr/>
        </p:nvPicPr>
        <p:blipFill>
          <a:blip r:embed="rId3"/>
          <a:srcRect l="0" t="37337" r="40000" b="0"/>
          <a:stretch/>
        </p:blipFill>
        <p:spPr>
          <a:xfrm>
            <a:off x="5867280" y="3962520"/>
            <a:ext cx="3124440" cy="25732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rcRect l="0" t="37337" r="40000" b="0"/>
          <a:stretch/>
        </p:blipFill>
        <p:spPr>
          <a:xfrm>
            <a:off x="3048120" y="1828800"/>
            <a:ext cx="3200400" cy="26859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581280" y="160020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WRFX3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705720" y="373392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WRF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ventual Goal For Summ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t up 9:3 with ocean coupling, vortex initialization and new vortex tracking algorithm and benchmark our results at 3 km re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e configuring 27:9:3 for Ideal and real ca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6T16:40:17Z</dcterms:created>
  <dc:creator>gopal</dc:creator>
  <dc:description/>
  <dc:language>en-US</dc:language>
  <cp:lastModifiedBy>gopal</cp:lastModifiedBy>
  <dcterms:modified xsi:type="dcterms:W3CDTF">2010-06-17T02:23:19Z</dcterms:modified>
  <cp:revision>17</cp:revision>
  <dc:subject/>
  <dc:title>HWRFX-HWRF3.2 Transitions </dc:title>
</cp:coreProperties>
</file>