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108-B3FC-489E-A39B-2E501AC80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9C34-D0E3-4D04-9773-C9FCEF33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F0A9-508C-4B8A-B909-A73ECDA0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EB2A-9AC0-4629-ACDD-38701A3B0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DCB9497-FFA4-413C-9A77-EC17A6CEE8E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0640" y="4284720"/>
            <a:ext cx="4905360" cy="392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lvl="1" marL="11448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ven though for only 50 cases suggests tha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WRF-x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errors for standard metrics are comparable to operational regional hurricane models (GFDL, HW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esting observations is that operational hurricane models have slight positive intensity bias for the 50 cases, whil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WRF-x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has a negative bias, yet the mean absolute error is compar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8F5-6B44-45AC-BBD7-53FB959A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B793A73-8587-4FB8-9736-14849D31329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6144-B60F-42DE-B0BC-EDC9CBAD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6E9-A820-4ABC-B9FA-6CDFE3A7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C1D-106D-4FB0-BB27-0B09F8F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7BB-5817-407F-B83C-457F4646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2B3-3A7E-4378-8746-E1E4DCC5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410-8A04-4482-83FA-359A294E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EFF-4FBC-420C-9B17-D66AA1D0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1F8-A648-4ABA-B580-6386B449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98E-78D8-4321-A8D6-9CDDDFE6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569-65CD-4FBC-AFBD-8F7ED7D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E98-F1DF-4D25-990D-6FAA4C5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CBC-0AB2-48AE-BD1F-B064698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9C7-3F12-4892-AA96-1838EA7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651B-12BA-46D9-BAC9-06D69F12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torm.aoml.noaa.gov/hwrfx/" TargetMode="External"/><Relationship Id="rId2" Type="http://schemas.openxmlformats.org/officeDocument/2006/relationships/hyperlink" Target="https://storm.aoml.noaa.gov/hwrfx/" TargetMode="External"/><Relationship Id="rId3" Type="http://schemas.openxmlformats.org/officeDocument/2006/relationships/hyperlink" Target="https://storm.aoml.noaa.gov/hwrfx/" TargetMode="External"/><Relationship Id="rId4" Type="http://schemas.openxmlformats.org/officeDocument/2006/relationships/hyperlink" Target="https://storm.aoml.noaa.gov/hwrfx/" TargetMode="External"/><Relationship Id="rId5" Type="http://schemas.openxmlformats.org/officeDocument/2006/relationships/hyperlink" Target="https://storm.aoml.noaa.gov/hwrfx/" TargetMode="External"/><Relationship Id="rId6" Type="http://schemas.openxmlformats.org/officeDocument/2006/relationships/hyperlink" Target="https://storm.aoml.noaa.gov/hwrfx/" TargetMode="External"/><Relationship Id="rId7" Type="http://schemas.openxmlformats.org/officeDocument/2006/relationships/hyperlink" Target="https://storm.aoml.noaa.gov/hwrfx/" TargetMode="External"/><Relationship Id="rId8" Type="http://schemas.openxmlformats.org/officeDocument/2006/relationships/hyperlink" Target="https://storm.aoml.noaa.gov/hwrfx/" TargetMode="External"/><Relationship Id="rId9" Type="http://schemas.openxmlformats.org/officeDocument/2006/relationships/hyperlink" Target="https://storm.aoml.noaa.gov/hwrfx/" TargetMode="Externa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6"/>
          <p:cNvSpPr/>
          <p:nvPr/>
        </p:nvSpPr>
        <p:spPr>
          <a:xfrm>
            <a:off x="380880" y="26668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nley Goldenberg and the HWRFX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 collaboration with our NOAA partners at EMC/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28600" y="1219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RFX Statistics: Impact of Resolution and Init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4" descr="C:\Users\gopal\Documents\back_up\aoml.jpg"/>
          <p:cNvPicPr/>
          <p:nvPr/>
        </p:nvPicPr>
        <p:blipFill>
          <a:blip r:embed="rId1"/>
          <a:stretch/>
        </p:blipFill>
        <p:spPr>
          <a:xfrm>
            <a:off x="7734240" y="76320"/>
            <a:ext cx="102888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C:\Users\gopal\Desktop\noaa.jpg"/>
          <p:cNvPicPr/>
          <p:nvPr/>
        </p:nvPicPr>
        <p:blipFill>
          <a:blip r:embed="rId2"/>
          <a:stretch/>
        </p:blipFill>
        <p:spPr>
          <a:xfrm>
            <a:off x="228600" y="76320"/>
            <a:ext cx="1066680" cy="990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9"/>
          <p:cNvSpPr/>
          <p:nvPr/>
        </p:nvSpPr>
        <p:spPr>
          <a:xfrm>
            <a:off x="1366920" y="213372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ita (Sept 20, 2005 00Z fcs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1520" y="220968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Katrina (Aug 27, 2005 00Z fc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685800" y="152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RESOLUTION HURRICANE 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459720" y="617220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rina (Aug 27, 2005 00Z f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04920" y="121932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27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90720" y="1905120"/>
            <a:ext cx="530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09680" y="121932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09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819520" y="1905120"/>
            <a:ext cx="530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733920" cy="3633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6"/>
          <p:cNvSpPr/>
          <p:nvPr/>
        </p:nvSpPr>
        <p:spPr>
          <a:xfrm>
            <a:off x="4952880" y="129528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Higher resolution improves  track forecast for lead times 24-48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4876920" y="6095880"/>
            <a:ext cx="35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Higher resolution improves intensity forecast for lead times 12-48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hart 13" descr=""/>
          <p:cNvPicPr/>
          <p:nvPr/>
        </p:nvPicPr>
        <p:blipFill>
          <a:blip r:embed="rId2"/>
          <a:stretch/>
        </p:blipFill>
        <p:spPr>
          <a:xfrm>
            <a:off x="4565520" y="3425760"/>
            <a:ext cx="3895920" cy="22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343400" y="5562720"/>
          <a:ext cx="4065480" cy="565200"/>
        </p:xfrm>
        <a:graphic>
          <a:graphicData uri="http://schemas.openxmlformats.org/drawingml/2006/table">
            <a:tbl>
              <a:tblPr/>
              <a:tblGrid>
                <a:gridCol w="609480"/>
                <a:gridCol w="327240"/>
                <a:gridCol w="341280"/>
                <a:gridCol w="341280"/>
                <a:gridCol w="341280"/>
                <a:gridCol w="341280"/>
                <a:gridCol w="339840"/>
                <a:gridCol w="341280"/>
                <a:gridCol w="369720"/>
                <a:gridCol w="341280"/>
                <a:gridCol w="371520"/>
              </a:tblGrid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3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9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65" name="Chart 15" descr=""/>
          <p:cNvPicPr/>
          <p:nvPr/>
        </p:nvPicPr>
        <p:blipFill>
          <a:blip r:embed="rId3"/>
          <a:stretch/>
        </p:blipFill>
        <p:spPr>
          <a:xfrm>
            <a:off x="4492800" y="676440"/>
            <a:ext cx="3968640" cy="222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67080" y="2906640"/>
          <a:ext cx="4114800" cy="565200"/>
        </p:xfrm>
        <a:graphic>
          <a:graphicData uri="http://schemas.openxmlformats.org/drawingml/2006/table">
            <a:tbl>
              <a:tblPr/>
              <a:tblGrid>
                <a:gridCol w="646200"/>
                <a:gridCol w="341280"/>
                <a:gridCol w="339840"/>
                <a:gridCol w="341280"/>
                <a:gridCol w="341280"/>
                <a:gridCol w="341280"/>
                <a:gridCol w="341280"/>
                <a:gridCol w="341280"/>
                <a:gridCol w="339840"/>
                <a:gridCol w="371520"/>
                <a:gridCol w="369720"/>
              </a:tblGrid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3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9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482760" y="6489720"/>
            <a:ext cx="53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E065-582C-491D-ACD0-C907580D162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3640" y="1109520"/>
            <a:ext cx="3181320" cy="4842000"/>
          </a:xfrm>
          <a:prstGeom prst="rect">
            <a:avLst/>
          </a:prstGeom>
          <a:noFill/>
          <a:ln w="0">
            <a:noFill/>
          </a:ln>
        </p:spPr>
        <p:txBody>
          <a:bodyPr rIns="182880" anchor="t">
            <a:norm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HWRFx at resolution (9/3km), no ocean, no vortex initialization (HWRF IC/GFS B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WRFx run real-time twice a day (00Z, 12Z) for 78 cases 126 h forec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ATCF to multi-model regional 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JET statistics (averag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time: 2.5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processing:  50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471920" y="115884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WRFx real-time demo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s://storm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aoml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noaa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hwrfx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Picture 1.png"/>
          <p:cNvPicPr/>
          <p:nvPr/>
        </p:nvPicPr>
        <p:blipFill>
          <a:blip r:embed="rId10"/>
          <a:srcRect l="0" t="0" r="1313" b="0"/>
          <a:stretch/>
        </p:blipFill>
        <p:spPr>
          <a:xfrm>
            <a:off x="3495600" y="1981080"/>
            <a:ext cx="5343480" cy="4159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685800" y="152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9 Hurricane Sea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MATLAB7\work\Model\HWRF\Bill2009\BILL03L.2009081600\Bill2009081600_intensity.tif"/>
          <p:cNvPicPr/>
          <p:nvPr/>
        </p:nvPicPr>
        <p:blipFill>
          <a:blip r:embed="rId1"/>
          <a:srcRect l="4166" t="4561" r="6254" b="3457"/>
          <a:stretch/>
        </p:blipFill>
        <p:spPr>
          <a:xfrm>
            <a:off x="4343400" y="990720"/>
            <a:ext cx="3227400" cy="236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MATLAB7\work\Model\HWRF\Bill2009\BILL03L.2009081600\Bill2009081600_track.tif"/>
          <p:cNvPicPr/>
          <p:nvPr/>
        </p:nvPicPr>
        <p:blipFill>
          <a:blip r:embed="rId2"/>
          <a:srcRect l="5772" t="12502" r="7694" b="15072"/>
          <a:stretch/>
        </p:blipFill>
        <p:spPr>
          <a:xfrm>
            <a:off x="533520" y="762120"/>
            <a:ext cx="34225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9"/>
          <p:cNvSpPr/>
          <p:nvPr/>
        </p:nvSpPr>
        <p:spPr>
          <a:xfrm>
            <a:off x="787320" y="6512040"/>
            <a:ext cx="533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1448-AD89-4312-8106-BE8E1854801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od – Hurricane Bill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6212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gly – TS Erika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C:\Documents and Settings\kevin.yeh\My Documents\2009 Stats\Erika2009090212_HWRFx_3km_wind_swath.gif"/>
          <p:cNvPicPr/>
          <p:nvPr/>
        </p:nvPicPr>
        <p:blipFill>
          <a:blip r:embed="rId3"/>
          <a:stretch/>
        </p:blipFill>
        <p:spPr>
          <a:xfrm>
            <a:off x="762120" y="4191120"/>
            <a:ext cx="334332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kevin.yeh\My Documents\2009 Stats\Erika2009090212_HxGFS_3km_wind_swath.gif"/>
          <p:cNvPicPr/>
          <p:nvPr/>
        </p:nvPicPr>
        <p:blipFill>
          <a:blip r:embed="rId4"/>
          <a:stretch/>
        </p:blipFill>
        <p:spPr>
          <a:xfrm>
            <a:off x="4648320" y="4267080"/>
            <a:ext cx="3676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7" descr=""/>
          <p:cNvPicPr/>
          <p:nvPr/>
        </p:nvPicPr>
        <p:blipFill>
          <a:blip r:embed="rId1"/>
          <a:stretch/>
        </p:blipFill>
        <p:spPr>
          <a:xfrm>
            <a:off x="3730680" y="762120"/>
            <a:ext cx="4852800" cy="2925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685800" y="152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9 Hurricane Sea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hart 1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4651200" cy="312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3981600"/>
            <a:ext cx="13716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28600" y="914400"/>
            <a:ext cx="3581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noAutofit/>
          </a:bodyPr>
          <a:p>
            <a:pPr marL="227160" indent="-227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 performance is comparable to other regional models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imilar to HRH resul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WRFx has intensity bias at 9/3 km with HWRF IC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RH used GFDL 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9 real-time demo indicates a strong need to evaluate IC and phys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sitivity to Initial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380880" y="5257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5: (1) Emily (2) Katrina (3) Ophelia (4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ill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5) Rita (6) Wi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7: (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g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 Humberto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ar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9: (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 Bill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an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ri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5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hart 8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4365720" cy="3475080"/>
          </a:xfrm>
          <a:prstGeom prst="rect">
            <a:avLst/>
          </a:prstGeom>
          <a:ln w="0">
            <a:noFill/>
          </a:ln>
        </p:spPr>
      </p:pic>
      <p:pic>
        <p:nvPicPr>
          <p:cNvPr id="87" name="Chart 9" descr=""/>
          <p:cNvPicPr/>
          <p:nvPr/>
        </p:nvPicPr>
        <p:blipFill>
          <a:blip r:embed="rId2"/>
          <a:stretch/>
        </p:blipFill>
        <p:spPr>
          <a:xfrm>
            <a:off x="4645080" y="1219320"/>
            <a:ext cx="44197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–vs- Strong st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5105520"/>
          <a:ext cx="4114800" cy="612720"/>
        </p:xfrm>
        <a:graphic>
          <a:graphicData uri="http://schemas.openxmlformats.org/drawingml/2006/table">
            <a:tbl>
              <a:tblPr/>
              <a:tblGrid>
                <a:gridCol w="412920"/>
                <a:gridCol w="411120"/>
                <a:gridCol w="409320"/>
                <a:gridCol w="411120"/>
                <a:gridCol w="412920"/>
                <a:gridCol w="412920"/>
                <a:gridCol w="411120"/>
                <a:gridCol w="409320"/>
                <a:gridCol w="411120"/>
                <a:gridCol w="41292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572000" y="5105520"/>
          <a:ext cx="4267080" cy="612720"/>
        </p:xfrm>
        <a:graphic>
          <a:graphicData uri="http://schemas.openxmlformats.org/drawingml/2006/table">
            <a:tbl>
              <a:tblPr/>
              <a:tblGrid>
                <a:gridCol w="428760"/>
                <a:gridCol w="425160"/>
                <a:gridCol w="425520"/>
                <a:gridCol w="425520"/>
                <a:gridCol w="428760"/>
                <a:gridCol w="428400"/>
                <a:gridCol w="425520"/>
                <a:gridCol w="425520"/>
                <a:gridCol w="425520"/>
                <a:gridCol w="4284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Chart 6" descr=""/>
          <p:cNvPicPr/>
          <p:nvPr/>
        </p:nvPicPr>
        <p:blipFill>
          <a:blip r:embed="rId1"/>
          <a:stretch/>
        </p:blipFill>
        <p:spPr>
          <a:xfrm>
            <a:off x="146160" y="1292400"/>
            <a:ext cx="4273560" cy="3724200"/>
          </a:xfrm>
          <a:prstGeom prst="rect">
            <a:avLst/>
          </a:prstGeom>
          <a:ln w="0">
            <a:noFill/>
          </a:ln>
        </p:spPr>
      </p:pic>
      <p:pic>
        <p:nvPicPr>
          <p:cNvPr id="92" name="Chart 7" descr=""/>
          <p:cNvPicPr/>
          <p:nvPr/>
        </p:nvPicPr>
        <p:blipFill>
          <a:blip r:embed="rId2"/>
          <a:stretch/>
        </p:blipFill>
        <p:spPr>
          <a:xfrm>
            <a:off x="4565520" y="1292400"/>
            <a:ext cx="424368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3:36:13Z</dcterms:created>
  <dc:creator>gopal</dc:creator>
  <dc:description/>
  <dc:language>en-US</dc:language>
  <cp:lastModifiedBy>gopal</cp:lastModifiedBy>
  <dcterms:modified xsi:type="dcterms:W3CDTF">2010-06-17T02:21:01Z</dcterms:modified>
  <cp:revision>289</cp:revision>
  <dc:subject/>
  <dc:title>HWRFx: Regional Scale Model Development at OAR</dc:title>
</cp:coreProperties>
</file>