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4ABE-E555-4C35-8CC1-2EFB38C4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828B-4F6F-4AFE-A650-C3010204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6F53-9C68-4006-8C93-17B047D8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4AD5-0188-4C7E-BFB5-8758A14B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AAF-0927-4D9F-AAE8-C8240947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41D0-BF6D-4D67-AE6B-9A188DC4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308-AC9C-492C-9098-ECA690C1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5F8F-69E0-46FE-AF67-869054F4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92F5-C338-4916-A140-7C61B66D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9AE0-4040-4F01-B467-94D7B077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861A-E811-4769-B84D-F1FE9780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F78-09F4-49D0-8309-162AC656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D1F8-1197-41D2-8ACE-6E27E535E3C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80880" y="190512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Inner-core characteristics of rapidly-intensifying Atlantic tropical cyclones deduced from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irborne Doppler observations and HWRFx numerical simul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459440" y="4114800"/>
            <a:ext cx="67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obert Rogers, Jun Zhang, John Cangialosi, Sylvie Lorsolo, Paul Reas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73200" y="-33480"/>
            <a:ext cx="7797600" cy="6926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6477120" y="4419720"/>
            <a:ext cx="2549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3360" y="152280"/>
            <a:ext cx="8998200" cy="3926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rcRect l="0" t="0" r="0" b="46563"/>
          <a:stretch/>
        </p:blipFill>
        <p:spPr>
          <a:xfrm>
            <a:off x="6086520" y="1008000"/>
            <a:ext cx="3133800" cy="31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rcRect l="0" t="12814" r="0" b="0"/>
          <a:stretch/>
        </p:blipFill>
        <p:spPr>
          <a:xfrm>
            <a:off x="87480" y="4105440"/>
            <a:ext cx="9113760" cy="2657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4"/>
          <a:srcRect l="0" t="0" r="0" b="51586"/>
          <a:stretch/>
        </p:blipFill>
        <p:spPr>
          <a:xfrm>
            <a:off x="7238880" y="1676520"/>
            <a:ext cx="102420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3508560" y="228600"/>
            <a:ext cx="19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Future wor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28600" y="1027080"/>
            <a:ext cx="861048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ntinuation of Doppler composite comparisons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82560" indent="-2253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increase sample size of Doppler composite datase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82560" indent="-2253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erform tests of statistical significance for differenc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82560" indent="-2253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amine asymmetric structures, more vortex-scale diagnostics (e.g. inner-core vertical shear, vortex til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82560" indent="-2253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erform convective/stratiform partition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82560" indent="-2253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thermodynamic variables from dropsond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82560" indent="-2253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amine boundary-layer properties from Doppler profil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82560" indent="-2253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amine other locations within storm (e.g. outer core wind profil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82560" indent="-2253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incorporate large-scale parameters (e.g. group in similar shear, SST environment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82560" indent="-2253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explore similar signals in model simu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82560" indent="-2253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9-km, 3-km, 1-km HWRFx ru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82560" indent="-2253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determine if models can distinguish between RI and SS events based on inner-core structur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52280" y="1014480"/>
            <a:ext cx="87631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vances in forecasts of tropical cyclone (TC) intensity, and rapid intensity change (RI) in particular, lag advances in TC track forecas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Multiscale nature of these processes major reason for th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25320" indent="-16812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nvironmental - O(1000 km) - troughs, shea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25320" indent="-16812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vortex - O(1-100 km) - symmetric/asymmetric dynamics, VRW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25320" indent="-16812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nvective – O(1 km) – convective bursts, vortical hot towe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25320" indent="-16812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urbulent – O(1-100 m) - surface fluxes, entrainment/detrain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25320" indent="-16812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icroscale – O(1mm) -- hydrometeor production, latent heat rele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253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25320" indent="-16812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arge-scale fields generally explain about 35% of skill in RI forecasts (e.g., RI index).  How much can smaller-scale (i.e., vortex-scale and smaller) processes explain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25320" indent="-16812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3465720" y="22392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Motiv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572000" cy="314316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100080" y="533520"/>
            <a:ext cx="8946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Calibri"/>
              </a:rPr>
              <a:t>Some previous work on inner-core structures associated with TC intensification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302040" y="99072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Vortex sca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838080" y="1371600"/>
            <a:ext cx="8077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Kossin and Eastin (JAS, 2001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576360" indent="-1191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omposited flight-level winds from 44 TC’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576360" indent="-1191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ntensifiers (“regime 1” in figure) associated with high eyewall  vorticity, low eye vorticity, and steeper radial gradient  of tangential wind (U-shaped profile) compared with those that remained steady-state (“regime 2”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4424760" y="6019920"/>
            <a:ext cx="23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from Kossin and Eastin, JAS, 200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-563400" y="838080"/>
            <a:ext cx="97549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4960" indent="-258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use composites of tail Doppler radar data from NOAA WP-3D radial penetrations in many storms to compare inner-core structures associated with storms that undergo rapid intensification (RI) with those that remain steady-state (S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04960" indent="-258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variational analysis (Gamache 1997) of fields used to generate Cartesian grids of   3-D winds and reflectivity (see sample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04960" indent="-258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ach analysis has horizontal grid spacing of 2-4 km, vertical spacing of 0.5 k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04960" indent="-258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artesian data interpolated to cylindrical coordinates for axisymmetric calculations.  Storm center defined using simplex algorithm (Neldar and Mead, 1965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04960" indent="-258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mpositing technique based on normalized radiu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04960" indent="-258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* = r/|r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max_2km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|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, where |r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max_2km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| = radius of maximu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804960" indent="-258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xisymmetric wind at 2 km altitu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804960" indent="-258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0 analyses from radial penetrations in 12 TC ‘s from 2003-2008 with max winds of 55-75 kt (from Best Track) used in analys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04960" indent="-258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I cases selected as those where 24-h intensity change following time of radar analyses &gt; 25 kt;  SS cases selected as those where 24-h intensity change &lt; +/- 10 k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04960" indent="-258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amine differences in axisymmetric vortex structures and convective-scale statistics for RI vs. SS cases – large-scale, while important, not considered y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0" y="162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Methodolog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3480" y="1401840"/>
            <a:ext cx="9077040" cy="4054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2238480" y="152280"/>
            <a:ext cx="48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Sample analysis: Felix 9/1/2007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304920" y="83520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Reflectivity (shaded, dBZ) and wind speed (contour, m s</a:t>
            </a:r>
            <a:r>
              <a:rPr b="1" lang="en-US" sz="1400" spc="-1" strike="noStrike" u="sng" baseline="30000">
                <a:solidFill>
                  <a:srgbClr val="ffffff"/>
                </a:solidFill>
                <a:uFillTx/>
                <a:latin typeface="Calibri"/>
              </a:rPr>
              <a:t>-1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) at 1 km altitud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4952880" y="82872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Vertical velocity (shaded, m s</a:t>
            </a:r>
            <a:r>
              <a:rPr b="1" lang="en-US" sz="1400" spc="-1" strike="noStrike" u="sng" baseline="30000">
                <a:solidFill>
                  <a:srgbClr val="ffffff"/>
                </a:solidFill>
                <a:uFillTx/>
                <a:latin typeface="Calibri"/>
              </a:rPr>
              <a:t>-1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) and relative vorticity (contour, x 10</a:t>
            </a:r>
            <a:r>
              <a:rPr b="1" lang="en-US" sz="1400" spc="-1" strike="noStrike" u="sng" baseline="30000">
                <a:solidFill>
                  <a:srgbClr val="ffffff"/>
                </a:solidFill>
                <a:uFillTx/>
                <a:latin typeface="Calibri"/>
              </a:rPr>
              <a:t>-4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 s</a:t>
            </a:r>
            <a:r>
              <a:rPr b="1" lang="en-US" sz="1400" spc="-1" strike="noStrike" u="sng" baseline="30000">
                <a:solidFill>
                  <a:srgbClr val="ffffff"/>
                </a:solidFill>
                <a:uFillTx/>
                <a:latin typeface="Calibri"/>
              </a:rPr>
              <a:t>-1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) at 1 km altitud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90360" y="1654200"/>
            <a:ext cx="8961480" cy="3548160"/>
          </a:xfrm>
          <a:prstGeom prst="rect">
            <a:avLst/>
          </a:prstGeom>
          <a:ln w="0">
            <a:noFill/>
          </a:ln>
        </p:spPr>
      </p:pic>
      <p:sp>
        <p:nvSpPr>
          <p:cNvPr id="57" name="TextBox 10"/>
          <p:cNvSpPr/>
          <p:nvPr/>
        </p:nvSpPr>
        <p:spPr>
          <a:xfrm>
            <a:off x="304920" y="114300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Radius-height plot of axisymmetric tangential wind (shaded, m s</a:t>
            </a:r>
            <a:r>
              <a:rPr b="1" lang="en-US" sz="1400" spc="-1" strike="noStrike" u="sng" baseline="30000">
                <a:solidFill>
                  <a:srgbClr val="ffffff"/>
                </a:solidFill>
                <a:uFillTx/>
                <a:latin typeface="Calibri"/>
              </a:rPr>
              <a:t>-1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 ) and radial wind (contour, m s</a:t>
            </a:r>
            <a:r>
              <a:rPr b="1" lang="en-US" sz="1400" spc="-1" strike="noStrike" u="sng" baseline="30000">
                <a:solidFill>
                  <a:srgbClr val="ffffff"/>
                </a:solidFill>
                <a:uFillTx/>
                <a:latin typeface="Calibri"/>
              </a:rPr>
              <a:t>-1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4756320" y="1143000"/>
            <a:ext cx="42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Radius-height plot of axisymmetric reflectivity (shaded, dBZ ) and relative vorticity (contour, x 10</a:t>
            </a:r>
            <a:r>
              <a:rPr b="1" lang="en-US" sz="1400" spc="-1" strike="noStrike" u="sng" baseline="30000">
                <a:solidFill>
                  <a:srgbClr val="ffffff"/>
                </a:solidFill>
                <a:uFillTx/>
                <a:latin typeface="Calibri"/>
              </a:rPr>
              <a:t>-4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 s</a:t>
            </a:r>
            <a:r>
              <a:rPr b="1" lang="en-US" sz="1400" spc="-1" strike="noStrike" u="sng" baseline="30000">
                <a:solidFill>
                  <a:srgbClr val="ffffff"/>
                </a:solidFill>
                <a:uFillTx/>
                <a:latin typeface="Calibri"/>
              </a:rPr>
              <a:t>-1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2314800" y="228600"/>
            <a:ext cx="48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Sample analysis: Felix 9/1/2007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44640" y="309600"/>
            <a:ext cx="7254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47640" y="-27000"/>
            <a:ext cx="784692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47560" y="-27000"/>
            <a:ext cx="804708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7:40:25Z</dcterms:created>
  <dc:creator>Robert.Rogers</dc:creator>
  <dc:description/>
  <dc:language>en-US</dc:language>
  <cp:lastModifiedBy>Robert.Rogers</cp:lastModifiedBy>
  <dcterms:modified xsi:type="dcterms:W3CDTF">2010-06-16T18:24:35Z</dcterms:modified>
  <cp:revision>6</cp:revision>
  <dc:subject/>
  <dc:title>Slide 1</dc:title>
</cp:coreProperties>
</file>