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B35-DD45-4DA9-A14A-7B893B00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52F-2567-47AC-8FCD-9AA4AB88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B00-682E-4806-893F-51DA8508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F28-A6B5-47AF-986A-5D01E376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35C-D696-4699-ADDF-477241C8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56D-B7CE-4F44-B70A-A76545E2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F8D-20D8-4F2A-9111-6018E0EF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2A13-EDBD-4C9B-9299-9FDAEB31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AB0-6478-4D87-9FCF-C0B0465A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15D-D149-4A8A-9063-A8D6479A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E97-EDC0-4B0D-800D-E3E48E24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011-15D9-4045-8028-6F7EAB96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88BB-626E-46A3-AB1F-786684DB5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REALTIME DROPSONDE DATA DECO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sonde travels horizontally as it fall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more than 1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from release until splash is at le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optic scale data-assimilation assumes single time &amp; horizontal location (launch time (1 min) / location(.1 de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resolution modeling / data assimilation requires accurate time and position data in order to resolve smaller scal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drop messages contain release and splash times / locations sinc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time tempdrop messages can now be decoded in a format better suited to data 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Original Encoded Message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686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87631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DE #0628393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ZNT13 KWBC 0707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AA  57077 99163 70817 04561 99007 26819 25019 00058 26419 25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2743 21410 26020 85475 17822 26520 70119 09836 25019 88999 77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313 09608 807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1616 NOAA3 WXWXA PALOMA1 OB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62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L 1625N08167W 071428 SPG 1626N08164W 07193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L150 25021 0 85 DLM WND 25521 006644 MBL WND 25521 SST 28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BB  57078 99163 70817 04561 00007 26819 11993 25819 22922 21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874 19633 44820 16205 55763 14250 66686 08821 77674 08443 886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68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212 00007 25019 11859 27020 22808 23519 33766 27024 44714 265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5692 24517 66675 26022 77643 25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313 09608 807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1616 NOAA3 WXWXA PALOMA1 OB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626 REL 1625N08167W 071428 SPG 1626N08164W 071933 WL150 25021 0 85 DLM WND 25521 006644 MBL WND 25521 SST 28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143000" y="3047760"/>
            <a:ext cx="5867280" cy="304560"/>
          </a:xfrm>
          <a:prstGeom prst="rect">
            <a:avLst/>
          </a:prstGeom>
          <a:solidFill>
            <a:srgbClr val="0000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time elapsed between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ottom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ottom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rop Aver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( 2mg/CdA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1/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(Hock &amp; Franklin, 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timate horizontal distance traveled from   dropsonde measured U,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 = U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n = V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culate from surface to flight level and reverse &amp; use aver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cision to .01 degree Lat/Lon (1km), 1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10160" y="380880"/>
            <a:ext cx="480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Interpola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Decoded HSA Forma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133720"/>
            <a:ext cx="457200" cy="44956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133720"/>
            <a:ext cx="1219320" cy="4495680"/>
          </a:xfrm>
          <a:prstGeom prst="rect">
            <a:avLst/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023920"/>
            <a:ext cx="899172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.  643  18.800  81.800 1070.0   25.8   -99.0   1008.0     -12.7    -12.7     MA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3  18.750  81.800 1008.0   25.8   -99.0      -99.0     -99.0    -99.0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3  18.750  81.800 1008.0  -99.0   -99.0      -99.0     -12.7    -12.7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3  18.750  81.800 1007.0   25.6    89.8      -99.0     -99.0     -99.0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3  18.749  81.801 1000.0   25.0    92.1       70.0     -14.2     -11.9     MA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3  18.748  81.803  970.0   -99.0   -99.0      -99.0    -13.4      -11.2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3  18.748  81.803  969.0    22.4  100.0      -99.0     -99.0      -99.0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2  18.747  81.804  938.0   -99.0   -99.0      -99.0    -18.5  -    13.0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2  18.747  81.805  931.0    21.8     83.5      -99.0    -99.0      -99.0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2  18.747  81.805  925.0    21.6     85.6     752.0    -17.8      -10.3     MA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2  18.748  81.805  904.0    19.8     94.9      -99.0    -99.0  -    99.0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1  18.751  81.801  850.0    17.2     98.7   1481.0    -21.6          0.0     MA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1  18.753  81.798  826.0   -99.0   -99.0       -99.0    -20.5         1.8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0  18.754  81.795  813.0    15.8     94.8      -99.0     -99.0     -99.0     SIG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40  18.758  81.783  754.0   -99.0    -99.0       -99.0   -15.4         1.3 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39  18.759  81.774  721.0    10.4   100.0      -99.0     -99.0      -99.0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39  18.760  81.771  711.0   -99.0    -99.0      -99.0     -11.8         8.3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39  18.760  81.768  700.0       9.6    85.2   3121.0      -10.5         7.4    MAN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38  18.760  81.756  661.0       7.0    79.2      -99.0      -99.0      -99.0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38  18.760  81.750  644.0       5.6    97.9      -99.0      -99.0      -99.0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     7.  638  18.760  81.750  644.0    -99.0  -99.0      -99.0      -10.7          5.0    SIG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199400">
            <a:off x="990720" y="1599840"/>
            <a:ext cx="976320" cy="257040"/>
          </a:xfrm>
          <a:prstGeom prst="leftArrow">
            <a:avLst>
              <a:gd name="adj1" fmla="val 50000"/>
              <a:gd name="adj2" fmla="val 94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9312200">
            <a:off x="1676520" y="1600200"/>
            <a:ext cx="976320" cy="247680"/>
          </a:xfrm>
          <a:prstGeom prst="leftArrow">
            <a:avLst>
              <a:gd name="adj1" fmla="val 50000"/>
              <a:gd name="adj2" fmla="val 985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2200" y="1600200"/>
            <a:ext cx="340704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      T      RH    GPH   U       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12560" y="990720"/>
            <a:ext cx="2908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Interpolated Time Lat / 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40200" y="1752480"/>
            <a:ext cx="48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opsonde trajectories (solid) vs interpo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e leg Paloma flight 081107i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609588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4724280"/>
            <a:ext cx="15264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7242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4724280"/>
            <a:ext cx="152280" cy="15264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962520"/>
            <a:ext cx="152640" cy="15228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tran code for decoding tempdrop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ux shell script to read concatenated (.xmt) files or tempdrop and call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format is YYYYMMDDHHMM.h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availability in approximately 1 week (after code clean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 statistics calculations are on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onsideration : add height observation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leve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3:29:49Z</dcterms:created>
  <dc:creator>sellwood</dc:creator>
  <dc:description/>
  <dc:language>en-US</dc:language>
  <cp:lastModifiedBy>sellwood</cp:lastModifiedBy>
  <dcterms:modified xsi:type="dcterms:W3CDTF">2010-02-25T15:49:40Z</dcterms:modified>
  <cp:revision>10</cp:revision>
  <dc:subject/>
  <dc:title>REAL TIME DROPSONDE DATA</dc:title>
</cp:coreProperties>
</file>