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C0180-C164-47DB-A9C4-87101C5E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F318-51E5-4C28-8759-F0E58FE5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6DBB6-69FD-4AD9-9731-6F650BFF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2BDF4-2353-415E-BDD5-8ADC388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33634-E788-4B15-A782-AB49DBC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EE2D3-836F-4FE5-B526-4B78E64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ECF76-101D-4426-99DB-FD841047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4A4D-28C3-4F53-AAC3-5DEB89DD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2666A-4B31-4359-ACB3-D958171B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2EE13-18FA-4209-8F24-905E8914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BE68A-B3FB-4186-AB9F-187DD930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BD9BC-D8BA-4286-8A43-8F2D1426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4699D-476B-45F3-9037-C97B804F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1B311-32F5-4569-8210-2A0B753D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48A16-3F4E-4EDC-9EE4-5DD16AE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CF1AE-455E-4811-8F2C-0A67A9F5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B564E-81C5-42B4-A488-692E8CF2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60B5-8A37-422C-8F35-7AA6312A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99DE9-95B8-44AA-A336-7184CCDF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DE54B-E539-46DC-A591-BA5E66F1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BB210-F818-4CC9-9D5D-ED2FBAE7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424A5-CA40-4E29-AAF1-E722D616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FDF34B-BBB8-44A7-AEFB-272BA041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2B753-2771-4A4F-BB5B-B11A5695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45CD7-5A81-4AEB-BC1A-6799FC29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88CF1-5184-4FB8-8A4D-C3C9D606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7C690-4B7F-40CB-AFB1-F42950A9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E236B-2E5F-4246-BE56-446E7D4A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4821F-202B-4168-9013-35CD4C7B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64EE-5AF8-4203-845E-C689D2B7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C9B-97EF-4AFA-BB20-EAE33E38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AF322-E30F-4896-AC97-3B70870C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89B52-D8CC-4DD0-ADD5-85F8C583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BA033-14B6-4C8D-8690-188574AD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4698D-12EF-4C24-B7CA-BB8A139C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34009-1157-4DDA-8E47-CFE4DEF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A04AD-550C-42EE-9B8E-5D50032C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A47E-6CFD-4B3C-87A8-CA84F3DC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82772-27EB-4FC3-B6F5-6A4A2960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7F192-FB9B-40FC-9609-CE8F1A5B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85E08-4D8E-4F44-9F5D-596D8F4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A97-13D3-4D33-A1C4-9ED987EC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259C8-4AB0-40B3-85CD-B0741075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73559-37F5-4BFF-8BF2-1EAC1DB0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3F40F-2D2F-4378-91B2-79D1BFF4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432A6-90B6-4E1C-879E-83AECFE7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58D9-FEBB-40FA-B7A5-CBC11417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2D6-5601-482F-B63C-F845A65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8C0-05C7-4B72-BA79-CC88DA7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4867-B260-4C76-AEA6-BD54791C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8B9-DC4D-4CC2-A4CF-F94A909E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C19-524A-4BBC-B40D-59A0009E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2CC-41B1-42E5-BF5B-AB2BF6C8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03A-FB79-4324-9652-29EC3CE8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77DF-E9DE-4C87-9D42-B5126520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8634-28BD-454F-99D7-FE52A923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83F-39B1-4607-8C66-A6270B68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5972-6DDE-49B1-89AA-8363429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ECC0-38F2-4966-9EB0-84BA66CD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ECD3-E2CA-4E01-82D6-0C62048A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AC0D-95E3-418A-A9CB-D1EDB9B4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AB57-51D3-41A2-B363-6854F3CD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1658-6913-4752-8E40-4A4F4A3C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71C-8771-40EC-8388-645144F0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CCDD-1E97-4256-B692-6D9452A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B2D5-3EB2-4305-8542-5690424C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00AD-C241-4660-A96B-76F7610B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0BBB-5AD6-4896-B5B3-F3A5A7C1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A28D-0185-44C5-BE17-E20A881B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D56D-02D9-462E-A415-994A5154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28662-4327-4239-953A-1C8C27A1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CB01-3E24-4252-8FF8-27C70F1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5AD2-2963-4A2B-A67F-91756AB7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78AA-671C-4C1A-AE81-BA55076E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7296-9401-469B-A082-13FE1D73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C0ED-1381-4F0E-B32C-AC15DBE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265FC-729B-43CA-B0AB-17E1A5B8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9711-60B5-40DF-92B3-2749B053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EBFC-B042-4983-8526-F455CF1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06F5-B807-41A4-B4F9-4206A941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75AD-4F19-451A-9510-0972FFE7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D40D7-593A-41B2-A673-2A8B4D4F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B95E-3C80-4E8F-8708-675D9B6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0A4DE-0EE5-4F54-A3D6-CF965623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9D23D-A018-40DD-ACD9-9EB510E2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3A81-5927-49E1-BD88-66A79A36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5FF58-939B-4829-8AAF-D31BB857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A05B2-D551-4733-B185-45B22E48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510DC-6C06-42F6-815E-B53DC667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AECA0-D382-4B57-864D-C43B80E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8062-AC25-4185-B648-9871BA1C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1A06-C69F-49A0-981C-C8FF48AF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E0825-7EE4-4421-BFF7-6A65C1C0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6BA6-53DF-4E78-AA0B-49F6A387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87930-6493-411E-8A43-193EFB96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69C9-556F-4DDC-80FD-FE26D48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EF47-B306-48D0-93FA-2E4288CA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5720-BFC0-4C90-B913-DCE31A05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BCF3-6A9C-45C3-B9C4-CF2B371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BC92-E761-4146-9CA6-08C85B3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3703F-A50E-4783-B23D-A596C403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5DDA-A2C0-4611-8462-3DB8ADD6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DA52-EF09-469F-8A31-77A1BAF0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77A1-5B94-4B9E-9B11-460D32EB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B584-6387-4621-98AF-DCDBE1C3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1F06-5DA3-4B22-B97A-7E179F4F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9111-6179-416E-9846-9367788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E0C8-FD7C-496A-9822-3072E963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12162-29FF-4DED-9C10-1FBD178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4881-6F85-4CC3-8670-18A60FAB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A682-5693-4E6E-8412-50E81EF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8EE83-88D9-4672-8CC1-9562C81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767A8-6E83-4474-99D9-AD7BD6D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DBA7F-BD50-45CA-AF8C-2B472CF0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30DD3-D40A-4635-8EB8-B389B42C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CEF6D-9E53-4DEE-91FA-F3A3778F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339D5-8BF7-420C-AD15-A6A6AE15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8BCF8-60D7-403C-B26D-A6D78404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FAFD8-9D9F-4602-A16D-8506783A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FCFCC-3141-4BFF-B9CC-F0212ADA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E5A69-1C72-46BD-927B-B22263A6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30776-56BC-468C-90B0-F5D5E41E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12AF-086D-490C-A4B3-2E9FE524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CD7A2-1336-4A3E-98F0-1D7FF48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A33E0-CF60-4F2B-B96B-34500162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6BECC-078F-4333-9946-807832E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4024800"/>
            <a:ext cx="822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6A180-8900-4B07-9B86-EC3E426B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4024800"/>
            <a:ext cx="4015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E4A47-8C75-48A0-B513-470B24E3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4024800"/>
            <a:ext cx="26496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4DA3F-B4F3-41C3-9AA3-7BAB8D85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C9318-5E3F-48B5-90D0-7329D453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0CB94-55EF-4485-A150-74C09A8E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6F7F8-109C-4DE1-98F2-8D1B122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31D17-6F49-44AE-91AA-ED5633420E8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FF1AC-C678-4FEA-BA5A-10C1AD00AB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F5F56-AC88-4860-B863-70532CD182B8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0592A-403D-43B5-9D14-4A3BFAAFC2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BCEDC-3410-417F-B546-ACEF62EC0D4B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2FACF-5338-46C6-9998-E601A77A9C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ACF5A-9203-4AA6-92A7-E21FF49C59BD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83169-49C2-46EB-BB93-A64A24E82C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5CEE7-694D-4688-AFE7-DFBBA80DD37B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CADC5-F311-45FA-8AC0-9020EBCE3C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A488-9736-447B-9C2E-91DC229FD206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C7A46-2F7F-4057-A520-ADDACEA97AF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BB9F6-24EA-4A05-9BD9-5383021232A6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F64C6-396F-4630-93C1-CB9E103086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EEFCF-5E63-4057-AC19-929A58A2B306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EDFF1E-0C1D-42E7-BD2E-F7CD78D5B1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1D73BE-61AD-4945-AC10-16F57539A685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6CE4A-671F-46E4-B40B-29847D1FC9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38462-42C8-4895-9531-B296967E901D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5A8BD-F0B5-4939-93C3-86806A3EC1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5CF8C-DD03-4C1E-AAA4-F5E0252CD8C9}" type="datetime">
              <a:rPr b="0" lang="en-US" sz="18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09EC9-E567-4175-B215-A186A626BF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76200" y="660240"/>
            <a:ext cx="8383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C Position and Intensity Errors and Their Role in Ensemble Assimi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14400" y="2589120"/>
            <a:ext cx="73152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yan D. Torn, Univ. at Albany, SU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ualbany_logo.png"/>
          <p:cNvPicPr/>
          <p:nvPr/>
        </p:nvPicPr>
        <p:blipFill>
          <a:blip r:embed="rId1"/>
          <a:stretch/>
        </p:blipFill>
        <p:spPr>
          <a:xfrm>
            <a:off x="339840" y="4429080"/>
            <a:ext cx="2963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ction Assimila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006560" y="1096920"/>
            <a:ext cx="71308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and intensity errors vary by quite a bit depending on intensity of the 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and 6 h forecast TC position and intensity errors fairly insensitive to observation error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ity slightly lower error, likely due to more MSLP observations getting through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95200" y="1180800"/>
            <a:ext cx="85456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e assimilation systems use flow dependent covariances; therefore, it is possible to assimilate the TC position and MSLP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fully would alleviate the need for vortex bogusing and repositioning as a separate step during assimi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observation errors to do this.  Not clear what the appropriate values are.  Most studies to date have used ~20 km for position, 2-3 hPa for MS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 to estimate appropriate values and determine the sensitivity to these values within a cycling ensemble assimilation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servation Est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 error values using data from 2000-2009 Atlantic Basi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uncertainty obtained from NHC text advisory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LP uncertainty estimated by comparing Dvorak MSLP estimates with aircraft observations within one hour of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tion Uncertain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advisory_uncertainty.png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SLP Err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dvorak_mslp_error.png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 Number Err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5" descr="dvorak_tval_error.png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imilation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18080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F ARW (v3.1), 36 km horizontal resolution, 96 ensemble members, DART assimilation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assimilated each six hours from surface and marine stations 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f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rawinsondes, synoptic dropsondes, ACARS, sat. winds, TC position and minimum S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Content Placeholder 2"/>
          <p:cNvSpPr/>
          <p:nvPr/>
        </p:nvSpPr>
        <p:spPr>
          <a:xfrm>
            <a:off x="455760" y="3522600"/>
            <a:ext cx="322740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cle from 0000 UTC 12 August to 0600 UTC 14 September 2008 (captures Fay, Gustav, Hanna, Ike, Joseph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2009082200_obs.png"/>
          <p:cNvPicPr/>
          <p:nvPr/>
        </p:nvPicPr>
        <p:blipFill>
          <a:blip r:embed="rId1"/>
          <a:stretch/>
        </p:blipFill>
        <p:spPr>
          <a:xfrm>
            <a:off x="3683160" y="3219480"/>
            <a:ext cx="52196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18080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Case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.1 longitude (11 km) in lat/l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hPa for MS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ological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NHC uncertainty f(TC categ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orak Error f(TC categ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Dependent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C advisory uncerta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hPa if aircraft obs. exist, Dvorak error f(TC category) other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1006560" y="1096920"/>
            <a:ext cx="71308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1:13:45Z</dcterms:created>
  <dc:creator>Ryan Torn</dc:creator>
  <dc:description/>
  <dc:language>en-US</dc:language>
  <cp:lastModifiedBy>Ryan Torn</cp:lastModifiedBy>
  <dcterms:modified xsi:type="dcterms:W3CDTF">2010-02-25T01:25:05Z</dcterms:modified>
  <cp:revision>52</cp:revision>
  <dc:subject/>
  <dc:title>Ensemble-Based Data Assimilation and Hurricane Prediction</dc:title>
</cp:coreProperties>
</file>