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2C8-6E7C-47F9-9186-0913752A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2CF-0779-40C7-B794-C159E33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D1D-AD80-4AA1-82F7-E06A94E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50B-74F9-4BA0-81D0-158FE7E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630-02AD-4A1F-A093-4B60CD0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7BD-3B6B-4462-A228-13B5C5D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0E7-B64F-4EDA-93A7-76700C6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4AA-65BF-4BC3-AB8B-B6AF05C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6EF-3359-463B-A74D-2E3C012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ED3-8B58-4E39-97E8-18E58BF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0AA-0A64-45FD-9D07-2F45617C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37F-F0A3-4375-BA1B-894F8C1A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370D-C20C-4677-AB88-BA90061C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EB3-3E7C-44A4-9146-8074996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9E8A-1D32-4C5A-879B-E604D03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D01-1A9A-45A9-B5E6-60DE7F55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E20-D7C7-4563-AD6B-6EF7581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7075-34BB-4EB4-AC7F-039DD4E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53FA-67B7-4C01-B5EF-E4A6CF6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18FF-83A9-4DDB-B54F-E303E23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8A2-E4FA-4DF4-9CAB-A0C0B8F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9FC8-1A20-44D4-9CC5-D683B43A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E64-078A-4A99-80A8-F94B07A6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0D96-E515-49FC-950E-16F3DFB3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5a"/>
            </a:gs>
            <a:gs pos="100000">
              <a:srgbClr val="7b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618ffd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8cf4ea"/>
              </a:buClr>
              <a:buSzPct val="65000"/>
              <a:buFont typeface="Zapf Dingba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7b00e4"/>
                </a:gs>
                <a:gs pos="50000">
                  <a:srgbClr val="18002d"/>
                </a:gs>
                <a:gs pos="100000">
                  <a:srgbClr val="7b00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AA15-15B4-47AC-94E1-3FF12D0E69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8C5C-5863-4D40-9138-62ABA4C4A5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5a"/>
            </a:gs>
            <a:gs pos="100000">
              <a:srgbClr val="7b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cf4ea"/>
                </a:solidFill>
                <a:latin typeface="Times New Roman"/>
              </a:rPr>
              <a:t>Launch, command and control test flight of BAE’s Coyote UAS</a:t>
            </a:r>
            <a:br>
              <a:rPr sz="3700"/>
            </a:br>
            <a:r>
              <a:rPr b="0" lang="en-US" sz="3700" spc="-1" strike="noStrike">
                <a:solidFill>
                  <a:srgbClr val="8cf4ea"/>
                </a:solidFill>
                <a:latin typeface="Times New Roman"/>
              </a:rPr>
              <a:t>using NOAA’s P-3 aircraft</a:t>
            </a:r>
            <a:endParaRPr b="0" lang="en-US" sz="37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861"/>
                </a:solidFill>
                <a:latin typeface="Times New Roman"/>
              </a:rPr>
              <a:t>Joseph Cione NOAA/Hurricane Research Divis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861"/>
                </a:solidFill>
                <a:latin typeface="Times New Roman"/>
              </a:rPr>
              <a:t>Nancy Ash NOAA/AOC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861"/>
                </a:solidFill>
                <a:latin typeface="Times New Roman"/>
              </a:rPr>
              <a:t>Eric Uhlhorn NOAA/AOML/HR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861"/>
                </a:solidFill>
                <a:latin typeface="Times New Roman"/>
              </a:rPr>
              <a:t>Sylvie Lorsolo NOAA/AOML/HR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ptember 20th, 2009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2578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5a"/>
            </a:gs>
            <a:gs pos="100000">
              <a:srgbClr val="7b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cf4ea"/>
                </a:solidFill>
                <a:latin typeface="Times New Roman"/>
              </a:rPr>
              <a:t>Coyote UAS Test Flight 090920I1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7760" y="6094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326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Coyote Flight 9/20/2009  Into Warning Area 174 (NW of Key West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Times New Roman"/>
              </a:rPr>
              <a:t>Mission Plan: Launch, command &amp; control Coyote using NOAA P-3 aircraf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Coyote UAS were brought onboard the manned aircraft.  The plan was to deploy two UAS with the third to at as a back up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ience team members.  Cione, Uhlhorn, Lorsolo (HRD); Ash (AOC); Corcoran, Osbrink (BAE Syste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ssion Synopsis: Takeoff: 930am local out of MacDill Air Force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~1030am:  First Coyote deployed.  Parachute malfunction resulted in fast fall.  First UAS test release was unsuccessfu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yote 2: BAE had problems with initialization.  Effort abor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~1230pm: Began initializing Coyote #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rd (and final) Coyote UAS launch was a success.  Release time ~1pm 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al plan: Fly UAS within a 3mi x 3 mi  ‘box pattern’.  Coyote deployed from P-3 @10,000ft .  Before activating the UAS’ (electric) motor remotely, the Coyote was required to establish 5,000 ft separation with 43.  After several minutes of controlled glide descent, the Coyote was fully operational @5000ft.  Coyote continued descent to 1,000ft.  The remainder of the flight consisted of repeated ascending and descending controlled soundings between 600-1000ft.  The last 5-10 minutes of the flight included control stair-step descent from ~600ft UAS down to ~64ft.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GPS sondes were released during the 50-minute UAS test flight.  The last drop occurred as the UAS was at ~100ft altitude.  5000 ft vertical/3-5min horizontal separation was maintained.  The P-3 conducted ‘multiple spirals’ centered on the Coyote 3mi x 3mi boxed flight plan below. (Planned) ‘lost comms’ checks worked as expec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ther issues/lessons learned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E’s difficulty in attaining  timely UAS pre-flight initialization.  Not a straightforward process.  It was however the 1st  time BAE operated/worked with the P-3/AOC personne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aker than expected P-3/UAS in-flight communications.  This, despite 3-5mi/5000kft minimal separation in clear air. After speaking with BAE engineers, they are confident gain can be greatly improved with a stronger antenna/receiver system.  BAE says they already have a fix for this and expect no issues going forwar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300"/>
              </a:spcBef>
              <a:buClr>
                <a:srgbClr val="8cf4ea"/>
              </a:buClr>
              <a:buSzPct val="75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rt battery life.  The 50minute duration will be dramatically increased once a shorter pre-flight routine is established.  Reducing/eliminating ‘up soundings’ would also increase duration.  BAE also feels that increased battery power (for enhanced duration) is very possible and should not be a major issue going forwar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1352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5a"/>
            </a:gs>
            <a:gs pos="100000">
              <a:srgbClr val="7b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55840" y="155520"/>
            <a:ext cx="181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89000" y="0"/>
          <a:ext cx="52945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0"/>
                    <a:ext cx="5294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5a"/>
            </a:gs>
            <a:gs pos="100000">
              <a:srgbClr val="7b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55840" y="155520"/>
            <a:ext cx="181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753480" cy="87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New (and improved) Concept of Operations for Low Altitude Hurricane Missions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using the Coyote unmanned air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8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Fill existing critical low altitude data void in hurricanes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Safely provide continuous observations of T,P,V, q below 200f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Enhance future observational capabilities (via payload development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nsure safe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No need for low level manned flight in hurricanes (i.e. below 5000ft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Operations fall within NOAA’s existing comprehensive OR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Onboard P-3 command and control maximizes efficient communic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Fully integrate with NOAA’s existing research, operational &amp; manned aircraft asset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Leverage existing NOAA resources (AOC, HRD, NHC, EMC, HFIP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omplement existing NOAA-P3 onboard systems &amp; observational tool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Utilize existing P-3 AXBT deployment syst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Utilize existing P-3 communication syste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lement existing P-3 GPS AXBT/dropsonde observational syste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Minimize cost (vs. traditional deploy/launch/recover TC UAS low altitude conop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No forward deployment costs/teams require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No pre-mission site survey missions require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No complicated ground-to-plane communications require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spcBef>
                <a:spcPts val="476"/>
              </a:spcBef>
              <a:buClr>
                <a:srgbClr val="8cf4ea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Minimize mission and air-space regulatory risk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8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No ingress and egres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ssuming we have one or more Coyotes available for testing in a Hurricane, and met instrument sensor payload development $$ becomes available soon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What’s next?</a:t>
            </a:r>
            <a:br>
              <a:rPr sz="1800"/>
            </a:br>
            <a:br>
              <a:rPr sz="1100"/>
            </a:b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10 LALE UAS Coyote Hurricane  De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Osaka"/>
              </a:rPr>
              <a:t>(A few) Coyote UAS Mission Possibilities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Osaka"/>
              </a:rPr>
              <a:t>EYE SOUNDINGS/LOITERING/EYE/EYEWALL EXCHANGE EXPTS-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Research objectives: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  <a:ea typeface="Osak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75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Improve understanding of TC eye/eyewall heat moisture and momentum exchange processe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Continuously monitor TC intensity with the possibility of capturing a rapid intensity change event.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Osaka"/>
              </a:rPr>
              <a:t>(This particular module would likely require 2-3 consecutive UAS launch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Osaka"/>
              </a:rPr>
              <a:t>Improve accuracy for TC wind and pressure center fixes?  Highly accurate wind center required for studies investigating radial wind/inflow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Mode of UAS transport: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As the “launch, command and control” P-3 conducts orbits within the eye at altitude (10,000ft), the Coyote UAS could circumnavigate (r=50km) the hurricane at low altitude alternating between the the eye and adjacent eyewall regions.  For the TC intensity change/monitoring/center fix modules, the UAS would remain in the eye and monitor MSLP/ locate/refine wind and pressure center locations.  Occasional eye soundings up to a predetermined altitude would also be possibl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Osaka"/>
              </a:rPr>
              <a:t>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Osaka"/>
              </a:rPr>
              <a:t>	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Osaka"/>
              </a:rPr>
              <a:t>Potential operational benefits?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1. Unique -continuous- measurements of near-surface winds in the eyewall. Should </a:t>
            </a:r>
            <a:r>
              <a:rPr b="1" lang="en-US" sz="1700" spc="-1" strike="noStrike">
                <a:solidFill>
                  <a:srgbClr val="ffff00"/>
                </a:solidFill>
                <a:latin typeface="Arial"/>
                <a:ea typeface="Osaka"/>
              </a:rPr>
              <a:t>greatly help NHC better estimate “maximum surface wind speed”.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2. Possible </a:t>
            </a:r>
            <a:r>
              <a:rPr b="1" lang="en-US" sz="1700" spc="-1" strike="noStrike" u="sng">
                <a:solidFill>
                  <a:srgbClr val="ffff00"/>
                </a:solidFill>
                <a:uFillTx/>
                <a:latin typeface="Arial"/>
                <a:ea typeface="Osaka"/>
              </a:rPr>
              <a:t>early detection of a rapid intensity change proces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Osaka"/>
              </a:rPr>
              <a:t> as ‘loitering’ in the eye takes plac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2:53:11Z</dcterms:created>
  <dc:creator>mack jax</dc:creator>
  <dc:description/>
  <cp:keywords/>
  <dc:language>en-US</dc:language>
  <cp:lastModifiedBy>Office 2004 Test Drive User</cp:lastModifiedBy>
  <cp:lastPrinted>2003-01-17T15:19:02Z</cp:lastPrinted>
  <dcterms:modified xsi:type="dcterms:W3CDTF">2009-10-07T19:41:39Z</dcterms:modified>
  <cp:revision>626</cp:revision>
  <dc:subject/>
  <dc:title>PowerPoint Presentation  -  Track-Dependant SST Change (T-DESC) experiment  (see pp17-19 HFP 2002)</dc:title>
</cp:coreProperties>
</file>