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C78D-69CE-4EB8-8863-C06655AE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22D8-42EB-413E-8519-9E849760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F74F-839B-4122-8F4C-81FCFD86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618-591C-41B6-9E1E-E47C0B26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C2D-E351-4441-9A9B-A468026E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444-AFDE-4B71-B5DD-A60347B0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2C2-2400-4786-87D7-F5240AFF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1C9-E977-4C7C-A309-99B5F514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09A-16E8-4B2B-8094-F3367201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B02-6610-41C0-A640-1A3BCD60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AE6-15DC-4822-8C89-9461BF8D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5D9-117D-429B-883E-1FA7357E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2318-C543-4762-B1A2-87BD3D098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rlmry.navy.mil/coamps-web/web/t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295280"/>
            <a:ext cx="8686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and built the first web site for real-time tropical cyclone prediction and verification in support of COAMPS TC forecasts for HFIP Demo and ITOP projects for different regions (Atlantic, eastern, central and western Pacifi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d a unique and convenient TC sorting method based on the TC storm lists, the date, or a monthly calendar with all available storm forecas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uilt easy navigating features: animation, frame by frame, different date group, different variables, and at different scales (from regional scale, mesoscale, to vortex scale)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detect the forecast lengths automatica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reated plots for both forecast and diagnosis purposes (from surface to different pressure levels, track and intensity forecasts) with a simple clic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andling more than 5.5 GB data from each forecast.  Created 17000 plots for each forecast. Even bigger amount data when there were several storms during the same peri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uilt TPW with the similar color scale to satellite plots and extended the maximum to cover the small scale features. Overlaid it with 850hPa and 700hPa Wi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reated 10 wind in knot with 34, 50 and 64 knot contours to be comparable with H-Wind Analy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tegrated the track verification OFCL and BEST track and multi-model comparis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andling the precipitation datasets of the moving nest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d programs to plot the zoomed-in region around TC tracks in a merged dom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ll under development; comments and suggestions are welc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304920"/>
            <a:ext cx="79250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MPS Tropical Cyclone Prediction and Ver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rlmry.navy.mil/coamps-web/web/t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o Jin and COAMPS-TC team, N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0:34:16Z</dcterms:created>
  <dc:creator>Dr. Hao Jin</dc:creator>
  <dc:description/>
  <dc:language>en-US</dc:language>
  <cp:lastModifiedBy>Dr. Hao Jin</cp:lastModifiedBy>
  <dcterms:modified xsi:type="dcterms:W3CDTF">2009-10-07T21:20:38Z</dcterms:modified>
  <cp:revision>61</cp:revision>
  <dc:subject/>
  <dc:title>Slide 1</dc:title>
</cp:coreProperties>
</file>