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3657600" y="2184480"/>
            <a:ext cx="5676840" cy="538488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0" y="501480"/>
            <a:ext cx="1278900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moving SAS convection significantly degraded track forecas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501480"/>
            <a:ext cx="1278900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moving SAS made little difference to intensity forecas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3657600" y="2184480"/>
            <a:ext cx="567684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501480"/>
            <a:ext cx="1278900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emoving SAS made little difference to intensity bias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3657600" y="2184480"/>
            <a:ext cx="5676840" cy="538488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127080" y="7524720"/>
            <a:ext cx="1278900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is is only a preliminary look.  We must look at TC structure and rainfall to make any conclus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