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57A7-1333-476B-81CA-0907629B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988-B82D-4F3B-8669-6E0D06D5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3BC-F7E1-48B2-AD7B-FACF9E4C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06A-B9E7-4BC1-BEFE-4A7EF05D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377-DB6A-404C-9BFB-3CB60D92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258-E1FF-4F30-84C0-2EA43621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E24-B69F-47B0-8612-61303024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7E3-0F57-4C8F-AA3F-3BD4ADA3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2D6C-1108-404E-AE8E-20FA304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8BE-EA49-4EDD-A4E0-9F48709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81D8-F63D-4471-88B2-6BEDC188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759-6B07-441D-87BE-135C5355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E955-174D-4F5A-8C0E-17CFC6F4D4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6719-9291-4241-99A2-A6C29DE5E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ess on the third nest 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7315200" y="6324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ENRI10L-2009100712_HWRFx-HFIP-DEMO_wind-swath.gif"/>
          <p:cNvPicPr/>
          <p:nvPr/>
        </p:nvPicPr>
        <p:blipFill>
          <a:blip r:embed="rId1"/>
          <a:srcRect l="14400" t="4800" r="9600" b="8000"/>
          <a:stretch/>
        </p:blipFill>
        <p:spPr>
          <a:xfrm>
            <a:off x="609480" y="162000"/>
            <a:ext cx="2606760" cy="22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ENRI10L-2009100800_HWRFx-HFIP-DEMO_wind-swath.gif"/>
          <p:cNvPicPr/>
          <p:nvPr/>
        </p:nvPicPr>
        <p:blipFill>
          <a:blip r:embed="rId2"/>
          <a:srcRect l="14400" t="4800" r="9600" b="8000"/>
          <a:stretch/>
        </p:blipFill>
        <p:spPr>
          <a:xfrm>
            <a:off x="3276720" y="162000"/>
            <a:ext cx="2606400" cy="22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ENRI10L-2009100812_HWRFx-HFIP-DEMO_wind-swath.gif"/>
          <p:cNvPicPr/>
          <p:nvPr/>
        </p:nvPicPr>
        <p:blipFill>
          <a:blip r:embed="rId3"/>
          <a:srcRect l="14400" t="4800" r="9600" b="8000"/>
          <a:stretch/>
        </p:blipFill>
        <p:spPr>
          <a:xfrm>
            <a:off x="5973840" y="149400"/>
            <a:ext cx="2604960" cy="2242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HENRI10L-2009100712_WRF-DEMO_wind-swath.gif"/>
          <p:cNvPicPr/>
          <p:nvPr/>
        </p:nvPicPr>
        <p:blipFill>
          <a:blip r:embed="rId4"/>
          <a:srcRect l="14400" t="9600" r="9600" b="8000"/>
          <a:stretch/>
        </p:blipFill>
        <p:spPr>
          <a:xfrm>
            <a:off x="609480" y="2417760"/>
            <a:ext cx="2606760" cy="2119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ENRI10L-2009100800_WRF-DEMO_wind-swath.gif"/>
          <p:cNvPicPr/>
          <p:nvPr/>
        </p:nvPicPr>
        <p:blipFill>
          <a:blip r:embed="rId5"/>
          <a:srcRect l="14400" t="9600" r="9600" b="8000"/>
          <a:stretch/>
        </p:blipFill>
        <p:spPr>
          <a:xfrm>
            <a:off x="3276720" y="2417760"/>
            <a:ext cx="2606400" cy="2119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ENRI10L-2009100812_WRF-DEMO_wind-swath.gif"/>
          <p:cNvPicPr/>
          <p:nvPr/>
        </p:nvPicPr>
        <p:blipFill>
          <a:blip r:embed="rId6"/>
          <a:srcRect l="14400" t="9600" r="9600" b="8000"/>
          <a:stretch/>
        </p:blipFill>
        <p:spPr>
          <a:xfrm>
            <a:off x="5973840" y="2408400"/>
            <a:ext cx="2604960" cy="2119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HENRI10L-2009100712_WRF-DEMO-NEW_wind-swath.gif"/>
          <p:cNvPicPr/>
          <p:nvPr/>
        </p:nvPicPr>
        <p:blipFill>
          <a:blip r:embed="rId7"/>
          <a:srcRect l="14400" t="9600" r="9600" b="4800"/>
          <a:stretch/>
        </p:blipFill>
        <p:spPr>
          <a:xfrm>
            <a:off x="609480" y="4562640"/>
            <a:ext cx="2606760" cy="2199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HENRI10L-2009100800_WRF-DEMO-NEW_wind-swath.gif"/>
          <p:cNvPicPr/>
          <p:nvPr/>
        </p:nvPicPr>
        <p:blipFill>
          <a:blip r:embed="rId8"/>
          <a:srcRect l="14400" t="9600" r="9600" b="4800"/>
          <a:stretch/>
        </p:blipFill>
        <p:spPr>
          <a:xfrm>
            <a:off x="3276720" y="4564080"/>
            <a:ext cx="2606400" cy="2201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HENRI10L-2009100812_WRF-DEMO-NEW_wind-swath.gif"/>
          <p:cNvPicPr/>
          <p:nvPr/>
        </p:nvPicPr>
        <p:blipFill>
          <a:blip r:embed="rId9"/>
          <a:srcRect l="14400" t="9600" r="9600" b="4800"/>
          <a:stretch/>
        </p:blipFill>
        <p:spPr>
          <a:xfrm>
            <a:off x="5970600" y="4564080"/>
            <a:ext cx="2604960" cy="22017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3"/>
          <p:cNvSpPr/>
          <p:nvPr/>
        </p:nvSpPr>
        <p:spPr>
          <a:xfrm>
            <a:off x="7391520" y="6248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. Zh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1908000" y="90972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1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U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4"/>
          <p:cNvSpPr/>
          <p:nvPr/>
        </p:nvSpPr>
        <p:spPr>
          <a:xfrm>
            <a:off x="4575240" y="9144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1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0 U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7318440" y="9144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1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 U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 rot="16200000">
            <a:off x="-528480" y="1223280"/>
            <a:ext cx="182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RFx oper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 rot="16200000">
            <a:off x="-122400" y="328104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RFx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 rot="16200000">
            <a:off x="-112680" y="541440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WRFx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art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Chart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1:46:35Z</dcterms:created>
  <dc:creator>xzhang</dc:creator>
  <dc:description/>
  <dc:language>en-US</dc:language>
  <cp:lastModifiedBy>Seminar</cp:lastModifiedBy>
  <dcterms:modified xsi:type="dcterms:W3CDTF">2009-10-15T14:44:52Z</dcterms:modified>
  <cp:revision>16</cp:revision>
  <dc:subject/>
  <dc:title>Progress on the third nest  development</dc:title>
</cp:coreProperties>
</file>