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D497-0579-44B5-8B44-836AEA12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F96-DFBD-4E0D-A0ED-B46C48A6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90A-B185-4DB2-83C1-4D1E533F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EBC-CB08-4D12-A4A9-FAA897E0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691-67FB-4E70-ADD4-EE7809D7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D81-AA06-4755-9644-14FDAFB0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E89-4DBC-4AC3-B8AC-88123F0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17A8-05C6-4E3C-AFA4-6B526B55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F80-A185-474A-B623-00B4D739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5F1-998D-4A31-B818-5B1A6FCE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136-5CBF-4B12-A725-B0D27D7A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3B94-B84D-44E8-8DEC-D0F127E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52E-9C5E-4C9C-BB22-5BFBA69F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tus of Restart Tests on HWRF-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-reproducible version of WRF 3.1 fully tested by Zhan Zhang made available on NCEP computer “Vap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itial Strategy was to avoid making modifying AOML HWRF-x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d version was ported to AOML/HRD Linux cluster “Ooyam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mpilation of this model version resulted in numerous errors due to differences in the operating system and compil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tempted to compile on Boulder HPCS computer “W-je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milar compiler errors despite the operating system being similar to the one where tests were initially cond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term solution to conduct tests of the restart capability on NCEP computer “Vapor”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Resul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able to compile the model on thi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ML scripts/code would need to be modified to do any DA tests on this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448000">
            <a:off x="151920" y="3049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969800">
            <a:off x="8065440" y="4687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n Model on Vapor without AOML/HRD code/scripts to confirm restart capa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it to port model to AOML/HRD computing facilities until after we conduct tests of the restart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AOML/HRD DA system with the  updated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4:16:25Z</dcterms:created>
  <dc:creator>sellwood</dc:creator>
  <dc:description/>
  <dc:language>en-US</dc:language>
  <cp:lastModifiedBy>sellwood</cp:lastModifiedBy>
  <dcterms:modified xsi:type="dcterms:W3CDTF">2009-10-14T18:40:19Z</dcterms:modified>
  <cp:revision>7</cp:revision>
  <dc:subject/>
  <dc:title>Status of Restart Tests on HWRF-x</dc:title>
</cp:coreProperties>
</file>