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wmf" ContentType="image/x-wmf"/>
  <Override PartName="/ppt/media/image5.wmf" ContentType="image/x-wmf"/>
  <Override PartName="/ppt/media/image10.png" ContentType="image/png"/>
  <Override PartName="/ppt/media/image35.jpeg" ContentType="image/jpe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3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4DAB8-5CCB-4960-911F-F88F675F96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3966-DDF0-4CE0-A0D8-AC7561347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9EAB-3D9B-4045-9837-A66337058E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0539-D305-4BD1-963F-C14F30F7F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2B4-9062-4EE0-8228-AA4C9C13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88D-E4BF-494E-A27D-5A2FD281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0CB4-B0D7-4493-96E1-3173D9FF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924A-E817-4EAE-89B3-0CFA5E7E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4D7D5-BC36-4AC1-941A-D835ABED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2793-A9E9-4CF2-B927-2E1B8858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55E3-B367-4E9E-8D9B-02D559E9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CB50-0D59-4148-B040-8FE3A550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A017-3323-454F-A9F0-373A000C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95C8-680E-4804-BEBB-9442AA94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182F-F4AF-4E4B-A228-53916514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0B9-C133-43EE-B865-7F34D8C5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9C48-E4EA-4275-B81C-0EAC47E6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793C-64D6-40F3-BFEA-9312ED98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88C6-0F0C-413B-8537-AE1C3F0C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37DE-935C-41AC-B417-BD6C6EB89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3BC9-6819-4A65-B84C-FC845430C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42CF-225C-4B38-AD48-D915AABA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564-0C6E-4BC7-ACC2-2C1F67FD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7457-47AD-48EB-B378-49D9EA36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BA5-9E63-42D8-A550-4A8BA586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B7B1-6BC0-4BD8-9C93-F12E86B8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D85-C58D-47B6-AD66-E246706E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B225-F080-4B6C-81C3-1A9DFE48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29E8-19D6-46E4-9C8D-B4D255A719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7D0D-D6D7-4D14-99C7-42EF7F371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8028-21AA-4BF3-BCAC-FD2B20415F3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0" y="0"/>
            <a:ext cx="9144000" cy="6858360"/>
            <a:chOff x="0" y="0"/>
            <a:chExt cx="9144000" cy="6858360"/>
          </a:xfrm>
        </p:grpSpPr>
        <p:pic>
          <p:nvPicPr>
            <p:cNvPr id="91" name="Picture 4" descr=""/>
            <p:cNvPicPr/>
            <p:nvPr/>
          </p:nvPicPr>
          <p:blipFill>
            <a:blip r:embed="rId1"/>
            <a:stretch/>
          </p:blipFill>
          <p:spPr>
            <a:xfrm>
              <a:off x="3981600" y="0"/>
              <a:ext cx="5162400" cy="68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5"/>
            <p:cNvSpPr/>
            <p:nvPr/>
          </p:nvSpPr>
          <p:spPr>
            <a:xfrm>
              <a:off x="228600" y="304560"/>
              <a:ext cx="3886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manuel (1995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x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m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ric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lab boundary 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gradient w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lk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L parameteriz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drag coefficient (momentu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enthalpy coeffic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Object 6"/>
                <p:cNvSpPr txBox="1"/>
                <p:nvPr/>
              </p:nvSpPr>
              <p:spPr>
                <a:xfrm>
                  <a:off x="228600" y="3657600"/>
                  <a:ext cx="3603600" cy="93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x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≈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(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/>
                      </m:sSubSup>
                      <m:r>
                        <m:t xml:space="preserve">−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4" name="Object 7"/>
                <p:cNvSpPr txBox="1"/>
                <p:nvPr/>
              </p:nvSpPr>
              <p:spPr>
                <a:xfrm>
                  <a:off x="0" y="4648320"/>
                  <a:ext cx="388620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r>
                        <m:t xml:space="preserve">[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d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q</m:t>
                      </m:r>
                      <m:r>
                        <m:t xml:space="preserve">]</m:t>
                      </m:r>
                      <m:r>
                        <m:t xml:space="preserve">T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5" name="Text Box 10"/>
            <p:cNvSpPr/>
            <p:nvPr/>
          </p:nvSpPr>
          <p:spPr>
            <a:xfrm>
              <a:off x="457200" y="4876920"/>
              <a:ext cx="2971800" cy="16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~ 1.2 – 1.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K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/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宋体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&gt; 0.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C:\MATLAB7\work\Model\HWRF\Bill2009\BILL03L.2009081600\Bill2009081600_track.tif"/>
          <p:cNvPicPr/>
          <p:nvPr/>
        </p:nvPicPr>
        <p:blipFill>
          <a:blip r:embed="rId1"/>
          <a:stretch/>
        </p:blipFill>
        <p:spPr>
          <a:xfrm>
            <a:off x="152280" y="0"/>
            <a:ext cx="4761000" cy="373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C:\MATLAB7\work\Model\HWRF\Bill2009\BILL03L.2009081600\Bill2009081600_intensity.tif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3"/>
          <a:stretch/>
        </p:blipFill>
        <p:spPr>
          <a:xfrm>
            <a:off x="5105520" y="3241800"/>
            <a:ext cx="3243240" cy="3616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C:\MATLAB7\work\Model\HWRF\Bill2009\BILL03L.2009081600\u10map.tif"/>
          <p:cNvPicPr/>
          <p:nvPr/>
        </p:nvPicPr>
        <p:blipFill>
          <a:blip r:embed="rId4"/>
          <a:stretch/>
        </p:blipFill>
        <p:spPr>
          <a:xfrm>
            <a:off x="4572000" y="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0" name="Picture 2" descr="C:\MATLAB7\work\Model\HWRF\Bill2009\Dropsonde\analysis\track_sonde_loc_0819.t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67080" cy="32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3" descr="C:\MATLAB7\work\Model\HWRF\Bill2009\Dropsonde\analysis\q_0819.tif"/>
            <p:cNvPicPr/>
            <p:nvPr/>
          </p:nvPicPr>
          <p:blipFill>
            <a:blip r:embed="rId2"/>
            <a:stretch/>
          </p:blipFill>
          <p:spPr>
            <a:xfrm>
              <a:off x="4495680" y="3367080"/>
              <a:ext cx="4648320" cy="34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4" descr="C:\MATLAB7\work\Model\HWRF\Bill2009\Dropsonde\analysis\ws_0819.tif"/>
            <p:cNvPicPr/>
            <p:nvPr/>
          </p:nvPicPr>
          <p:blipFill>
            <a:blip r:embed="rId3"/>
            <a:stretch/>
          </p:blipFill>
          <p:spPr>
            <a:xfrm>
              <a:off x="0" y="3429000"/>
              <a:ext cx="43434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C:\MATLAB7\work\Model\HWRF\Bill2009\Dropsonde\analysis\theta_0819.tif"/>
            <p:cNvPicPr/>
            <p:nvPr/>
          </p:nvPicPr>
          <p:blipFill>
            <a:blip r:embed="rId4"/>
            <a:stretch/>
          </p:blipFill>
          <p:spPr>
            <a:xfrm>
              <a:off x="4495680" y="0"/>
              <a:ext cx="4465800" cy="335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1"/>
          <p:cNvGrpSpPr/>
          <p:nvPr/>
        </p:nvGrpSpPr>
        <p:grpSpPr>
          <a:xfrm>
            <a:off x="0" y="0"/>
            <a:ext cx="8915400" cy="6781680"/>
            <a:chOff x="0" y="0"/>
            <a:chExt cx="8915400" cy="6781680"/>
          </a:xfrm>
        </p:grpSpPr>
        <p:pic>
          <p:nvPicPr>
            <p:cNvPr id="175" name="Picture 10" descr="C:\MATLAB7\work\Model\HWRF\Bill2009\BILL03L.2009081600\T10_dist.tif"/>
            <p:cNvPicPr/>
            <p:nvPr/>
          </p:nvPicPr>
          <p:blipFill>
            <a:blip r:embed="rId1"/>
            <a:stretch/>
          </p:blipFill>
          <p:spPr>
            <a:xfrm>
              <a:off x="152280" y="350532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7" descr="C:\MATLAB7\work\Model\HWRF\Bill2009\BILL03L.2009081600\q10_dist.tif"/>
            <p:cNvPicPr/>
            <p:nvPr/>
          </p:nvPicPr>
          <p:blipFill>
            <a:blip r:embed="rId2"/>
            <a:stretch/>
          </p:blipFill>
          <p:spPr>
            <a:xfrm>
              <a:off x="4648320" y="358128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0" descr="C:\MATLAB7\work\Model\HWRF\Bill2009\BILL03L.2009081600\T10_dist_sonde.t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7048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1" descr="C:\MATLAB7\work\Model\HWRF\Bill2009\BILL03L.2009081600\q10_dist_sonde.tif"/>
            <p:cNvPicPr/>
            <p:nvPr/>
          </p:nvPicPr>
          <p:blipFill>
            <a:blip r:embed="rId4"/>
            <a:stretch/>
          </p:blipFill>
          <p:spPr>
            <a:xfrm>
              <a:off x="4267080" y="152280"/>
              <a:ext cx="4368960" cy="32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228600" y="0"/>
            <a:ext cx="8763120" cy="6705720"/>
            <a:chOff x="228600" y="0"/>
            <a:chExt cx="8763120" cy="6705720"/>
          </a:xfrm>
        </p:grpSpPr>
        <p:pic>
          <p:nvPicPr>
            <p:cNvPr id="181" name="Picture 6" descr="C:\MATLAB7\work\Model\HWRF\Bill2009\BILL03L.2009081600\dltT_dist.tif"/>
            <p:cNvPicPr/>
            <p:nvPr/>
          </p:nvPicPr>
          <p:blipFill>
            <a:blip r:embed="rId1"/>
            <a:stretch/>
          </p:blipFill>
          <p:spPr>
            <a:xfrm>
              <a:off x="4419720" y="0"/>
              <a:ext cx="4572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9" descr="C:\MATLAB7\work\Model\HWRF\Bill2009\BILL03L.2009081600\sst_dist.tif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8" descr="C:\MATLAB7\work\Model\HWRF\Bill2009\BILL03L.2009081600\q0_dist.tif"/>
            <p:cNvPicPr/>
            <p:nvPr/>
          </p:nvPicPr>
          <p:blipFill>
            <a:blip r:embed="rId3"/>
            <a:stretch/>
          </p:blipFill>
          <p:spPr>
            <a:xfrm>
              <a:off x="228600" y="3505320"/>
              <a:ext cx="426708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9" descr="C:\MATLAB7\work\Model\HWRF\Bill2009\BILL03L.2009081600\dltQ_dist.tif"/>
            <p:cNvPicPr/>
            <p:nvPr/>
          </p:nvPicPr>
          <p:blipFill>
            <a:blip r:embed="rId4"/>
            <a:stretch/>
          </p:blipFill>
          <p:spPr>
            <a:xfrm>
              <a:off x="4495680" y="3353040"/>
              <a:ext cx="4470480" cy="335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C:\MATLAB7\work\Model\HWRF\Bill2009\BILL03L.2009081600\rzmean_rh.jpg"/>
          <p:cNvPicPr/>
          <p:nvPr/>
        </p:nvPicPr>
        <p:blipFill>
          <a:blip r:embed="rId1"/>
          <a:stretch/>
        </p:blipFill>
        <p:spPr>
          <a:xfrm>
            <a:off x="152280" y="380880"/>
            <a:ext cx="4419720" cy="3532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MATLAB7\work\Model\HWRF\Bill2009\BILL03L.2009081600\cross_rh.jpg"/>
          <p:cNvPicPr/>
          <p:nvPr/>
        </p:nvPicPr>
        <p:blipFill>
          <a:blip r:embed="rId2"/>
          <a:stretch/>
        </p:blipFill>
        <p:spPr>
          <a:xfrm>
            <a:off x="4876920" y="2514600"/>
            <a:ext cx="3581280" cy="38926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4"/>
          <p:cNvSpPr/>
          <p:nvPr/>
        </p:nvSpPr>
        <p:spPr>
          <a:xfrm>
            <a:off x="1523880" y="152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Z mean 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571500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section 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1233360" y="3809880"/>
            <a:ext cx="180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al distance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 rot="16200000">
            <a:off x="-361800" y="189000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itude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7"/>
          <p:cNvSpPr/>
          <p:nvPr/>
        </p:nvSpPr>
        <p:spPr>
          <a:xfrm rot="16200000">
            <a:off x="4285800" y="425232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itude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5796360" y="6400800"/>
            <a:ext cx="164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W distance (k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2" descr="C:\MATLAB7\work\Papers\Now\Mean_HBL_Struc\Figure5.tif"/>
          <p:cNvPicPr/>
          <p:nvPr/>
        </p:nvPicPr>
        <p:blipFill>
          <a:blip r:embed="rId1"/>
          <a:stretch/>
        </p:blipFill>
        <p:spPr>
          <a:xfrm>
            <a:off x="152280" y="914400"/>
            <a:ext cx="4496040" cy="5681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4724280" y="1143000"/>
            <a:ext cx="4267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Idealized simulations to do sensitivity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e case studies such as Bill, evaluating the boundary layer and surface laye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e model outputs with observations in the composite analysis point of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38088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9"/>
          <p:cNvGrpSpPr/>
          <p:nvPr/>
        </p:nvGrpSpPr>
        <p:grpSpPr>
          <a:xfrm>
            <a:off x="990720" y="228600"/>
            <a:ext cx="8381880" cy="6246720"/>
            <a:chOff x="990720" y="228600"/>
            <a:chExt cx="8381880" cy="6246720"/>
          </a:xfrm>
        </p:grpSpPr>
        <mc:AlternateContent>
          <mc:Choice xmlns:a14="http://schemas.microsoft.com/office/drawing/2010/main" Requires="a14">
            <p:sp>
              <p:nvSpPr>
                <p:cNvPr id="105" name="Object 2"/>
                <p:cNvSpPr txBox="1"/>
                <p:nvPr/>
              </p:nvSpPr>
              <p:spPr>
                <a:xfrm>
                  <a:off x="1905120" y="4114800"/>
                  <a:ext cx="419076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Dz</m:t>
                          </m:r>
                        </m:sub>
                      </m:sSub>
                      <m:r>
                        <m:t xml:space="preserve"> 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z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U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Object 3"/>
                <p:cNvSpPr txBox="1"/>
                <p:nvPr/>
              </p:nvSpPr>
              <p:spPr>
                <a:xfrm>
                  <a:off x="1828800" y="5029200"/>
                  <a:ext cx="6705720" cy="614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Hz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" name="Object 4"/>
                <p:cNvSpPr txBox="1"/>
                <p:nvPr/>
              </p:nvSpPr>
              <p:spPr>
                <a:xfrm>
                  <a:off x="1828800" y="5867640"/>
                  <a:ext cx="6553080" cy="60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Ez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U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 </m:t>
                          </m:r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r>
                            <m:t xml:space="preserve">z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q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Text Box 13"/>
            <p:cNvSpPr/>
            <p:nvPr/>
          </p:nvSpPr>
          <p:spPr>
            <a:xfrm>
              <a:off x="990720" y="228600"/>
              <a:ext cx="838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Surface Fluxes and Parameterizat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Object 5"/>
                <p:cNvSpPr txBox="1"/>
                <p:nvPr/>
              </p:nvSpPr>
              <p:spPr>
                <a:xfrm>
                  <a:off x="1892160" y="1218960"/>
                  <a:ext cx="5054400" cy="96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sSup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u</m:t>
                              </m:r>
                              <m:r>
                                <m:t xml:space="preserve">'</m:t>
                              </m:r>
                              <m:r>
                                <m:t xml:space="preserve">w</m:t>
                              </m:r>
                              <m:r>
                                <m:t xml:space="preserve">'</m:t>
                              </m:r>
                            </m:e>
                          </m:ba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bar>
                            <m:barPr>
                              <m:pos m:val="top"/>
                            </m:barPr>
                            <m:e>
                              <m:r>
                                <m:t xml:space="preserve">v</m:t>
                              </m:r>
                              <m:r>
                                <m:t xml:space="preserve">'</m:t>
                              </m:r>
                              <m:r>
                                <m:t xml:space="preserve">w</m:t>
                              </m:r>
                              <m:r>
                                <m:t xml:space="preserve">'</m:t>
                              </m:r>
                            </m:e>
                          </m:ba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  <m:r>
                        <m:t xml:space="preserve">=</m:t>
                      </m:r>
                      <m:sSubSup>
                        <m:e>
                          <m:r>
                            <m:t xml:space="preserve">ρu</m:t>
                          </m:r>
                        </m:e>
                        <m:sub/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ρ</m:t>
                      </m:r>
                      <m:f>
                        <m:num>
                          <m:r>
                            <m:t xml:space="preserve">∂</m:t>
                          </m:r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Object 6"/>
                <p:cNvSpPr txBox="1"/>
                <p:nvPr/>
              </p:nvSpPr>
              <p:spPr>
                <a:xfrm>
                  <a:off x="1905120" y="2209680"/>
                  <a:ext cx="56386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ρ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bar>
                        <m:barPr>
                          <m:pos m:val="top"/>
                        </m:barPr>
                        <m:e>
                          <m:r>
                            <m:t xml:space="preserve">w</m:t>
                          </m:r>
                          <m:r>
                            <m:t xml:space="preserve">'</m:t>
                          </m:r>
                          <m:r>
                            <m:t xml:space="preserve">T</m:t>
                          </m:r>
                          <m:r>
                            <m:t xml:space="preserve">'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/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/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h</m:t>
                          </m:r>
                        </m:sub>
                      </m:sSub>
                      <m:r>
                        <m:t xml:space="preserve">ρ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f>
                        <m:num>
                          <m:r>
                            <m:t xml:space="preserve">∂</m:t>
                          </m:r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1" name="Object 7"/>
                <p:cNvSpPr txBox="1"/>
                <p:nvPr/>
              </p:nvSpPr>
              <p:spPr>
                <a:xfrm>
                  <a:off x="1905120" y="3200400"/>
                  <a:ext cx="5410080" cy="87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ρ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bar>
                        <m:barPr>
                          <m:pos m:val="top"/>
                        </m:barPr>
                        <m:e>
                          <m:r>
                            <m:t xml:space="preserve">w</m:t>
                          </m:r>
                          <m:r>
                            <m:t xml:space="preserve">'</m:t>
                          </m:r>
                          <m:r>
                            <m:t xml:space="preserve">q</m:t>
                          </m:r>
                          <m:r>
                            <m:t xml:space="preserve">'</m:t>
                          </m:r>
                        </m:e>
                      </m:ba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ρL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/>
                      </m:sSub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/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q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ρ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Line 17"/>
          <p:cNvSpPr/>
          <p:nvPr/>
        </p:nvSpPr>
        <p:spPr>
          <a:xfrm>
            <a:off x="2057400" y="1981080"/>
            <a:ext cx="2514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1981080" y="3886200"/>
            <a:ext cx="18288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1905120" y="2895480"/>
            <a:ext cx="19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600200" y="152280"/>
            <a:ext cx="64771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M5 simulation of Hurricane Bo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9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Braun-Tao-Fig3"/>
          <p:cNvPicPr/>
          <p:nvPr/>
        </p:nvPicPr>
        <p:blipFill>
          <a:blip r:embed="rId1"/>
          <a:stretch/>
        </p:blipFill>
        <p:spPr>
          <a:xfrm>
            <a:off x="762120" y="1066680"/>
            <a:ext cx="5076720" cy="5438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6095880" y="12952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un and 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o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248520" y="198108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nsitivity to boundary-layer parame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019920" y="365760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Wingdings 3"/>
                <a:ea typeface="Wingdings 3"/>
              </a:rPr>
              <a:t></a:t>
            </a:r>
            <a:r>
              <a:rPr b="1" lang="en-US" sz="1800" spc="-1" strike="noStrike">
                <a:solidFill>
                  <a:srgbClr val="c0504d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c0504d"/>
                </a:solidFill>
                <a:latin typeface="Times New Roman"/>
              </a:rPr>
              <a:t>Skillful prediction of intensity change requires an accurate representation of the boundary layer</a:t>
            </a:r>
            <a:r>
              <a:rPr b="1" lang="en-US" sz="1800" spc="-1" strike="noStrike">
                <a:solidFill>
                  <a:srgbClr val="c0504d"/>
                </a:solidFill>
                <a:latin typeface="Times New Roman"/>
                <a:ea typeface="宋体"/>
              </a:rPr>
              <a:t> and parameterization of surface fluxes</a:t>
            </a:r>
            <a:r>
              <a:rPr b="1" lang="en-US" sz="1800" spc="-1" strike="noStrike">
                <a:solidFill>
                  <a:srgbClr val="c0504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28600" y="380880"/>
            <a:ext cx="8686800" cy="6096240"/>
          </a:xfrm>
          <a:prstGeom prst="rect">
            <a:avLst/>
          </a:prstGeom>
          <a:solidFill>
            <a:srgbClr val="ffffff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Snap19.jpg"/>
          <p:cNvPicPr/>
          <p:nvPr/>
        </p:nvPicPr>
        <p:blipFill>
          <a:blip r:embed="rId1"/>
          <a:stretch/>
        </p:blipFill>
        <p:spPr>
          <a:xfrm>
            <a:off x="733320" y="490680"/>
            <a:ext cx="7677360" cy="58766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"/>
          <p:cNvSpPr/>
          <p:nvPr/>
        </p:nvSpPr>
        <p:spPr>
          <a:xfrm>
            <a:off x="4496760" y="121932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- unmod Bu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4"/>
          <p:cNvSpPr/>
          <p:nvPr/>
        </p:nvSpPr>
        <p:spPr>
          <a:xfrm>
            <a:off x="2894760" y="20574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mod Bu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653720" y="441972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- M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5932080" y="373392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– Burk Thomp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320880" y="335268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- Black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5962680" y="41148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– Gayno-Sea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5118840" y="4800600"/>
            <a:ext cx="29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 – unmod Gayno-Sea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6934320" y="5867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to Roger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RF Simulation of Hurricane Isab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7" descr="Picture1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971800" y="533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lan, Zhang, Stern, 2009 MW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"/>
          <p:cNvSpPr/>
          <p:nvPr/>
        </p:nvSpPr>
        <p:spPr>
          <a:xfrm>
            <a:off x="5105520" y="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owell et al.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0" y="0"/>
            <a:ext cx="9150480" cy="6858000"/>
            <a:chOff x="0" y="0"/>
            <a:chExt cx="9150480" cy="6858000"/>
          </a:xfrm>
        </p:grpSpPr>
        <p:pic>
          <p:nvPicPr>
            <p:cNvPr id="136" name="Picture 5" descr="cd"/>
            <p:cNvPicPr/>
            <p:nvPr/>
          </p:nvPicPr>
          <p:blipFill>
            <a:blip r:embed="rId1"/>
            <a:stretch/>
          </p:blipFill>
          <p:spPr>
            <a:xfrm>
              <a:off x="228600" y="3429000"/>
              <a:ext cx="3985200" cy="30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7"/>
            <p:cNvSpPr/>
            <p:nvPr/>
          </p:nvSpPr>
          <p:spPr>
            <a:xfrm>
              <a:off x="1676520" y="571500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Donelan et al. 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5" descr="wessex1a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35816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6"/>
            <p:cNvSpPr/>
            <p:nvPr/>
          </p:nvSpPr>
          <p:spPr>
            <a:xfrm>
              <a:off x="1371600" y="75960"/>
              <a:ext cx="3048120" cy="11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EC Data from 8 field experiments : AGILE, AWE, ETCH,GASEX,HEXOS,RASEX, SHOWEX, SWADE, WAVES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4322 pts).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alibri"/>
                </a:rPr>
                <a:t>—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Smith (198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3" descr="C:\MATLAB7\work\Model\HWRF\Bill2009\BILL03L.2009081600\Cd_u10_hwrfx.tif"/>
            <p:cNvPicPr/>
            <p:nvPr/>
          </p:nvPicPr>
          <p:blipFill>
            <a:blip r:embed="rId3"/>
            <a:stretch/>
          </p:blipFill>
          <p:spPr>
            <a:xfrm>
              <a:off x="4496040" y="2874240"/>
              <a:ext cx="4654440" cy="398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4" descr="2"/>
            <p:cNvPicPr/>
            <p:nvPr/>
          </p:nvPicPr>
          <p:blipFill>
            <a:blip r:embed="rId4"/>
            <a:stretch/>
          </p:blipFill>
          <p:spPr>
            <a:xfrm>
              <a:off x="4420080" y="0"/>
              <a:ext cx="4038840" cy="299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2743200" y="228600"/>
            <a:ext cx="19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ARE-3     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COARE 2.5  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Arial"/>
              </a:rPr>
              <a:t>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1"/>
          <p:cNvGrpSpPr/>
          <p:nvPr/>
        </p:nvGrpSpPr>
        <p:grpSpPr>
          <a:xfrm>
            <a:off x="0" y="0"/>
            <a:ext cx="9077400" cy="6858000"/>
            <a:chOff x="0" y="0"/>
            <a:chExt cx="9077400" cy="6858000"/>
          </a:xfrm>
        </p:grpSpPr>
        <p:grpSp>
          <p:nvGrpSpPr>
            <p:cNvPr id="144" name="Group 16"/>
            <p:cNvGrpSpPr/>
            <p:nvPr/>
          </p:nvGrpSpPr>
          <p:grpSpPr>
            <a:xfrm>
              <a:off x="0" y="0"/>
              <a:ext cx="9077400" cy="6858000"/>
              <a:chOff x="0" y="0"/>
              <a:chExt cx="9077400" cy="6858000"/>
            </a:xfrm>
          </p:grpSpPr>
          <p:pic>
            <p:nvPicPr>
              <p:cNvPr id="145" name="Picture 2" descr="Cevsu10_lessthan20ms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115160" cy="304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Rectangle 3"/>
              <p:cNvSpPr/>
              <p:nvPr/>
            </p:nvSpPr>
            <p:spPr>
              <a:xfrm>
                <a:off x="457200" y="152280"/>
                <a:ext cx="471708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O  AGILE    (Donelan &amp; Drennan 1995)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X  HEXOS  (DeCosmo et al 1996)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◊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GASEX  (McGillis et al 200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SOWEX (Banner et al 1999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1000" spc="-1" strike="noStrike">
                    <a:solidFill>
                      <a:srgbClr val="000000"/>
                    </a:solidFill>
                    <a:latin typeface="Calibri"/>
                  </a:rPr>
                  <a:t>□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SWADE  (Katsaros et al 1993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072600"/>
                <a:ext cx="5563080" cy="378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Text Box 13"/>
              <p:cNvSpPr/>
              <p:nvPr/>
            </p:nvSpPr>
            <p:spPr>
              <a:xfrm>
                <a:off x="685800" y="3048120"/>
                <a:ext cx="1447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l-GR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Δ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CBLAST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Picture 6" descr="C:\MATLAB7\work\Model\HWRF\Bill2009\BILL03L.2009081600\Ce_u10_hwrfx.tif"/>
              <p:cNvPicPr/>
              <p:nvPr/>
            </p:nvPicPr>
            <p:blipFill>
              <a:blip r:embed="rId3"/>
              <a:stretch/>
            </p:blipFill>
            <p:spPr>
              <a:xfrm>
                <a:off x="4420080" y="0"/>
                <a:ext cx="4657320" cy="373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15"/>
              <p:cNvSpPr/>
              <p:nvPr/>
            </p:nvSpPr>
            <p:spPr>
              <a:xfrm>
                <a:off x="1752480" y="3352680"/>
                <a:ext cx="2514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(Drennan et al. 2007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Box 11"/>
            <p:cNvSpPr/>
            <p:nvPr/>
          </p:nvSpPr>
          <p:spPr>
            <a:xfrm>
              <a:off x="5487120" y="4572000"/>
              <a:ext cx="35053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1014b0"/>
                  </a:solidFill>
                  <a:latin typeface="Calibri"/>
                </a:rPr>
                <a:t>Zhang, Black, French and Drennan, 2008: </a:t>
              </a:r>
              <a:r>
                <a:rPr b="0" lang="en-US" sz="1800" spc="-1" strike="noStrike">
                  <a:solidFill>
                    <a:srgbClr val="1014b0"/>
                  </a:solidFill>
                  <a:latin typeface="Calibri"/>
                </a:rPr>
                <a:t>First direct measurements of enthalpy flux in the hurricane boundary layer: the CBLAST results. </a:t>
              </a:r>
              <a:r>
                <a:rPr b="0" i="1" lang="en-US" sz="1800" spc="-1" strike="noStrike">
                  <a:solidFill>
                    <a:srgbClr val="1014b0"/>
                  </a:solidFill>
                  <a:latin typeface="Calibri"/>
                </a:rPr>
                <a:t>Geophys. Res. Lett.</a:t>
              </a:r>
              <a:r>
                <a:rPr b="0" lang="en-US" sz="1800" spc="-1" strike="noStrike">
                  <a:solidFill>
                    <a:srgbClr val="1014b0"/>
                  </a:solidFill>
                  <a:latin typeface="Calibri"/>
                </a:rPr>
                <a:t>, </a:t>
              </a:r>
              <a:r>
                <a:rPr b="1" lang="en-US" sz="1800" spc="-1" strike="noStrike">
                  <a:solidFill>
                    <a:srgbClr val="1014b0"/>
                  </a:solidFill>
                  <a:latin typeface="Calibri"/>
                </a:rPr>
                <a:t>35,</a:t>
              </a:r>
              <a:r>
                <a:rPr b="0" lang="en-US" sz="1800" spc="-1" strike="noStrike">
                  <a:solidFill>
                    <a:srgbClr val="1014b0"/>
                  </a:solidFill>
                  <a:latin typeface="Calibri"/>
                </a:rPr>
                <a:t> L14813,  oi:10.1029/2008GL03437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572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coefficient for sensible heat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6" descr="C:\MATLAB7\work\Model\HWRF\Bill2009\BILL03L.2009081600\sfxmap.tif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MATLAB7\work\Model\HWRF\Bill2009\BILL03L.2009081600\delTmap.tif"/>
          <p:cNvPicPr/>
          <p:nvPr/>
        </p:nvPicPr>
        <p:blipFill>
          <a:blip r:embed="rId2"/>
          <a:stretch/>
        </p:blipFill>
        <p:spPr>
          <a:xfrm>
            <a:off x="4675320" y="3429000"/>
            <a:ext cx="4468680" cy="3429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MATLAB7\work\Model\HWRF\Bill2009\BILL03L.2009081600\Chmap.tif"/>
          <p:cNvPicPr/>
          <p:nvPr/>
        </p:nvPicPr>
        <p:blipFill>
          <a:blip r:embed="rId3"/>
          <a:stretch/>
        </p:blipFill>
        <p:spPr>
          <a:xfrm>
            <a:off x="0" y="17524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8" descr="C:\MATLAB7\work\Model\HWRF\Bill2009\BILL03L.2009081600\u10map.tif"/>
          <p:cNvPicPr/>
          <p:nvPr/>
        </p:nvPicPr>
        <p:blipFill>
          <a:blip r:embed="rId1"/>
          <a:stretch/>
        </p:blipFill>
        <p:spPr>
          <a:xfrm>
            <a:off x="76320" y="95400"/>
            <a:ext cx="4190760" cy="314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C:\MATLAB7\work\Model\HWRF\Bill2009\BILL03L.2009081600\Cdmap.tif"/>
          <p:cNvPicPr/>
          <p:nvPr/>
        </p:nvPicPr>
        <p:blipFill>
          <a:blip r:embed="rId2"/>
          <a:stretch/>
        </p:blipFill>
        <p:spPr>
          <a:xfrm>
            <a:off x="0" y="3581280"/>
            <a:ext cx="4368960" cy="327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C:\Documents and Settings\Isaac Ginis\Desktop\Cd_Quadrant_scatter.jpg"/>
          <p:cNvPicPr/>
          <p:nvPr/>
        </p:nvPicPr>
        <p:blipFill>
          <a:blip r:embed="rId3"/>
          <a:stretch/>
        </p:blipFill>
        <p:spPr>
          <a:xfrm>
            <a:off x="4522680" y="838080"/>
            <a:ext cx="4621320" cy="35053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2"/>
          <p:cNvSpPr/>
          <p:nvPr/>
        </p:nvSpPr>
        <p:spPr>
          <a:xfrm>
            <a:off x="5105520" y="3581280"/>
            <a:ext cx="32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to Isaac Gi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3"/>
          <p:cNvSpPr/>
          <p:nvPr/>
        </p:nvSpPr>
        <p:spPr>
          <a:xfrm>
            <a:off x="5181480" y="47242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separate wind speed induced asymmetry from wave effect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685800" y="457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RF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609480" y="3962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RF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5410080" y="8380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pled-Wave model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4:48:37Z</dcterms:created>
  <dc:creator> </dc:creator>
  <dc:description/>
  <dc:language>en-US</dc:language>
  <cp:lastModifiedBy>Seminar</cp:lastModifiedBy>
  <dcterms:modified xsi:type="dcterms:W3CDTF">2009-10-15T14:50:41Z</dcterms:modified>
  <cp:revision>43</cp:revision>
  <dc:subject/>
  <dc:title>Slide 1</dc:title>
</cp:coreProperties>
</file>