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F2D-FA5C-4002-B7EB-A467F959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5019-FE60-4F8E-8189-F76B384B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171-7AF1-4C37-92C9-DB78CF82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88C3-0BF1-43D8-A98B-A096BFA2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56A-15E7-4447-9B4B-2422743A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057-2F82-492F-A37D-C336EAD3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6F0A-2425-4CBB-A9C9-32CD3E97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C7B-67AB-42D4-9A36-C68EB0D1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BD3-314A-4147-BD43-5690EF37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1CDE-CE40-483A-89B8-89DA459F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04F-5BBE-49A7-A4AE-1AFBD9B6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5EA-69A1-4023-BC40-779BA89F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120B-D099-4CA3-8BB4-BC0802734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sitivity tests on the air-sea exchange parameterization using the operational HWR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Kwon (EM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 Cd/Ch options in name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            There are five possible options for cd/ch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_opt  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_opt  =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0"/>
          <a:ext cx="9144000" cy="687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371600" y="3429000"/>
            <a:ext cx="2438280" cy="1295280"/>
          </a:xfrm>
          <a:custGeom>
            <a:avLst/>
            <a:gdLst/>
            <a:ahLst/>
            <a:rect l="l" t="t" r="r" b="b"/>
            <a:pathLst>
              <a:path w="1536" h="816">
                <a:moveTo>
                  <a:pt x="0" y="816"/>
                </a:moveTo>
                <a:cubicBezTo>
                  <a:pt x="328" y="716"/>
                  <a:pt x="656" y="616"/>
                  <a:pt x="912" y="480"/>
                </a:cubicBezTo>
                <a:cubicBezTo>
                  <a:pt x="1168" y="344"/>
                  <a:pt x="1432" y="88"/>
                  <a:pt x="1536" y="0"/>
                </a:cubicBezTo>
              </a:path>
            </a:pathLst>
          </a:custGeom>
          <a:noFill/>
          <a:ln w="381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123720" y="312408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2895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_OPT=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0"/>
          <a:ext cx="3429000" cy="257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3429000" cy="25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38080" y="6094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Cd and Ch are inter-related each other in subroutine MFLUX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676520"/>
            <a:ext cx="3733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=1/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xf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xxf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=1/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xf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*xxf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5053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The variables related to Cd/Ch should be changed with consistent manner to the modified Cd/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5562720"/>
            <a:ext cx="6933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C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aux, tauy,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and so on should be changed subsequ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5181840" cy="3605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572000" cy="371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-533520" y="3321000"/>
            <a:ext cx="4648320" cy="3537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495680" y="3733920"/>
            <a:ext cx="426744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3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19600" y="0"/>
            <a:ext cx="4424400" cy="3421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3260880"/>
            <a:ext cx="4653000" cy="3597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495680" y="3263760"/>
            <a:ext cx="464832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7:03:32Z</dcterms:created>
  <dc:creator>ykwon</dc:creator>
  <dc:description/>
  <dc:language>en-US</dc:language>
  <cp:lastModifiedBy>ykwon</cp:lastModifiedBy>
  <dcterms:modified xsi:type="dcterms:W3CDTF">2009-10-14T17:17:08Z</dcterms:modified>
  <cp:revision>6</cp:revision>
  <dc:subject/>
  <dc:title>Sensitivity tests on the air-sea exchange parameterization using the operational HWRF </dc:title>
</cp:coreProperties>
</file>