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1B8-0BD7-41DC-B049-7309AE44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3E17-2B8E-470F-B1FB-6C7CD2B7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A26-CE18-4F7B-917E-7334A4F4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C61-F008-44E0-8EEF-5EBD36828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E7A3-BA20-463E-88BC-CB564D9F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BB18-8764-45DA-9ED7-CE6E8A2C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1F7-073A-4F72-BE18-D909E0DF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E8C6-F43D-4D30-9D37-EA797E08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2B5-469F-48AC-BA18-7A4E1265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C7E-10B4-41C7-93F1-F38AFA09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FC5-1750-4091-B7DB-1B4530E1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901-BB3C-4CBC-9AA0-ECD02BEF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CBC5-A914-4E11-9A91-9D73E67BD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51080" y="36360"/>
            <a:ext cx="27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Improvements to O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ob Walko - RS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771480"/>
            <a:ext cx="8931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Visited with Bill Cotton’s group at Colorado State University (DOE-funded project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ntinuing implementation into OLAM of their upgraded microphysics sche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which has improvements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a) Categorization of hydrometeors into distinct cla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b) Physical properties of each hydrometeor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) Physical processes experienced by hydromete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d) Representation of how hydrometeor classes interact in coll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e) Microphysical effects of aeros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The CSU code is a bulk microphysics model that approximates hydrometeor diame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spectra with gamma distributions.  However, many auxiliary quantities are pre-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from detailed size-bin calculations and stored during model initialization in order to ga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some of the accuracy of bin microphysics models without any added computational exp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during run-time: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8 prognosed fields (separate hydrometeor categories) in CSU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&gt;100 prognosed fields (many sizes for each category) in bi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The upgraded microphysics will be used in selected case study simulations, inclu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both convective and wintertime precipitating systems.  It will also be used in hurric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simul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2. Studying HYCOM documentation and code in preparation for OLAM-HYCOM coup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(NSF projec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0:39:37Z</dcterms:created>
  <dc:creator>walko</dc:creator>
  <dc:description/>
  <dc:language>en-US</dc:language>
  <cp:lastModifiedBy>walko</cp:lastModifiedBy>
  <dcterms:modified xsi:type="dcterms:W3CDTF">2009-10-14T17:19:42Z</dcterms:modified>
  <cp:revision>6</cp:revision>
  <dc:subject/>
  <dc:title>Slide 1</dc:title>
</cp:coreProperties>
</file>