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581-9E7A-484E-BD31-6E8C924B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63-ADCC-400C-AC80-36742C84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00BB6-6C67-4559-86C6-D654BB3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20952-DAE6-452D-B808-D315F74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DB548-BFA2-4D27-BC01-C908991E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4E9EC-14AE-4834-8E9F-7545F3A7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F5B94-27E3-4078-B245-9171360D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1AE7D-B713-4358-A70E-9E2841F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28C0C-DBBC-45C0-99BF-60C7AA8E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344C1-E057-4C1F-8B68-CDC62808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1D338-AD74-4AC0-8DA8-5E16B1C5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1A28-E936-4D1B-90F6-494ACD36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C5F6-57B3-49E3-B281-D42E03D0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C3DA-AD5C-4595-82C8-56EC95C1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A0A4-B0CE-4403-B305-8F265D1E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8F98-0513-45BF-BDE3-C34AA2FB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F2D2-D5E0-463D-8BA5-006AD6D1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0BDA-E9CE-4276-AB68-75EDD5C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BDD9-7818-4FEC-B8C5-61D56F17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9B07-F4D6-4D25-A1E1-4E721937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6FE-5F4B-47E6-A296-62AB2ED7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781B-FEC7-4421-8A67-AD02F122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783E-91FA-471B-99A5-153CAD4D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6A5-572F-41FB-A542-F11BD22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52F-15F4-4E61-A821-04AAF429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DFBD-05E8-4A9F-88CB-6E458B03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D5919-3DC2-49FD-804F-AA8FA475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2D879-6026-464B-B2B5-6CCBAE6B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605B-9699-405A-8758-55FFE1C5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84C7C-6502-4E88-98AF-AACCC0E7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07FFC-563A-44D4-B6C2-A14A0A1C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DCB-9AD1-4186-A343-E7608CAF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5D858-33DB-471A-A527-5E5ACA7D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63C6-4395-493E-99C9-D3D4FF3A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BDCD-6282-490B-B121-D80288E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202A-9287-4A69-AFD6-D68F377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F1AB-DB44-4595-A46C-3EEB2A5E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5F112-2F01-4A8E-A259-DFDD0A777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49A2-C626-4374-A91F-24E0AF50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D7F3-BC57-4F93-B33D-164FA56A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E096D-5000-42F6-8C1D-54EC1AC3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640B-45CF-44DD-AD96-8771ABDA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04B-C594-4DA4-A50E-E34364E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91305-4DE7-429D-8B26-49CC5CC88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21B68-EC20-49A1-820D-2E10ADF1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7142F-6194-431E-BB29-106F56BD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6DB1-1B42-4B18-BA82-94F68EFC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9C84-7B9F-460A-BDBD-A59998D1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0F19-3EF7-4877-B521-174985D5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19D0-3C78-4E28-8922-6F43B405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CD3DF-52E0-4C24-8D15-8F2E5BF7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9B57E-B090-4B9F-8C01-D0147C32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95A46-1CE7-4E80-8368-4A7AB8A15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8B1-7902-457A-A9A6-F03E2A01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A147-5AAF-4393-9830-1B1466F2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1C023-12E9-4CD6-898C-D1A05F4D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673BA-3200-42FB-85EE-14EA422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3810-A6DA-480A-93A8-BB286FF0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6F41-30EE-4571-937D-11A95B7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4A92-8F32-4B46-94CE-0164F238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6F45C-EC47-418A-9C20-E49CBD13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4D385-9DD3-43B4-888D-866C48A9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CC64-46C5-4E43-971A-D3BEB97A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43C2C-E419-4D41-8B29-652577FF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3B59-4B80-4EC3-BADA-3683F555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1D491-53D2-4F1B-868A-45C438CD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29CC-E190-4AAD-8EC9-E219819F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26E6A-FEE9-4E2C-9C81-D2AFCEAE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9F561-F021-480F-993D-B7541A0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DB7CE-1214-4FF2-A1DB-1F8088D8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755CE-040D-4EA9-A8AA-541F0590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2F85-8BAC-4089-B4BF-B91155B3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AF3A-692F-4AC1-8D7D-B6D46EB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D3818-8D08-4AB6-A550-8D9BD64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270A5-DE26-449B-9A16-D9B61125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0C2-063E-49AD-A58A-14AFC895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C2779-D285-4F38-8A19-3349405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DD215-D18D-49A2-9134-C0869437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E8024-A5F7-4952-B4FB-D1731F6E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CA62E-DA8D-45C8-B383-FFFB60F6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8BD95-C61E-4128-AE71-6A01E8EA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8D95C-785B-4417-94EA-B055A766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DE66-95AD-4268-B110-93B1BCB0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AAD26-2CFA-4B1A-9B98-88E6562B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E768-49BD-45A0-A6A4-76B9CE2B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76BAC-9ADA-4C20-AAD3-D463F92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1FA-F339-490E-8225-15635A3A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A764-8C86-4269-8DB9-BD9D28F1E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21DA-DD97-4B37-B43A-F1096E20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59D4-31DC-41C1-968C-1BFCF490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58589-34E2-4861-A148-B8DC42CC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7245-5211-4127-ADDF-A940D9D4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6A2ED-025D-44D1-8951-040310FC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ABACF-56D7-409C-BC14-29132CFA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9A36F-81B6-47F5-AB2D-B52F5EF6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2F58A-5761-4B02-9157-FD762D6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84367-F766-498B-BC71-DB5B2F6C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774-4C4F-489F-9FDF-8E2D1481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EC46-9749-4F6A-8627-DD811497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D74A-167D-4158-9587-F7C5C5AB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5142F-8E0A-4424-82F4-703FB9DB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55233-F2F9-4E21-B1F2-9CB4F369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A6943-F77E-4FAD-A5D7-82AC8FDD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E6221-941D-46D6-B6EC-18635D1E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8FBA1-3F56-4AE2-B655-2BC59DB8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1E262-97C2-4402-B36E-5766D58A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C7548-ACA5-4662-9029-16062927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00B79-5AA9-4892-BB8C-3EE7489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26C57-43ED-4A90-93D2-969FFD634CC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1D4B7-EA42-4AAB-8A78-942651DDCD5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8B7D9-7D82-4CCB-96F2-2A20D7ADA27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31B1-4269-44DA-943A-A6900EEC67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42920"/>
            <a:ext cx="8643960" cy="23760"/>
            <a:chOff x="506520" y="1042920"/>
            <a:chExt cx="8643960" cy="2376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4292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C8609-549E-4847-AD15-EBFAC7D851B4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36C91-BD41-48DE-98B9-DB35CB86AE4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8733-5D05-4F54-8B09-852F0D42D610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68A69-5E3E-4549-B71A-7E3666CC2A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E5B5D-EE1D-4328-AF82-5692F1645B35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A9E16-CE2B-40D0-8C68-6441EEA90DA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34254-1882-41DE-80A5-5A001289AC9C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6AB572-794F-4D13-B595-7B18A52AC1D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210986-E20F-4247-89DB-E6E67A4B359D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9253A-D66D-47ED-B3A7-857E8E2475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E8ECE-5D05-4085-8987-FD7C42F1A27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A833D-BD21-43F2-9E27-FCB7739094F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E77C9-61F0-4B73-B2FB-3A4FB0D4DD98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9E8C6-79C0-4518-A937-C979A324267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901800" y="469800"/>
            <a:ext cx="7213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FIP High-Resolution Hurricane T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Evaluation by the Developmental Testbed Center (D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gia Bernardet, Louisa Nance et 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"/>
          <p:cNvSpPr/>
          <p:nvPr/>
        </p:nvSpPr>
        <p:spPr>
          <a:xfrm>
            <a:off x="736560" y="1930320"/>
            <a:ext cx="814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Runs for up to 69 cases at two or more horizontal grid spacings were submitted for evaluation of impact of resolution on track and intensity foreca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5"/>
          <p:cNvSpPr/>
          <p:nvPr/>
        </p:nvSpPr>
        <p:spPr>
          <a:xfrm>
            <a:off x="736560" y="3495600"/>
            <a:ext cx="81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dest improvement (a few lead times) were seen for HWRF-X (9 and 3 km) and AHW (13.5 and 1.5 km) in track and/or intensity. GFDL (9 and 6) showed no difference and COAMPS-TC (9 and 3) and UW-NM had some degraded tra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6"/>
          <p:cNvSpPr/>
          <p:nvPr/>
        </p:nvSpPr>
        <p:spPr>
          <a:xfrm>
            <a:off x="736560" y="481968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a5644e"/>
                </a:solidFill>
                <a:latin typeface="Franklin Gothic Book"/>
              </a:rPr>
              <a:t>May need better physics and/or initialization and/or higher-grid spacing to realize benefits of higher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TextBox 7" descr=""/>
          <p:cNvPicPr/>
          <p:nvPr/>
        </p:nvPicPr>
        <p:blipFill>
          <a:blip r:embed="rId2"/>
          <a:stretch/>
        </p:blipFill>
        <p:spPr>
          <a:xfrm>
            <a:off x="682560" y="2755800"/>
            <a:ext cx="8467920" cy="414360"/>
          </a:xfrm>
          <a:prstGeom prst="rect">
            <a:avLst/>
          </a:prstGeom>
          <a:ln w="0">
            <a:noFill/>
          </a:ln>
        </p:spPr>
      </p:pic>
      <p:pic>
        <p:nvPicPr>
          <p:cNvPr id="404" name="TextBox 8" descr=""/>
          <p:cNvPicPr/>
          <p:nvPr/>
        </p:nvPicPr>
        <p:blipFill>
          <a:blip r:embed="rId3"/>
          <a:stretch/>
        </p:blipFill>
        <p:spPr>
          <a:xfrm>
            <a:off x="731880" y="5694480"/>
            <a:ext cx="841860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4"/>
          <p:cNvSpPr/>
          <p:nvPr/>
        </p:nvSpPr>
        <p:spPr>
          <a:xfrm>
            <a:off x="736560" y="1384200"/>
            <a:ext cx="8140680" cy="58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has been developed at EMC based on WRF V2. Development has not kept pace with WRF general repository, now on V3.1.1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search community has had no support to use HWRF code and there is no clear path for transitioning new developments onto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In collaboration with EMC, DTC is bridging this gap by adding HWRF physics and dynamics to general WRF repository to make HWRF a configuration of W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Once code passes all performance tests, EMC has agreed to use code from general WRF repository i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The next public release of WRF (March 2010) will contain HWRF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will conduct a HWRF Tutorial in February 2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SzPct val="70000"/>
              <a:buFont typeface="Lucida Grande"/>
              <a:buChar char="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HWRF will be a WRF Reference Configuration and verification statistics will be made public by the D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736560" y="487440"/>
            <a:ext cx="8688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36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98040" y="487080"/>
            <a:ext cx="8688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4e3b30"/>
                </a:solidFill>
                <a:latin typeface="Franklin Gothic Medium"/>
              </a:rPr>
              <a:t>HWRF code management: </a:t>
            </a:r>
            <a:br>
              <a:rPr sz="2800"/>
            </a:br>
            <a:r>
              <a:rPr b="0" lang="en-GB" sz="1800" spc="-1" strike="noStrike">
                <a:solidFill>
                  <a:srgbClr val="4e3b30"/>
                </a:solidFill>
                <a:latin typeface="Franklin Gothic Medium"/>
              </a:rPr>
              <a:t>a new mechanism to facilitate collaboration between research and operation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98040" y="1553760"/>
            <a:ext cx="8356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Vision is that operations and research will be using the same code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Contributions from research community (third-level nesting, sea spray etc.) will be incorporated into general WRF repository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Regular tests (weekly regression tests, monthly performance tests etc.) will be conducted to assure that new contributions do not break the code or degrade the forecast skill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DTC and HFIP are collaborating to create a HWRF testing and evaluation framework on the HFIP njet Linux cluster in Boulder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spcAft>
                <a:spcPts val="1199"/>
              </a:spcAft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</a:rPr>
              <a:t>By using common code and having a testing framework available, new developments can be evaluated and be available for potential operational implementation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3"/>
          <p:cNvSpPr/>
          <p:nvPr/>
        </p:nvSpPr>
        <p:spPr>
          <a:xfrm>
            <a:off x="901800" y="469800"/>
            <a:ext cx="721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HWRF project at the DTC –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736560" y="1181160"/>
            <a:ext cx="814068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HWRF physics and dynamics have been merged with V3.1.1 and are in branch of the WRF reposi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OM-TC, coupler and vortex initialization have been ported to DTC platfor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Initial tests have been per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a5644e"/>
                </a:solidFill>
                <a:latin typeface="Franklin Gothic Book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Branch code is being put on repository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Additional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a5644e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a5644e"/>
                </a:solidFill>
                <a:latin typeface="Franklin Gothic Book"/>
                <a:ea typeface="ＭＳ Ｐゴシック"/>
              </a:rPr>
              <a:t>Preparations for tuto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60080"/>
            <a:ext cx="868824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Joint Hurricane Workshop &amp; Tutorial – Feb 22-26, 2010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3760"/>
            <a:ext cx="868824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Jointly held by DTC and NCAR/MMM, will cover AHW and HWRF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wo-day workshop of hurricane forecasting science,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431640" indent="-323640">
              <a:spcBef>
                <a:spcPts val="499"/>
              </a:spcBef>
              <a:buClr>
                <a:srgbClr val="a5644e"/>
              </a:buClr>
              <a:buSzPct val="70000"/>
              <a:buFont typeface="Wingdings 2" charset="2"/>
              <a:buChar char="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a5644e"/>
                </a:solidFill>
                <a:latin typeface="Franklin Gothic Book"/>
              </a:rPr>
              <a:t>Three-day “WRF for Hurricanes” tutorial, with hand-on practice sessions, will teach how to run WRF to simulate and forecast hurricanes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8:00:36Z</dcterms:created>
  <dc:creator>Ligia Bernardet</dc:creator>
  <dc:description/>
  <dc:language>en-US</dc:language>
  <cp:lastModifiedBy>Ligia Bernardet</cp:lastModifiedBy>
  <dcterms:modified xsi:type="dcterms:W3CDTF">2009-10-14T18:03:32Z</dcterms:modified>
  <cp:revision>15</cp:revision>
  <dc:subject/>
  <dc:title>Slide 1</dc:title>
</cp:coreProperties>
</file>