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4B0EA-7ED0-4B27-81B3-477F2E4E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7AE3A-BB1F-42D2-A6A6-3D0909CD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8F3DD-663E-4458-AF23-20F41DA0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7C343-FF28-4E1E-9863-435F38F0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FBA14-9942-4F87-9381-520173D5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F62E7-0DE6-4768-9C7D-A4AC906B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A84E2-D6EB-488A-BF20-618456D7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F8C34-3772-400A-B3D5-97C32B5B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7690B-D0CF-45E1-A182-6673E0CF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E08A4-7903-47AE-A350-8A28CD76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818BE-F147-4A06-99D6-4723D8F8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853EC-2121-45EA-AEFB-D7048F61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A1B8E-1212-482A-8248-ACFBF480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CAFE8-C8DD-4921-9BEA-3741C995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ACB9D-B35D-46C8-9546-CC1D5755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1DEBE-6113-4442-B442-B9275BB4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8BE11-2E85-4166-985F-1458F6E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C8C77-289A-4C59-B249-1FF18F99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76408-0BF4-46DD-9109-676EF1AE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BA54D-E503-4E67-805A-46396EF2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D3DB0-1F4E-4D5A-914C-992F1FE8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5E045-0D53-491E-A36F-7D427513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46703-AF93-4E33-88D6-24007FFB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05117-48F9-42A0-A6CA-A870278A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9BEBB-61E2-4BF4-B8B8-CC95ADEE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8B459-EF9D-4996-B000-DADCBE46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7297E-93DC-4F5B-BAA8-E95E325A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A2F35-4D6E-4E27-B872-33CC9848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9380F-E8ED-476D-A61E-79CAB67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8C589-8CA4-4CF4-AA2D-3EDEBC57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F15-C853-425F-84EE-B584BDE8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DCA57-41A1-4342-973E-1C390F09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8D78A-6F65-44D9-9B0F-02EAD260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7D1A4-63AB-4C4F-9A04-0A75B87E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46FB2-13E4-4F32-AD40-B3595B3B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1F409-E0B6-4901-AF1D-FDC65CD2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0A75E-B697-4CFB-930A-61ABC5E6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0C8EE-E037-4899-8966-886EB704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EDA6D-CFE7-4056-B121-539717ED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37825-91B3-4DB0-9953-B37FF570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6D8C1-B0A7-4167-B8BF-22C8B43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CD8-E12A-44D4-9C1A-089D74A7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468F1-600E-464D-82FE-789F3AF4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9404D-F185-470D-82E2-9B720CB0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C0E16-23F7-4704-9410-12F82411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E377B-8B6C-4CF0-908C-1B429F6F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201A6-01D2-46C6-9A09-41DBD963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AE9-0BFC-4935-BDC7-27EE49CC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C87-12F0-41CB-8A8A-3277FAA3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E41-300E-414F-80DD-30302FDD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640-CF18-44E8-86D9-560419A1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00B-D204-40DD-8972-20E69C8F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C1D-EC9F-4AF6-9D31-AD695FD0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42E-503E-45ED-945D-0CB8BA5C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ED2-6B42-4B5D-9532-6F9A9491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1C3-3F0D-4747-A8C8-908407A9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609-112B-4854-8AAD-558740E3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5193-F69B-47DB-BFFC-CA9DE983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8CD9-75A2-4F1D-8815-B53DDA0C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BFCC-5BA0-4A05-9583-04A0F168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52C7-ADE9-4C8F-8FC3-DF2ABC2C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7385-DDB0-454E-A397-BF209923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ED3D-70E9-4F29-A2A1-198F9173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9B64-4B8A-4A4B-BA30-A5CFC1C8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A175-355B-40B0-A0EE-3F9AF94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DC81-79A9-45C9-8F9A-85D2218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C6DB-AF8E-4E52-9CDB-15F9EDDB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9979-D4FD-4CF4-98A1-1673A4D5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F80C-FFFC-4360-B2FD-F3B43D44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A651-1DB0-4E9F-BF3B-4170DF8F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732D-DB8D-4019-BA1E-5DC4DE05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8136-F45E-47FF-89E0-BCB4E249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78399-49DE-499F-B4B7-2AB9BCE0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885C-9CCC-4D61-B37F-B55C58B0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2236-DC2C-484F-B568-B91178C2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DFC97-E7A6-4AB3-9D65-BED1F97D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319F-8A11-4408-B498-5A8E002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FFFF-D61B-401D-AA38-A4CD78D9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F16A-77AE-4278-9EC4-841080D3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267B-2FB6-4B7F-9261-4DE58753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C906-E5F2-4E53-BB74-E6B8BE16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35CF-9483-4F4C-ACA2-59B87FCC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3C87-7666-415F-8FEA-335E5862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CA2B5-BB32-4C53-B4E3-A14A6C89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685ED-014C-4646-8747-C7728C6C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F921F-6032-4B47-B9C6-68CF29E1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3D4B-1BB7-437C-ADB2-FA058D3D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A641-9EC8-4020-8A18-D787FE93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E5311-B370-401A-B5CB-CA761B2A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67643-1A3F-482A-AB02-3FC96C0A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C18E5-4521-40EC-AD79-2BFDA5EE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3456-B66B-4671-87E8-80BECD17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E9E1D-BBD9-4726-835F-BC625772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2B48F-79CC-438C-B474-A059BF04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BB4E6-7844-4670-BF93-69DA7C66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32473-B81B-4D85-9265-E1697B84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7BF90-0646-499B-8C14-EC17F5E9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9329E-92AF-4A78-A512-C3C332A2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F84EE-0C42-429F-8A64-85AEBF86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A039F-2A38-4F74-9DF5-681A973B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14968-F1FE-4063-B0D7-5DE4E31B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7FAC0-B6AF-4882-9954-7ABB1E21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D1BDA-2DF6-4D8C-A9E3-37498A53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EE04B-4D11-4AC1-99CE-86E99CCE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63A34-C49E-49B3-8532-F25F3FB2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DB7FB-25CB-41DE-AB25-AF4C8858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D4A89-F413-4BEA-9FB3-75ACDAAF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C5609-3135-4C52-90A5-EB87F803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C7846-A085-4CC4-A57C-8D62C5D4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26AB9-BE95-4817-8416-24958B72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13B3B-51B8-4520-9377-8BFF46CB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07EE6-8086-4C68-8B95-AADA963A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96C72-967D-4E5A-B875-4933D5D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D8B7B-2BB5-4D41-B8B4-2C16F66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86B50-D4CD-4683-B4FC-D2994948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F3F2F-F441-4432-815F-9761F1F8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5DBA5-695E-4FAF-9D62-87BED753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10994-6485-4963-8114-0ED5AD9C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797AF-42B5-45A7-86E9-F7C6DCB2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67A01-00CC-4CAE-B33F-BF13275B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66AA5-6FC4-4A4A-9552-554B3526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3561F-6AF9-467E-9353-10B47559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80E59-7D06-4275-B020-67AC2591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E25D3-0A52-48A8-BD56-4EA0D3B6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8B4D6-F436-4CD7-8CB1-7965F3E7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7722E-2C14-4945-8A84-02624DA0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E81B7-8744-4DFF-BC27-A15AEB1C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2FBA8-0C21-4863-B4C8-04C0B520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9EA9C-F8C9-4705-A543-551AEB83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7FCC9-3CAF-4E86-AD96-593D1AD8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AE9D8-6C8B-4CE8-A107-0280446B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E48E7-59B5-4E3C-8681-BA7DF512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379FE-1BA7-4989-9A19-9CC64BD71045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17103-BCC6-4811-B9A5-64DE670471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41E80-B1CE-4C07-B3B6-CE0BA9448AD4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FC6AA-94CC-403D-8109-06506889B4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4005D-6BE5-4B7E-867B-9F6B0059310C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C8FB1-2152-4D83-9580-B81ED6CDBF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0DBEA-96A9-401F-B05E-4BC667CE5955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D2A2F-6719-45C3-B25C-3A0C32FA91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78F9C-F30C-4F10-A744-5D986B9D352A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685DE-E589-4C77-AD2C-69B7AB3F87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6A480-6B8C-4785-9C56-570A777555DB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94C31-EABC-42A4-BC3F-E7A89B14EA6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384A9-3BFE-4D66-8FF6-AD42E92811D5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E185E-DA7A-4819-803D-3000F34A4C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660C9-C4C9-4017-90B0-4F2A3A123735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0C54B-7EB4-447C-BB50-5118AF691E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255D6-5BCE-46EA-8AE9-00BAFA29FE3F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4FE28-16AA-4694-9F1F-E23A545CD5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E74A6-94F9-4A8F-A1D0-756690AA3717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4DFF1-879A-4A14-9661-283A10F8E2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6EC5D-2EFB-45B0-8D15-DC5BA5BAC3B9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035A6-2B4E-4B65-87F5-1D9518AC39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76200" y="660240"/>
            <a:ext cx="8383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9 NCAR Hurricane Assimilation Up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14400" y="2428920"/>
            <a:ext cx="731520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yan D. Torn, Univ. at Albany, SU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ven Cavallo, NCAR/M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7" descr=""/>
          <p:cNvPicPr/>
          <p:nvPr/>
        </p:nvPicPr>
        <p:blipFill>
          <a:blip r:embed="rId1"/>
          <a:stretch/>
        </p:blipFill>
        <p:spPr>
          <a:xfrm>
            <a:off x="3487680" y="4429080"/>
            <a:ext cx="2652840" cy="2151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ualbany_logo.png"/>
          <p:cNvPicPr/>
          <p:nvPr/>
        </p:nvPicPr>
        <p:blipFill>
          <a:blip r:embed="rId2"/>
          <a:stretch/>
        </p:blipFill>
        <p:spPr>
          <a:xfrm>
            <a:off x="339840" y="4429080"/>
            <a:ext cx="29638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semble Foreca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4" descr="erika_4km_30mem_tracks.png"/>
          <p:cNvPicPr/>
          <p:nvPr/>
        </p:nvPicPr>
        <p:blipFill>
          <a:blip r:embed="rId1"/>
          <a:stretch/>
        </p:blipFill>
        <p:spPr>
          <a:xfrm>
            <a:off x="914400" y="1189080"/>
            <a:ext cx="73152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Cross 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3" descr="2009090206_f000_cross_wind_ew.png"/>
          <p:cNvPicPr/>
          <p:nvPr/>
        </p:nvPicPr>
        <p:blipFill>
          <a:blip r:embed="rId1"/>
          <a:stretch/>
        </p:blipFill>
        <p:spPr>
          <a:xfrm>
            <a:off x="1146240" y="1198440"/>
            <a:ext cx="68515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ious work showed that high-resolution TC simulations are sensitive to initializ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s with EnKF initial conditions were less susceptible to this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2009 real-time HFIP forecasts, decided to employ an EnKF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was to generate initial conditions th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good estimate of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“decent” estimate of TC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lead to initialization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similation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18080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F ARW (v3.1), 36 km horizontal resolution, 96 ensemble members, DART assimilation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s assimilated each six hours from surface and marine stations 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f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rawinsondes, synoptic dropsondes, ACARS, sat. winds, TC position and minimum S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Content Placeholder 2"/>
          <p:cNvSpPr/>
          <p:nvPr/>
        </p:nvSpPr>
        <p:spPr>
          <a:xfrm>
            <a:off x="455760" y="3522600"/>
            <a:ext cx="322740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d system at 0000 UTC 10 August.  System has been continuously cycling since that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2009082200_obs.png"/>
          <p:cNvPicPr/>
          <p:nvPr/>
        </p:nvPicPr>
        <p:blipFill>
          <a:blip r:embed="rId1"/>
          <a:stretch/>
        </p:blipFill>
        <p:spPr>
          <a:xfrm>
            <a:off x="3683160" y="3219480"/>
            <a:ext cx="52196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eca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low-resolution analysis over Atlantic Ba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ize high-resolution (up to 1.33 km) deterministic forecast from low-resolution analysis at 0000 and 1200 U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member that minimizes the following cost fun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28600" y="5253120"/>
            <a:ext cx="86868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ycling Err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5"/>
          <p:cNvSpPr/>
          <p:nvPr/>
        </p:nvSpPr>
        <p:spPr>
          <a:xfrm rot="16200000">
            <a:off x="-330480" y="256572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MS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6"/>
          <p:cNvSpPr/>
          <p:nvPr/>
        </p:nvSpPr>
        <p:spPr>
          <a:xfrm rot="16200000">
            <a:off x="379440" y="53992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atlrt_cycle_rmse.png"/>
          <p:cNvPicPr/>
          <p:nvPr/>
        </p:nvPicPr>
        <p:blipFill>
          <a:blip r:embed="rId1"/>
          <a:stretch/>
        </p:blipFill>
        <p:spPr>
          <a:xfrm>
            <a:off x="1442880" y="1227240"/>
            <a:ext cx="7089840" cy="35859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atlrt_cycle_bias.png"/>
          <p:cNvPicPr/>
          <p:nvPr/>
        </p:nvPicPr>
        <p:blipFill>
          <a:blip r:embed="rId2"/>
          <a:stretch/>
        </p:blipFill>
        <p:spPr>
          <a:xfrm>
            <a:off x="1442880" y="4935600"/>
            <a:ext cx="70898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cling Err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3" descr="atlrt_cycle_fcst_rmse.png"/>
          <p:cNvPicPr/>
          <p:nvPr/>
        </p:nvPicPr>
        <p:blipFill>
          <a:blip r:embed="rId1"/>
          <a:stretch/>
        </p:blipFill>
        <p:spPr>
          <a:xfrm>
            <a:off x="1433520" y="1251000"/>
            <a:ext cx="6862680" cy="34718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atlrt_cycle_fcst_bias.png"/>
          <p:cNvPicPr/>
          <p:nvPr/>
        </p:nvPicPr>
        <p:blipFill>
          <a:blip r:embed="rId2"/>
          <a:stretch/>
        </p:blipFill>
        <p:spPr>
          <a:xfrm>
            <a:off x="1433520" y="4915080"/>
            <a:ext cx="6862680" cy="1655640"/>
          </a:xfrm>
          <a:prstGeom prst="rect">
            <a:avLst/>
          </a:prstGeom>
          <a:ln w="0">
            <a:noFill/>
          </a:ln>
        </p:spPr>
      </p:pic>
      <p:sp>
        <p:nvSpPr>
          <p:cNvPr id="510" name="TextBox 5"/>
          <p:cNvSpPr/>
          <p:nvPr/>
        </p:nvSpPr>
        <p:spPr>
          <a:xfrm rot="16200000">
            <a:off x="-330480" y="256572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MS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6"/>
          <p:cNvSpPr/>
          <p:nvPr/>
        </p:nvSpPr>
        <p:spPr>
          <a:xfrm rot="16200000">
            <a:off x="379440" y="53992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Rad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3" descr="atlrt_cycle_wrad_rmse.png"/>
          <p:cNvPicPr/>
          <p:nvPr/>
        </p:nvPicPr>
        <p:blipFill>
          <a:blip r:embed="rId1"/>
          <a:stretch/>
        </p:blipFill>
        <p:spPr>
          <a:xfrm>
            <a:off x="851040" y="1722600"/>
            <a:ext cx="7835760" cy="1888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atlrt_cycle_wrad_bias.png"/>
          <p:cNvPicPr/>
          <p:nvPr/>
        </p:nvPicPr>
        <p:blipFill>
          <a:blip r:embed="rId2"/>
          <a:stretch/>
        </p:blipFill>
        <p:spPr>
          <a:xfrm>
            <a:off x="851040" y="4052880"/>
            <a:ext cx="7835760" cy="1866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5"/>
          <p:cNvSpPr/>
          <p:nvPr/>
        </p:nvSpPr>
        <p:spPr>
          <a:xfrm rot="16200000">
            <a:off x="-663840" y="222120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MS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6"/>
          <p:cNvSpPr/>
          <p:nvPr/>
        </p:nvSpPr>
        <p:spPr>
          <a:xfrm rot="16200000">
            <a:off x="46080" y="46965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Rad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Box 5"/>
          <p:cNvSpPr/>
          <p:nvPr/>
        </p:nvSpPr>
        <p:spPr>
          <a:xfrm rot="16200000">
            <a:off x="-663840" y="215928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MS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6"/>
          <p:cNvSpPr/>
          <p:nvPr/>
        </p:nvSpPr>
        <p:spPr>
          <a:xfrm rot="16200000">
            <a:off x="46080" y="463464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6" descr="atlrt_cycle_wrad_fcst_rmse.png"/>
          <p:cNvPicPr/>
          <p:nvPr/>
        </p:nvPicPr>
        <p:blipFill>
          <a:blip r:embed="rId1"/>
          <a:stretch/>
        </p:blipFill>
        <p:spPr>
          <a:xfrm>
            <a:off x="825480" y="1647720"/>
            <a:ext cx="8137440" cy="1962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atlrt_cycle_wrad_fcst_bias.png"/>
          <p:cNvPicPr/>
          <p:nvPr/>
        </p:nvPicPr>
        <p:blipFill>
          <a:blip r:embed="rId2"/>
          <a:stretch/>
        </p:blipFill>
        <p:spPr>
          <a:xfrm>
            <a:off x="825480" y="3970440"/>
            <a:ext cx="81374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ika Foreca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5" descr="ERIKA06L_2009090200_FMMM_int.gif"/>
          <p:cNvPicPr/>
          <p:nvPr/>
        </p:nvPicPr>
        <p:blipFill>
          <a:blip r:embed="rId1"/>
          <a:stretch/>
        </p:blipFill>
        <p:spPr>
          <a:xfrm>
            <a:off x="291960" y="1135080"/>
            <a:ext cx="4851720" cy="37447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erika_w.png"/>
          <p:cNvPicPr/>
          <p:nvPr/>
        </p:nvPicPr>
        <p:blipFill>
          <a:blip r:embed="rId2"/>
          <a:stretch/>
        </p:blipFill>
        <p:spPr>
          <a:xfrm>
            <a:off x="3936960" y="3621240"/>
            <a:ext cx="5027760" cy="29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cxnSp>
        <p:nvCxnSpPr>
          <p:cNvPr id="525" name="Straight Arrow Connector 5"/>
          <p:cNvCxnSpPr/>
          <p:nvPr/>
        </p:nvCxnSpPr>
        <p:spPr>
          <a:xfrm flipV="1">
            <a:off x="1344240" y="3944160"/>
            <a:ext cx="849960" cy="777240"/>
          </a:xfrm>
          <a:prstGeom prst="straightConnector1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3:49:00Z</dcterms:created>
  <dc:creator>Ryan Torn</dc:creator>
  <dc:description/>
  <dc:language>en-US</dc:language>
  <cp:lastModifiedBy>Ryan Torn</cp:lastModifiedBy>
  <dcterms:modified xsi:type="dcterms:W3CDTF">2009-10-21T20:58:25Z</dcterms:modified>
  <cp:revision>40</cp:revision>
  <dc:subject/>
  <dc:title>Ensemble-Based Data Assimilation and Hurricane Prediction</dc:title>
</cp:coreProperties>
</file>