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627-17C1-4A92-9B35-09E9FEE6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0EA-A527-48A2-8E93-08BE49C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85D-7604-4AC1-911A-016FA051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366-5DCB-4BF1-989C-099FB590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3F7-1E45-46D9-B889-1D173E9B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68C-74AF-42D9-AA26-9F498C6B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2C3-0858-4575-9310-60ADFEA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716-FED0-43BE-B0D7-C03D4A4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E6C-E48B-4634-9632-13AF8FCB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B09-A157-4EA4-A420-C6F9B77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DE8-C004-4D49-8C3B-C8807B8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A19-7FD5-46FE-8B22-B762E60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E3555-C3A6-4BEA-A074-D61D3E3EC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A4DC1-4D19-40C8-99F4-79CB25672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7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M Ensemble Statist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Tropical Cycl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397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om Hamill, Jeff Whitaker, &amp; Mike Fior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AA ES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2 Octo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176000" y="62802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sider only the forecast cyclones that have a TD or stronger at the time the forecast was initialized and at the particular forecast lead we’re consider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comparing FIM ensemble forecast vs. another model, include datum for a particular storm only if there is at least one member tracking the storm in both mode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rror is defined as the ensemble-mean error among all members that track the stor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read is the standard deviation of ensemble members about the mean for all members tracking the stor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ill trying to figure out bugs with CMC da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M G8/EnKF vs NCEP GEFS/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448280" y="6086520"/>
            <a:ext cx="63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bars are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9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s from paired block bootstra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s in parentheses are the sample size at this l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.png"/>
          <p:cNvPicPr/>
          <p:nvPr/>
        </p:nvPicPr>
        <p:blipFill>
          <a:blip r:embed="rId1"/>
          <a:stretch/>
        </p:blipFill>
        <p:spPr>
          <a:xfrm>
            <a:off x="457200" y="1417680"/>
            <a:ext cx="75866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M G8/EnKF vs UK Met 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1.png"/>
          <p:cNvPicPr/>
          <p:nvPr/>
        </p:nvPicPr>
        <p:blipFill>
          <a:blip r:embed="rId1"/>
          <a:stretch/>
        </p:blipFill>
        <p:spPr>
          <a:xfrm>
            <a:off x="457200" y="1417680"/>
            <a:ext cx="7586640" cy="4668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448280" y="6086520"/>
            <a:ext cx="63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bars are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9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s from paired block bootstra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s in parentheses are the sample size at this l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1.png"/>
          <p:cNvPicPr/>
          <p:nvPr/>
        </p:nvPicPr>
        <p:blipFill>
          <a:blip r:embed="rId1"/>
          <a:stretch/>
        </p:blipFill>
        <p:spPr>
          <a:xfrm>
            <a:off x="431640" y="1417680"/>
            <a:ext cx="7612200" cy="4684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M G8/EnKF vs ECMW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.png"/>
          <p:cNvPicPr/>
          <p:nvPr/>
        </p:nvPicPr>
        <p:blipFill>
          <a:blip r:embed="rId1"/>
          <a:stretch/>
        </p:blipFill>
        <p:spPr>
          <a:xfrm>
            <a:off x="704880" y="1692360"/>
            <a:ext cx="7545240" cy="3935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M G8/EnKF vs. NCEP GEFS/E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y 3 spread and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815560" y="63165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is the Spearman rank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M G8/EnKF vs. UK Met Offic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y 3 spread and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2.png"/>
          <p:cNvPicPr/>
          <p:nvPr/>
        </p:nvPicPr>
        <p:blipFill>
          <a:blip r:embed="rId1"/>
          <a:stretch/>
        </p:blipFill>
        <p:spPr>
          <a:xfrm>
            <a:off x="712800" y="1697040"/>
            <a:ext cx="7537320" cy="393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815560" y="63165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is the Spearman rank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M G8/EnKF vs. ECMWF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y 3 spread and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732240" y="597060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samples change for FIM G8/EnKF since the TC must be tracked by both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be in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.png"/>
          <p:cNvPicPr/>
          <p:nvPr/>
        </p:nvPicPr>
        <p:blipFill>
          <a:blip r:embed="rId1"/>
          <a:stretch/>
        </p:blipFill>
        <p:spPr>
          <a:xfrm>
            <a:off x="709560" y="1704960"/>
            <a:ext cx="75294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0:18:19Z</dcterms:created>
  <dc:creator>Tom Hamill</dc:creator>
  <dc:description/>
  <dc:language>en-US</dc:language>
  <cp:lastModifiedBy>Tom Hamill</cp:lastModifiedBy>
  <dcterms:modified xsi:type="dcterms:W3CDTF">2009-10-21T21:36:11Z</dcterms:modified>
  <cp:revision>3</cp:revision>
  <dc:subject/>
  <dc:title>FIM Ensemble Statistics for Tropical Cyclones</dc:title>
</cp:coreProperties>
</file>