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CE9-70DB-4602-A853-2F3F472C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6B0-BC7C-4A25-B6F1-CEB08FD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4B1-04BD-4653-89E0-64CF74F7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974-A84A-478E-B3D9-B2EC5972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4D6-ACD3-43D0-A89E-790B8F8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79F-DACF-4B37-94A3-7EF7FC9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8CE-6C65-4384-9AB0-4D606984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6B4-182C-4A8E-A547-FE3B546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DBA-25A5-4EBD-8C3E-619E297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724-D895-416E-AD01-772A90A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E97-BDE8-47B5-BD3E-4C295BA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5E1-668F-4D41-9C11-D1E47A5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5B3A0-5A10-444B-BFD0-CF5708069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ADCD4-7A2F-44B3-A4AF-FF4CF8021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fip.psu.edu/html/EnKFroutine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EnKF assimilation of Airborne Doppler Velocity for the 2009 Sea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nghui Weng and Fuqing Zha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 Stat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domain_2009081812.jpg"/>
          <p:cNvPicPr/>
          <p:nvPr/>
        </p:nvPicPr>
        <p:blipFill>
          <a:blip r:embed="rId1"/>
          <a:srcRect l="10574" t="23404" r="10338" b="23264"/>
          <a:stretch/>
        </p:blipFill>
        <p:spPr>
          <a:xfrm>
            <a:off x="609480" y="1417680"/>
            <a:ext cx="480240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286800" y="1611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01x180x40.5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134160" y="327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80x159x13.5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634920" y="373392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52x252x4.5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411880" y="1417680"/>
            <a:ext cx="3732120" cy="49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F ARW V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 ver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-way n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tex-following movable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ner domains’ center:  based on GFDL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physics: WSM 6-class grau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BL: YSU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s: GFS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Cs: GF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turbation: WRFDA 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semble members: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F-EnKF with P3 radar Real-time F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68160" y="2200320"/>
            <a:ext cx="779760" cy="636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4: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F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1890720" y="2200320"/>
            <a:ext cx="708120" cy="636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4: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8"/>
          <p:cNvCxnSpPr/>
          <p:nvPr/>
        </p:nvCxnSpPr>
        <p:spPr>
          <a:xfrm>
            <a:off x="1441440" y="2352240"/>
            <a:ext cx="45000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3" name="TextBox 20"/>
          <p:cNvSpPr/>
          <p:nvPr/>
        </p:nvSpPr>
        <p:spPr>
          <a:xfrm>
            <a:off x="1295280" y="3176640"/>
            <a:ext cx="1905120" cy="6238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11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2hr lead time 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2227320" y="2823840"/>
            <a:ext cx="10080" cy="353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42"/>
          <p:cNvSpPr/>
          <p:nvPr/>
        </p:nvSpPr>
        <p:spPr>
          <a:xfrm>
            <a:off x="3040200" y="2200320"/>
            <a:ext cx="846000" cy="636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4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sembl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Gene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43"/>
          <p:cNvCxnSpPr/>
          <p:nvPr/>
        </p:nvCxnSpPr>
        <p:spPr>
          <a:xfrm>
            <a:off x="2590920" y="2352240"/>
            <a:ext cx="45000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TextBox 44"/>
          <p:cNvSpPr/>
          <p:nvPr/>
        </p:nvSpPr>
        <p:spPr>
          <a:xfrm>
            <a:off x="4335480" y="2200320"/>
            <a:ext cx="1150920" cy="636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5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 Ensembl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foreca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45"/>
          <p:cNvCxnSpPr/>
          <p:nvPr/>
        </p:nvCxnSpPr>
        <p:spPr>
          <a:xfrm>
            <a:off x="3886200" y="2352240"/>
            <a:ext cx="45000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TextBox 46"/>
          <p:cNvSpPr/>
          <p:nvPr/>
        </p:nvSpPr>
        <p:spPr>
          <a:xfrm>
            <a:off x="5935680" y="2200320"/>
            <a:ext cx="84600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5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iting for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47"/>
          <p:cNvCxnSpPr/>
          <p:nvPr/>
        </p:nvCxnSpPr>
        <p:spPr>
          <a:xfrm>
            <a:off x="5486400" y="2352240"/>
            <a:ext cx="450000" cy="252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1" name="TextBox 48"/>
          <p:cNvSpPr/>
          <p:nvPr/>
        </p:nvSpPr>
        <p:spPr>
          <a:xfrm>
            <a:off x="7230960" y="2185920"/>
            <a:ext cx="846360" cy="638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09-12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49"/>
          <p:cNvCxnSpPr/>
          <p:nvPr/>
        </p:nvCxnSpPr>
        <p:spPr>
          <a:xfrm>
            <a:off x="6781680" y="2338560"/>
            <a:ext cx="450000" cy="216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3" name="TextBox 50"/>
          <p:cNvSpPr/>
          <p:nvPr/>
        </p:nvSpPr>
        <p:spPr>
          <a:xfrm>
            <a:off x="5935680" y="3176640"/>
            <a:ext cx="2160720" cy="6238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??: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2hr lead time DF&amp;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51"/>
          <p:cNvCxnSpPr/>
          <p:nvPr/>
        </p:nvCxnSpPr>
        <p:spPr>
          <a:xfrm>
            <a:off x="7655400" y="2836800"/>
            <a:ext cx="10440" cy="35496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5" name="Left Brace 54"/>
          <p:cNvSpPr/>
          <p:nvPr/>
        </p:nvSpPr>
        <p:spPr>
          <a:xfrm rot="16200000">
            <a:off x="2852640" y="2158920"/>
            <a:ext cx="449280" cy="4818240"/>
          </a:xfrm>
          <a:custGeom>
            <a:avLst/>
            <a:gdLst>
              <a:gd name="textAreaLeft" fmla="*/ 286920 w 449280"/>
              <a:gd name="textAreaRight" fmla="*/ 449640 w 449280"/>
              <a:gd name="textAreaTop" fmla="*/ 11520 h 4818240"/>
              <a:gd name="textAreaBottom" fmla="*/ 4806720 h 481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8"/>
                </a:cubicBezTo>
                <a:lnTo>
                  <a:pt x="10800" y="10632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8"/>
                </a:cubicBezTo>
                <a:lnTo>
                  <a:pt x="10800" y="21432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5"/>
          <p:cNvSpPr/>
          <p:nvPr/>
        </p:nvSpPr>
        <p:spPr>
          <a:xfrm>
            <a:off x="2399400" y="4716360"/>
            <a:ext cx="14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 and 12U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times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eft Brace 56"/>
          <p:cNvSpPr/>
          <p:nvPr/>
        </p:nvSpPr>
        <p:spPr>
          <a:xfrm rot="16200000">
            <a:off x="6791400" y="3487680"/>
            <a:ext cx="449280" cy="2160720"/>
          </a:xfrm>
          <a:custGeom>
            <a:avLst/>
            <a:gdLst>
              <a:gd name="textAreaLeft" fmla="*/ 286920 w 449280"/>
              <a:gd name="textAreaRight" fmla="*/ 449640 w 449280"/>
              <a:gd name="textAreaTop" fmla="*/ 11520 h 2160720"/>
              <a:gd name="textAreaBottom" fmla="*/ 21492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108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7"/>
          <p:cNvSpPr/>
          <p:nvPr/>
        </p:nvSpPr>
        <p:spPr>
          <a:xfrm>
            <a:off x="6027480" y="47926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ending on S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1818720" y="1832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16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3036960" y="18399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32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4340160" y="183204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64x30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7057800" y="18288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64x30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1613880" y="38098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384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6540840" y="380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384x31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2988360" y="601992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fip.psu.edu/html/EnKFroutine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eft Brace 29"/>
          <p:cNvSpPr/>
          <p:nvPr/>
        </p:nvSpPr>
        <p:spPr>
          <a:xfrm rot="16200000">
            <a:off x="4830840" y="3386160"/>
            <a:ext cx="449280" cy="4818240"/>
          </a:xfrm>
          <a:custGeom>
            <a:avLst/>
            <a:gdLst>
              <a:gd name="textAreaLeft" fmla="*/ 286920 w 449280"/>
              <a:gd name="textAreaRight" fmla="*/ 449640 w 449280"/>
              <a:gd name="textAreaTop" fmla="*/ 11520 h 4818240"/>
              <a:gd name="textAreaBottom" fmla="*/ 4806720 h 481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8"/>
                </a:cubicBezTo>
                <a:lnTo>
                  <a:pt x="10800" y="10718"/>
                </a:lnTo>
                <a:cubicBezTo>
                  <a:pt x="10800" y="10802"/>
                  <a:pt x="5400" y="10886"/>
                  <a:pt x="0" y="10886"/>
                </a:cubicBezTo>
                <a:cubicBezTo>
                  <a:pt x="5400" y="10886"/>
                  <a:pt x="10800" y="10970"/>
                  <a:pt x="10800" y="11054"/>
                </a:cubicBezTo>
                <a:lnTo>
                  <a:pt x="10800" y="21432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 Cases with P3 radar data assimi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71240" y="1447560"/>
            <a:ext cx="6248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: 1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8:52-13:25 Aug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l:  4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1:26-26:29 Aug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8:52-13:25,  21:37-26:24 Aug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9:06-11:26 Aug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nny: 5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:53-12:56, 22:14-26:20 Aug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:05-13:14,  21:42-25:30 Aug2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:10-10:31 Aug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rements with 21:26-23:01 Aug18 2009 P3 SO assimi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5" descr="enkf_2009081812_incr_white_Page_1.jpg"/>
          <p:cNvPicPr/>
          <p:nvPr/>
        </p:nvPicPr>
        <p:blipFill>
          <a:blip r:embed="rId1"/>
          <a:srcRect l="16174" t="6735" r="21378" b="7402"/>
          <a:stretch/>
        </p:blipFill>
        <p:spPr>
          <a:xfrm>
            <a:off x="1914480" y="1219320"/>
            <a:ext cx="258120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nkf_2009081812_incr_white_Page_2.jpg"/>
          <p:cNvPicPr/>
          <p:nvPr/>
        </p:nvPicPr>
        <p:blipFill>
          <a:blip r:embed="rId2"/>
          <a:srcRect l="9034" t="6434" r="17122" b="8008"/>
          <a:stretch/>
        </p:blipFill>
        <p:spPr>
          <a:xfrm>
            <a:off x="4572000" y="1219320"/>
            <a:ext cx="306396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nkf_2009081812_incr_white_Page_3.jpg"/>
          <p:cNvPicPr/>
          <p:nvPr/>
        </p:nvPicPr>
        <p:blipFill>
          <a:blip r:embed="rId3"/>
          <a:srcRect l="15565" t="7059" r="19177" b="8495"/>
          <a:stretch/>
        </p:blipFill>
        <p:spPr>
          <a:xfrm>
            <a:off x="191448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enkf_2009081812_incr_white_Page_4.jpg"/>
          <p:cNvPicPr/>
          <p:nvPr/>
        </p:nvPicPr>
        <p:blipFill>
          <a:blip r:embed="rId4"/>
          <a:srcRect l="8855" t="6804" r="17298" b="8749"/>
          <a:stretch/>
        </p:blipFill>
        <p:spPr>
          <a:xfrm>
            <a:off x="4572000" y="3962520"/>
            <a:ext cx="3103560" cy="2743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234360" y="1371600"/>
            <a:ext cx="24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sea level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Contour: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ed: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36160" y="411480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m 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ontour: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ed: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7298280" y="152388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erior -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301160" y="411480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m 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erior -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l: 200908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572000" y="4572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s: 21:26-23:01, 23:48-24:48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:36-26: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Bill_09081812_track_swatch.png"/>
          <p:cNvPicPr/>
          <p:nvPr/>
        </p:nvPicPr>
        <p:blipFill>
          <a:blip r:embed="rId1"/>
          <a:srcRect l="6784" t="0" r="7951" b="6218"/>
          <a:stretch/>
        </p:blipFill>
        <p:spPr>
          <a:xfrm>
            <a:off x="838080" y="1219320"/>
            <a:ext cx="342756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Bill_09081812_slp.png"/>
          <p:cNvPicPr/>
          <p:nvPr/>
        </p:nvPicPr>
        <p:blipFill>
          <a:blip r:embed="rId2"/>
          <a:srcRect l="2881" t="0" r="8481" b="5179"/>
          <a:stretch/>
        </p:blipFill>
        <p:spPr>
          <a:xfrm>
            <a:off x="4419720" y="1219320"/>
            <a:ext cx="351936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ill_09081812_wsp.png"/>
          <p:cNvPicPr/>
          <p:nvPr/>
        </p:nvPicPr>
        <p:blipFill>
          <a:blip r:embed="rId3"/>
          <a:srcRect l="5496" t="0" r="8163" b="5981"/>
          <a:stretch/>
        </p:blipFill>
        <p:spPr>
          <a:xfrm>
            <a:off x="838080" y="3962520"/>
            <a:ext cx="3452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Cases with GSI-EnKF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240" y="1447560"/>
            <a:ext cx="6248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ika: 1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Z Sep2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d:  3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Z Sep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Z Sep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Z Sep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ka: 200909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572000" y="42210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s: GFS-EnKF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Cs: GFS forec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Erika_09090200_track_swatch.png"/>
          <p:cNvPicPr/>
          <p:nvPr/>
        </p:nvPicPr>
        <p:blipFill>
          <a:blip r:embed="rId1"/>
          <a:srcRect l="7795" t="0" r="8769" b="5911"/>
          <a:stretch/>
        </p:blipFill>
        <p:spPr>
          <a:xfrm>
            <a:off x="990720" y="792000"/>
            <a:ext cx="324324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Erika_09090200_slp.png"/>
          <p:cNvPicPr/>
          <p:nvPr/>
        </p:nvPicPr>
        <p:blipFill>
          <a:blip r:embed="rId2"/>
          <a:srcRect l="3065" t="0" r="7870" b="6224"/>
          <a:stretch/>
        </p:blipFill>
        <p:spPr>
          <a:xfrm>
            <a:off x="4572000" y="792000"/>
            <a:ext cx="347328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Erika_09090200_wsp.png"/>
          <p:cNvPicPr/>
          <p:nvPr/>
        </p:nvPicPr>
        <p:blipFill>
          <a:blip r:embed="rId3"/>
          <a:srcRect l="5625" t="0" r="8127" b="6750"/>
          <a:stretch/>
        </p:blipFill>
        <p:spPr>
          <a:xfrm>
            <a:off x="990720" y="3763800"/>
            <a:ext cx="3382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3 cr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FIP, HRD and TA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Gamache and Frank 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 Whit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2:51:17Z</dcterms:created>
  <dc:creator>Yonghui Weng</dc:creator>
  <dc:description/>
  <dc:language>en-US</dc:language>
  <cp:lastModifiedBy>Fuqing Zhang</cp:lastModifiedBy>
  <dcterms:modified xsi:type="dcterms:W3CDTF">2009-10-22T13:02:43Z</dcterms:modified>
  <cp:revision>7</cp:revision>
  <dc:subject/>
  <dc:title>Real-time Airborne Radar Radial Velocity EnKF assimilation for Hurricane 2009</dc:title>
</cp:coreProperties>
</file>